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BE5A-00BC-49FF-8162-45A65F33D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BC4A-40E4-451E-9017-69C0D3C13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BD9F-C2E5-4856-AA25-FF31C1732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34B6-5F05-4362-AD23-CB6B861E4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7895-CD8D-41C7-BA1D-EE3A2F159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F979-388B-4DB1-8218-AFF8078F7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96F5-E0F8-48E9-B230-EB96C1E3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4C4A-2D09-4DFE-9D27-4F0006843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CF72-8223-411F-BF51-456460DB2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43B8-6A73-4896-BE08-41C593D8B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81A3-030E-442C-8671-13B117D88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16DC-1519-479F-9402-A30203ECA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C09A-CEF3-4097-85EB-1A66B6BB5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2E5D-3E8E-415E-9506-C896609EF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D688-2214-4048-9177-FEA43128C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2BA2-8559-41FB-9339-97D6FBF1B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79D6-CFD3-4AEB-B9FB-BC8AC8E6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291C-5D34-44ED-A53C-302149726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5E3D-8C33-48B4-BAA7-53ADB09C9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225A-B858-4A3A-AFB5-7520736EF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33B0-C131-4B1F-8381-B897183E6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49AF-37B1-4367-A1E9-7F67AF84C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323A-0171-4D8E-97F8-E25248F94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066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FILM TITLES    FROM PLOT SUMMARIE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AM SANDLER PEES ON BUILDINGS WITH A KID &amp; EDDIE MURPHY STARTS A BUSINESS HANGING OUT WITH OTHER PEOPLE'S KI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LCOLM MCDOWELL IS CONDITIONED TO DISLIKE VIOLENCE &amp; COLIN HANKS TRIES DESPERATELY TO GET ACCEPTED TO STAN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KING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MBA REVENGES THE DEATH OF HIS FATHER MUFASA &amp;    A GORILLA CLIMBS THE EMPIRE STATE BUIL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  AND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IT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LI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RAH JESSICA PARKER AND FRIENDS LEARN ABOUT MARRIAGE &amp; BILLY CRYSTAL AND FRIENDS LEARN HOW TO BE COWB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LDREN  OF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E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VE OWEN SMUGGLES A PREGNANT WOMAN INTO A REFUGEE CAMP &amp; WILL SMITH JOINS THE ALIEN REFUGEE AG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  WIL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E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IDE 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 SMITH AND KEVIN KLINE DUEL AN ARACHNOID &amp; THE JETS AND THE SHARKS DUKE IT 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04840" y="434340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UL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ONT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YTHON  AND  THE  HOLY  GR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EL WORKERS FORM A MALE STRIPTEASE ACT &amp; KING ARTHUR TRIES TO FIND SACRED DINNERW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KING  AN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 ROB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CHOOLTEACHER MOVES  TO SIAM TO TEACH ROYAL CHILDREN &amp; WILL SMITH DOESN'T TRUST ARTIFICIALLY INTELLIGENT MACHIN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Y  &amp;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 MYSELF  &amp;  IR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NNIFER ANISTON AND OWEN WILSON HAVE AN ADORABLE DOG &amp; JIM CARREY AND HIS ALTER EGO WORK TOGETHER TO SAVE RENEE ZELLWE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MBA REVENGES THE DEATH OF HIS FATHER MUFASA &amp;    A GORILLA CLIMBS THE EMPIRE STATE BUILDING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NTASTIC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OU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HRISTMA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UPERHERO QUARTET SAVES THE WORLD AND REESE WITHERSPOON &amp; VINCE VAUGHN DO THE HOLIDAYS     IN SEVERAL PLA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ADD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AY 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AM SANDLER PEES ON BUILDINGS WITH A KID &amp; EDDIE MURPHY STARTS A BUSINESS HANGING OUT WITH OTHER PEOPLE'S KI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LOCKWORK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ORANG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OUN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LCOLM MCDOWELL IS CONDITIONED TO DISLIKE VIOLENCE &amp; COLIN HANKS TRIES DESPERATELY TO GET ACCEPTED TO STAN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RAH JESSICA PARKER AND FRIENDS LEARN ABOUT MARRIAGE &amp; BILLY CRYSTAL AND FRIENDS LEARN HOW TO BE COWB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VE OWEN SMUGGLES A PREGNANT WOMAN INTO A REFUGEE CAMP &amp; WILL SMITH JOINS THE ALIEN REFUGEE AG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 SMITH AND KEVIN KLINE DUEL AN ARACHNOID &amp; THE JETS AND THE SHARKS DUKE IT 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EL WORKERS FORM A MALE STRIPTEASE ACT &amp; KING ARTHUR TRIES TO FIND SACRED DINNERW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CHOOLTEACHER MOVES  TO SIAM TO TEACH ROYAL CHILDREN &amp; WILL SMITH DOESN'T TRUST ARTIFICIALLY INTELLIGENT MACHIN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NNIFER ANISTON AND OWEN WILSON HAVE AN ADORABLE DOG &amp; JIM CARREY AND HIS ALTER EGO WORK TOGETHER TO SAVE RENEE ZELLWE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UPERHERO QUARTET SAVES THE WORLD AND REESE WITHERSPOON &amp; VINCE VAUGHN DO THE HOLIDAYS     IN SEVERAL PLA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6:08:44Z</dcterms:created>
  <dc:creator>Jennifer Budzinski</dc:creator>
  <dc:description/>
  <dc:language>en-US</dc:language>
  <cp:lastModifiedBy>Erich Friedman</cp:lastModifiedBy>
  <dcterms:modified xsi:type="dcterms:W3CDTF">2020-08-26T16:37:52Z</dcterms:modified>
  <cp:revision>343</cp:revision>
  <dc:subject/>
  <dc:title>Slide 1</dc:title>
</cp:coreProperties>
</file>