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48EAE-D73E-4C20-8BA0-9D788237E4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42880-2EED-47F1-93C4-8F1711967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9876B-82CC-4D65-B9E0-B7D74ACC7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E7E85-BFB7-480F-B8DB-6517AC099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138E0-D393-408D-A606-6E566C2AA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9C8F9-2FAD-445E-879C-42002B16E2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3381A-D13D-4F27-B65E-FA61F62DB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51CE3-9C83-4FE1-BC6E-1C2C3D1A9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6C924-8883-47B0-AD17-90BED93B2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E1587-CCD2-459B-AAE0-1FDA510758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C68FE-5980-46AF-8B8D-067892A4E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3B31F-FBFB-438B-A94D-CD3222E28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17934-8EB5-45FD-B478-44C981F06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CE65F-C246-4742-B805-B105689E30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30F3D-9C57-45F1-8FEE-1F9311EA2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F4E06-0E5E-4E27-B506-BF8C92D2C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0A942-33E4-40D5-BFD6-04194DA4B4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B19F7-B060-42B5-AEF1-70CCCD201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E0194-D838-4EB8-A103-79899686B4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7BE2A-6E4F-42A2-A285-6EAF9A7AE7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086FB-AEC1-4CE6-8BF5-165675F1DB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80C01-1687-4420-A96E-01E7A1B05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6572B-D3E0-4260-B2B8-5B60A4EA76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23960" y="106668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VERLAPPING FILM TITLES    FROM PLOT SUMMARIES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DAM SANDLER PEES ON BUILDINGS WITH A KID &amp; EDDIE MURPHY STARTS A BUSINESS HANGING OUT WITH OTHER PEOPLE'S KI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71680" y="762120"/>
            <a:ext cx="8001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LCOLM MCDOWELL IS CONDITIONED TO DISLIKE VIOLENCE &amp; COLIN HANKS TRIES DESPERATELY TO GET ACCEPTED TO STANFO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685800" y="48769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ON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KING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KO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85800" y="762120"/>
            <a:ext cx="7772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MBA REVENGES THE DEATH OF HIS FATHER MUFASA &amp;    A GORILLA CLIMBS THE EMPIRE STATE BUILDING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914400" y="4876920"/>
            <a:ext cx="7391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X  AND  THE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CITY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SLICK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71680" y="762120"/>
            <a:ext cx="8001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ARAH JESSICA PARKER AND FRIENDS LEARN ABOUT MARRIAGE &amp; BILLY CRYSTAL AND FRIENDS LEARN HOW TO BE COWBOY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3059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ILDREN  OF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MEN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IN  BL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VE OWEN SMUGGLES A PREGNANT WOMAN INTO A REFUGEE CAMP &amp; WILL SMITH JOINS THE ALIEN REFUGEE AGENC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D  WILD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WEST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SIDE  S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ILL SMITH AND KEVIN KLINE DUEL AN ARACHNOID &amp; THE JETS AND THE SHARKS DUKE IT OU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04840" y="4343400"/>
            <a:ext cx="6934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57040" indent="-257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FULL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MONTY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PYTHON  AND  THE  HOLY  GRA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EEL WORKERS FORM A MALE STRIPTEASE ACT &amp; KING ARTHUR TRIES TO FIND SACRED DINNERWA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KING  AND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,  ROBO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SCHOOLTEACHER MOVES  TO SIAM TO TEACH ROYAL CHILDREN &amp; WILL SMITH DOESN'T TRUST ARTIFICIALLY INTELLIGENT MACHIN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53352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LEY  &amp;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M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,  MYSELF  &amp;  IRE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ENNIFER ANISTON AND OWEN WILSON HAVE AN ADORABLE DOG &amp; JIM CARREY AND HIS ALTER EGO WORK TOGETHER TO SAVE RENEE ZELLWEG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MBA REVENGES THE DEATH OF HIS FATHER MUFASA &amp;    A GORILLA CLIMBS THE EMPIRE STATE BUILDING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685800" y="4876920"/>
            <a:ext cx="77724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NTASTIC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FOUR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CHRISTMAS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19040" y="762120"/>
            <a:ext cx="8305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SUPERHERO QUARTET SAVES THE WORLD AND REESE WITHERSPOON &amp; VINCE VAUGHN DO THE HOLIDAYS     IN SEVERAL PLAC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143000" y="4876920"/>
            <a:ext cx="7010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G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DADDY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DAY  C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71680" y="762120"/>
            <a:ext cx="8001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DAM SANDLER PEES ON BUILDINGS WITH A KID &amp; EDDIE MURPHY STARTS A BUSINESS HANGING OUT WITH OTHER PEOPLE'S KI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  CLOCKWORK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ORANG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COUNT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71680" y="762120"/>
            <a:ext cx="8001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LCOLM MCDOWELL IS CONDITIONED TO DISLIKE VIOLENCE &amp; COLIN HANKS TRIES DESPERATELY TO GET ACCEPTED TO STANFO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ARAH JESSICA PARKER AND FRIENDS LEARN ABOUT MARRIAGE &amp; BILLY CRYSTAL AND FRIENDS LEARN HOW TO BE COWBOY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VE OWEN SMUGGLES A PREGNANT WOMAN INTO A REFUGEE CAMP &amp; WILL SMITH JOINS THE ALIEN REFUGEE AGENC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ILL SMITH AND KEVIN KLINE DUEL AN ARACHNOID &amp; THE JETS AND THE SHARKS DUKE IT OU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90400" y="762120"/>
            <a:ext cx="7963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EEL WORKERS FORM A MALE STRIPTEASE ACT &amp; KING ARTHUR TRIES TO FIND SACRED DINNERWA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SCHOOLTEACHER MOVES  TO SIAM TO TEACH ROYAL CHILDREN &amp; WILL SMITH DOESN'T TRUST ARTIFICIALLY INTELLIGENT MACHINE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ENNIFER ANISTON AND OWEN WILSON HAVE AN ADORABLE DOG &amp; JIM CARREY AND HIS ALTER EGO WORK TOGETHER TO SAVE RENEE ZELLWEG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SUPERHERO QUARTET SAVES THE WORLD AND REESE WITHERSPOON &amp; VINCE VAUGHN DO THE HOLIDAYS     IN SEVERAL PLAC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4T16:08:44Z</dcterms:created>
  <dc:creator>Jennifer Budzinski</dc:creator>
  <dc:description/>
  <dc:language>en-US</dc:language>
  <cp:lastModifiedBy>Erich Friedman</cp:lastModifiedBy>
  <dcterms:modified xsi:type="dcterms:W3CDTF">2020-08-26T16:37:52Z</dcterms:modified>
  <cp:revision>343</cp:revision>
  <dc:subject/>
  <dc:title>Slide 1</dc:title>
</cp:coreProperties>
</file>