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A9CF-7CD8-4182-8158-21EF64EA6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AF91-4162-4271-BA24-D7D5D3A02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EEA-B84C-44C5-8EBA-121F4639D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56BA-1FC3-4BAB-A3EA-9B42A9E13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7681-A45D-402B-8C4C-46C055C6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B3DF-CF93-4BA6-B3C9-6608823C1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62B9-6ED8-4C15-99CE-1DE92C8C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BF6-C147-473C-9B1C-09C9579B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7AAF-1D13-4674-8F84-F613D1E6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3FA-3B29-4F69-8316-4B51A51C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760-7484-4134-8FE9-E4DAD7A4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EEFB-8533-4CE5-BB7E-11F9FF36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24B8-21C9-4CC2-A432-B92E0D323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51BE-AFB5-4566-92B3-FC348CEA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CE4-6547-4ED1-920C-546315D5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02C-76FB-4D0C-8BE3-D902F250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F658-A386-4BE7-BC43-2232DE57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3FC7-DC1D-4A53-8CCE-32AE928C5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B7D9-0FF9-40D3-BD14-9850A774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F81-B0DF-4F40-BD2E-E9A1EAB7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D5A8-7C95-4905-98CF-AF31E2CB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886-3EFF-45F5-B53C-083FDC94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4E6E-9308-427F-8CCA-EB79B899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FILM TITLES    FROM PLOT SUMMARI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 FLY TO NEVERLAND &amp; IVANA BAQUERO TRAVELS INTO A MAGICAL MAZE TO ESCAPE WAR-TORN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GUY INVESTIGATES A MURDER IN A SOUTHERN TOWN &amp; STATUES COME TO LIFE DURING THE LATE SH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T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PLAYS AN ITALIAN MOB BOSS &amp; WOMAN ABOUT TO BE MARRIED DRIVES DAD CRAZ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343400"/>
            <a:ext cx="6019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WALK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EMEMB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HE  TI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ANE WEST FINDS LOVE WITH PASTOR'S DAUGHTER MANDY MOORE &amp; INTERRACIAL FOOTBALL TEAM WINS IT 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33440" y="43434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LE  YOU  WE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LEEPING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DRA BULLOCK SAVES A MAN FROM A TRAIN ACCIDENT &amp;      A KISS AWAKENS A PRINCESS FROM A MAGICAL 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O  KI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NG WHITE LAWYER DEFENDS A BLACK MAN IN THE SOUTH &amp; OLDER WHITE LAWYER DEFENDS A BLACK MAN IN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333440" y="43434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MPIRE  STRIK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THE  FU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KE SKYWALKER FINDS HIS FATHER BUT LOSES HIS HAND &amp; MICHAEL J. FOX TAKES A TRIP TO THE P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MAN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B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OD:  MEN  IN  T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PED CRUSADER AND   BOY WONDER SAVE THE DAY &amp; STEALING FROM THE RICH TO GIVE TO THE POOR PAR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14280" y="3817800"/>
            <a:ext cx="852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EMELY  LOUD  AND  INCREDIBL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LOSE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COUNTERS  OF  THE  THIRD 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D SEARCHES FOR KEY LEFT BY HIS FATHER WHO DIED ON 9/11 &amp; RICHARD DREYFUSS IS CONTACTED BY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PLAYS AN ITALIAN MOB BOSS &amp; WOMAN ABOUT TO BE MARRIED DRIVES DAD CRAZ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MARY'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B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PLE MOVES INTO NEW PLACE AND STRANGE THINGS HAPPEN &amp; TINA FEY CAN'T GIVE BIRTH SO SHE HIRES AMY POEHLER AS A SURROG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'S  LABYRI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 FLY TO NEVERLAND &amp; IVANA BAQUERO TRAVELS INTO A MAGICAL MAZE TO ESCAPE WAR-TORN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34340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HEAT  OF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GH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T  THE  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8120" y="762120"/>
            <a:ext cx="8267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GUY INVESTIGATES A MURDER IN A SOUTHERN TOWN &amp; STATUES COME TO LIFE DURING THE LATE SH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ANE WEST FINDS LOVE WITH PASTOR'S DAUGHTER MANDY MOORE &amp; INTERRACIAL FOOTBALL TEAM WINS IT 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DRA BULLOCK SAVES A MAN FROM A TRAIN ACCIDENT &amp;      A KISS AWAKENS A PRINCESS FROM A MAGICAL 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NG WHITE LAWYER DEFENDS A BLACK MAN IN THE SOUTH &amp; OLDER WHITE LAWYER DEFENDS A BLACK MAN IN THE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KE SKYWALKER FINDS HIS FATHER BUT LOSES HIS HAND &amp; MICHAEL J. FOX TAKES A TRIP TO THE P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PED CRUSADER AND  BOY WONDER SAVE THE DAY &amp; STEALING FROM THE RICH TO GIVE TO THE POOR PAR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D SEARCHES FOR KEY LEFT BY HIS FATHER WHO DIED ON 9/11 &amp; RICHARD DREYFUSS IS CONTACTED BY ALI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PLE MOVES INTO NEW PLACE AND STRANGE THINGS HAPPEN &amp; TINA FEY CAN'T GIVE BIRTH SO SHE HIRES AMY POEHLER AS A SURROG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4:34:13Z</dcterms:created>
  <dc:creator>Jennifer Budzinski</dc:creator>
  <dc:description/>
  <dc:language>en-US</dc:language>
  <cp:lastModifiedBy>Erich Friedman</cp:lastModifiedBy>
  <dcterms:modified xsi:type="dcterms:W3CDTF">2020-08-26T16:39:44Z</dcterms:modified>
  <cp:revision>348</cp:revision>
  <dc:subject/>
  <dc:title>Slide 1</dc:title>
</cp:coreProperties>
</file>