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2EEA-DBE1-4C0C-BF03-439A4FBFF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ECE8-71CA-4DE3-9DED-48CEA3F23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6B8C-9C47-4349-B3DF-F46E0A757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D50B-0820-4BC6-A099-DA99D9AA2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CBBE-32FD-449A-B771-F84497942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9DCF-502F-4D6B-A26C-F387B2FEA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7FF7-BCCB-4F80-B17F-10179EE6C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2449-5CF8-491A-9113-E9CD05C2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A207-E528-4A00-9623-B7A9544B9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DDC6-6428-428B-83E5-D46CC347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2595-8FBD-486A-A08D-06D9D060B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017D-3E9F-4ABE-B7F7-29F5C0811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A6C7-85CD-4D63-9EC7-6E06E2A12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F6DC-DFC6-4FFB-97F7-B292E06C6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3ADE-BD65-41DE-BF8D-9454B399E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A6F3-594A-4682-9909-799833A4F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FA17-CBE1-4685-B100-8CD4360EB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40F1-0E6D-48AF-ACF9-67D4F2C62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F47C-8247-4B42-8B8A-8D1189DDA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B9B9-B5FA-4090-8EA8-5F867799D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5E6F-E053-4E43-AE96-3A248BB05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4CE9-95A5-4A46-B4AC-724365F56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6180-2E26-4854-B178-A1364AE3E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9903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FILM TITLES    FROM PLOT SUMMARIE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LDREN FLY TO NEVERLAND &amp; IVANA BAQUERO TRAVELS INTO A MAGICAL MAZE TO ESCAPE WAR-TORN SP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 GUY INVESTIGATES A MURDER IN A SOUTHERN TOWN &amp; STATUES COME TO LIFE DURING THE LATE SH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D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ATH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LON BRANDO PLAYS AN ITALIAN MOB BOSS &amp; WOMAN ABOUT TO BE MARRIED DRIVES DAD CRAZ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343400"/>
            <a:ext cx="6019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WALK  T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EMEMB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HE  TIT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ANE WEST FINDS LOVE WITH PASTOR'S DAUGHTER MANDY MOORE &amp; INTERRACIAL FOOTBALL TEAM WINS IT 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333440" y="434340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LE  YOU  WER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LEEPING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NDRA BULLOCK SAVES A MAN FROM A TRAIN ACCIDENT &amp;      A KISS AWAKENS A PRINCESS FROM A MAGICAL 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IM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O  KIL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  MOCKING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NG WHITE LAWYER DEFENDS A BLACK MAN IN THE SOUTH &amp; OLDER WHITE LAWYER DEFENDS A BLACK MAN IN THE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333440" y="43434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MPIRE  STRIKE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A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O  THE  FU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UKE SKYWALKER FINDS HIS FATHER BUT LOSES HIS HAND &amp; MICHAEL J. FOX TAKES A TRIP TO THE P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343400"/>
            <a:ext cx="6096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MAN  AN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OBI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OD:  MEN  IN  T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PED CRUSADER AND   BOY WONDER SAVE THE DAY &amp; STEALING FROM THE RICH TO GIVE TO THE POOR PAR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14280" y="3817800"/>
            <a:ext cx="8524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TREMELY  LOUD  AND  INCREDIBL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LOSE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COUNTERS  OF  THE  THIRD 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D SEARCHES FOR KEY LEFT BY HIS FATHER WHO DIED ON 9/11 &amp; RICHARD DREYFUSS IS CONTACTED BY ALI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LON BRANDO PLAYS AN ITALIAN MOB BOSS &amp; WOMAN ABOUT TO BE MARRIED DRIVES DAD CRAZ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MARY'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AB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PLE MOVES INTO NEW PLACE AND STRANGE THINGS HAPPEN &amp; TINA FEY CAN'T GIVE BIRTH SO SHE HIRES AMY POEHLER AS A SURROG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'S  LABYRI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LDREN FLY TO NEVERLAND &amp; IVANA BAQUERO TRAVELS INTO A MAGICAL MAZE TO ESCAPE WAR-TORN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33440" y="4343400"/>
            <a:ext cx="647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HEAT  OF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IGH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T  THE  MUSE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38120" y="762120"/>
            <a:ext cx="8267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 GUY INVESTIGATES A MURDER IN A SOUTHERN TOWN &amp; STATUES COME TO LIFE DURING THE LATE SH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ANE WEST FINDS LOVE WITH PASTOR'S DAUGHTER MANDY MOORE &amp; INTERRACIAL FOOTBALL TEAM WINS IT 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NDRA BULLOCK SAVES A MAN FROM A TRAIN ACCIDENT &amp;      A KISS AWAKENS A PRINCESS FROM A MAGICAL 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NG WHITE LAWYER DEFENDS A BLACK MAN IN THE SOUTH &amp; OLDER WHITE LAWYER DEFENDS A BLACK MAN IN THE SOU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UKE SKYWALKER FINDS HIS FATHER BUT LOSES HIS HAND &amp; MICHAEL J. FOX TAKES A TRIP TO THE P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PED CRUSADER AND  BOY WONDER SAVE THE DAY &amp; STEALING FROM THE RICH TO GIVE TO THE POOR PAR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D SEARCHES FOR KEY LEFT BY HIS FATHER WHO DIED ON 9/11 &amp; RICHARD DREYFUSS IS CONTACTED BY ALI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PLE MOVES INTO NEW PLACE AND STRANGE THINGS HAPPEN &amp; TINA FEY CAN'T GIVE BIRTH SO SHE HIRES AMY POEHLER AS A SURROG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4:34:13Z</dcterms:created>
  <dc:creator>Jennifer Budzinski</dc:creator>
  <dc:description/>
  <dc:language>en-US</dc:language>
  <cp:lastModifiedBy>Erich Friedman</cp:lastModifiedBy>
  <dcterms:modified xsi:type="dcterms:W3CDTF">2020-08-26T16:39:44Z</dcterms:modified>
  <cp:revision>348</cp:revision>
  <dc:subject/>
  <dc:title>Slide 1</dc:title>
</cp:coreProperties>
</file>