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4E856-7F52-40AD-86F2-54E7292B9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0AF7-302B-4B90-9DDA-740C19709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3C4F-6766-4449-93A6-3B3542045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B3C6-2EDD-4D3F-8060-4ED6247AF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9688-9121-4C72-8FC3-DFC04681F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3CBF-4082-4287-8EA1-D6B21058D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B23B-7847-4775-9532-2CBF936DC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39FD-3BA6-4FA9-BA44-E4BF87943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005C-B5AA-436D-939B-D0EE7F75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7E3E-118D-4BFA-A875-5AE60F6A9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4419B-920F-4933-90BC-9A358D703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0129-A6C7-490A-A91C-65860F0BB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D01C-375E-4D53-B71C-829AA0C2A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F7FE-A77F-4E9D-8143-187A34914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9BB7-8872-4CC4-AB27-B63D22CB1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9DA9-F119-4814-AF90-0FFA705FF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1CAA-6A22-40EE-8895-30C2A9B0D2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3784-2206-4BDC-ABED-72ABE30EC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AFC9-ABB7-4F9C-B4AD-4164138D3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DB22-6EE7-47E6-9036-1CEEBBF7E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24B3-27C5-4209-A9CE-667379AB1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C514-9BA8-45C8-8005-8A33FC0E7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4115-81F5-46EF-824A-929A1000C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9903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FILM TITLES    FROM PLOT SUMMARIE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LDREN FLY TO NEVERLAND &amp; IVANA BAQUERO TRAVELS INTO A MAGICAL MAZE TO ESCAPE WAR-TORN SP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 GUY INVESTIGATES A MURDER IN A SOUTHERN TOWN &amp; STATUES COME TO LIFE DURING THE LATE SHI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D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ATH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OF  THE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LON BRANDO PLAYS AN ITALIAN MOB BOSS &amp; WOMAN ABOUT TO BE MARRIED DRIVES DAD CRAZY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343400"/>
            <a:ext cx="6019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WALK  TO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EMEMBE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HE  TIT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ANE WEST FINDS LOVE WITH PASTOR'S DAUGHTER MANDY MOORE &amp; INTERRACIAL FOOTBALL TEAM WINS IT 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333440" y="4343400"/>
            <a:ext cx="6477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LE  YOU  WER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SLEEPING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BEAU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NDRA BULLOCK SAVES A MAN FROM A TRAIN ACCIDENT &amp;      A KISS AWAKENS A PRINCESS FROM A MAGICAL 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TIM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O  KIL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  MOCKINGBI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NG WHITE LAWYER DEFENDS A BLACK MAN IN THE SOUTH &amp; OLDER WHITE LAWYER DEFENDS A BLACK MAN IN THE SOU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333440" y="4343400"/>
            <a:ext cx="64771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MPIRE  STRIKE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AC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TO  THE  FU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UKE SKYWALKER FINDS HIS FATHER BUT LOSES HIS HAND &amp; MICHAEL J. FOX TAKES A TRIP TO THE P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343400"/>
            <a:ext cx="6096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TMAN  AN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OBI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HOOD:  MEN  IN  T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266760" y="762120"/>
            <a:ext cx="8610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PED CRUSADER AND   BOY WONDER SAVE THE DAY &amp; STEALING FROM THE RICH TO GIVE TO THE POOR PAR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14280" y="3817800"/>
            <a:ext cx="8524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TREMELY  LOUD  AND  INCREDIBL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LOSE 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COUNTERS  OF  THE  THIRD K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80880" y="762120"/>
            <a:ext cx="8382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D SEARCHES FOR KEY LEFT BY HIS FATHER WHO DIED ON 9/11 &amp; RICHARD DREYFUSS IS CONTACTED BY ALIE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LON BRANDO PLAYS AN ITALIAN MOB BOSS &amp; WOMAN ABOUT TO BE MARRIED DRIVES DAD CRAZY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SEMARY'S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AB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M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PLE MOVES INTO NEW PLACE AND STRANGE THINGS HAPPEN &amp; TINA FEY CAN'T GIVE BIRTH SO SHE HIRES AMY POEHLER AS A SURROG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TER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P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'S  LABYRIN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ILDREN FLY TO NEVERLAND &amp; IVANA BAQUERO TRAVELS INTO A MAGICAL MAZE TO ESCAPE WAR-TORN SP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33440" y="4343400"/>
            <a:ext cx="6477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  THE  HEAT  OF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NIGH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T  THE  MUSE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38120" y="762120"/>
            <a:ext cx="82677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LACK GUY INVESTIGATES A MURDER IN A SOUTHERN TOWN &amp; STATUES COME TO LIFE DURING THE LATE SHI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HANE WEST FINDS LOVE WITH PASTOR'S DAUGHTER MANDY MOORE &amp; INTERRACIAL FOOTBALL TEAM WINS IT 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NDRA BULLOCK SAVES A MAN FROM A TRAIN ACCIDENT &amp;      A KISS AWAKENS A PRINCESS FROM A MAGICAL SP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YOUNG WHITE LAWYER DEFENDS A BLACK MAN IN THE SOUTH &amp; OLDER WHITE LAWYER DEFENDS A BLACK MAN IN THE SOU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UKE SKYWALKER FINDS HIS FATHER BUT LOSES HIS HAND &amp; MICHAEL J. FOX TAKES A TRIP TO THE P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APED CRUSADER AND  BOY WONDER SAVE THE DAY &amp; STEALING FROM THE RICH TO GIVE TO THE POOR PAR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ID SEARCHES FOR KEY LEFT BY HIS FATHER WHO DIED ON 9/11 &amp; RICHARD DREYFUSS IS CONTACTED BY ALIE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UPLE MOVES INTO NEW PLACE AND STRANGE THINGS HAPPEN &amp; TINA FEY CAN'T GIVE BIRTH SO SHE HIRES AMY POEHLER AS A SURROG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4:34:13Z</dcterms:created>
  <dc:creator>Jennifer Budzinski</dc:creator>
  <dc:description/>
  <dc:language>en-US</dc:language>
  <cp:lastModifiedBy>Erich Friedman</cp:lastModifiedBy>
  <dcterms:modified xsi:type="dcterms:W3CDTF">2020-08-26T16:39:44Z</dcterms:modified>
  <cp:revision>348</cp:revision>
  <dc:subject/>
  <dc:title>Slide 1</dc:title>
</cp:coreProperties>
</file>