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863-0515-451C-8FCD-394245EA3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3F51-7DCA-4441-A14C-B0396F56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47D5-BA86-4573-84C3-3E6C4484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336-768A-436D-8015-5B53F865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D27-1D2A-4E59-9595-7A0103F6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4E3-FC57-4612-98FF-0D504CBB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B550-AB7B-492B-AABE-42E3F33B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E50-86B4-45B1-A07C-C8918C39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E5EC-3E88-4E52-B0BA-4DF96F2B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ACC-867F-403E-90F4-2C14ED75C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FF5-7C7C-47DD-AEA1-EDE01EEF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886-F226-44E0-96B9-B19A0940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761-10FF-4522-8126-255236A9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A77-9CE3-4220-8FC2-B6D8CCEF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7F8-E811-464F-A0A5-2C61A661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CA8-D5C6-4D59-8EA6-3E8FDB4A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1A3-AA0B-4204-99AD-C2D74AFE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C63-9C09-4235-9F50-01AC670E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06AD-3929-4C5B-8104-98E27C411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DE8-2C29-48C2-8FA9-FA885731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287A-C7F9-4602-B10C-B6209CFF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A527-A122-40D8-A930-A3098CC1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A3CE-A00F-4463-A7ED-75DCA2E6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19040" y="685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I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81200" y="4876920"/>
            <a:ext cx="758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28760" y="762120"/>
            <a:ext cx="8286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95600" y="4343400"/>
            <a:ext cx="5752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LET  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W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THE  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A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MILY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HY  BREAK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ART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NEATH  MY  W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41972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WORRY,  B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APP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SOU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IS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RIS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41:30Z</dcterms:modified>
  <cp:revision>367</cp:revision>
  <dc:subject/>
  <dc:title>Slide 1</dc:title>
</cp:coreProperties>
</file>