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0A8F-34C8-4632-A7C7-4FE6A89FA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72AD-8175-4F2A-B70C-F009F2C5A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9A7B-FFB0-4226-BD8A-44FA6320C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0A0D-099F-4213-97E1-09F2F6A91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5393-DB68-4DB1-9D13-FDFD49D67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1CBC-D1A0-424E-A018-7020BA361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AEDF-3679-45DA-90EA-9FACBC8CF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4D17-692D-49D8-A0A7-75991E787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8346-60A0-470E-A1CD-85A344EC3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4EAC-2C25-453D-8913-6C2C3037F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FC4A-2695-4262-BCA4-F54FEC6CB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4D54-85DC-4C8D-9150-345706067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EFCC-815A-4772-A24B-E42DCE77D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FE99-35FA-44C6-A553-FF0B62F1F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DA6B-6F2C-4CB7-98EE-F5317B781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E699-8AEF-4B80-99C3-177A166C4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797C-A1D3-4CD9-AA50-154F910E3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1DD0-E1A3-450D-909B-08AA657AB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4CF5-7243-4F05-9059-1D15CCE8B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04FE-55B6-407F-BBF0-CCBDD6D40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A0E5-8570-496B-A2F4-B6D5A896D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968D-0D18-4B98-91B0-126ECC0D1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DA66-29C3-4363-9B09-76369AF2D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19040" y="685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LYRICS (AND ARTISTS) IDENTIFY 2 OVERLAPPING  SONG TITL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120" y="7617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'S A LITTLE SONG I WROTE, YOU MIGHT WANT TO SING IT NOTE FOR NOTE" (BOBBY MCFERRIN) &amp; "IMAGINE ME AND YOU, I DO" (THE TURTL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28560" y="762120"/>
            <a:ext cx="788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THAT MR. MISTER ON THE RADIO, STEREO" (TRAIN) &amp; "YOU'RE MOTORING, WHAT'S YOUR PRICE FOR FLIGHT" (NIGHT RANG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762120" y="48769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TO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TO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A DEATH TRAP, IT'S A SUICIDE RAP" (BRUCE SPRINGSTEEN) &amp; "I GOT MY MIND MADE UP, I NEED TO FEEL YOUR TOUCH" (BRYAN ADAM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647640" y="487692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AFTER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I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  A  BO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04920" y="762120"/>
            <a:ext cx="85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F YOU'RE LOST YOU CAN LOOK AND YOU WILL FIND ME" (CYNDI LAUPER) &amp; "IF I HAD A BOX JUST FOR WISHES" (JIM CROCE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781200" y="4876920"/>
            <a:ext cx="758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LL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ON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ORE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28760" y="762120"/>
            <a:ext cx="8286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'VE BEEN TOGETHER SINCE WAY BACK WHEN" (ORLEANS) &amp; " 'CAUSE I CAN'T WAIT FOREVER" (PHIL COLLIN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695600" y="4343400"/>
            <a:ext cx="5752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'T  LET  M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OW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N  THE  CO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BODY EVER LOVED ME LIKE SHE DOES" (THE BEATLES) &amp; "EARLY IN THE EVENIN' JUST ABOUT SUPPER TIME" (CC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52560" y="4876920"/>
            <a:ext cx="7238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  I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LAC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61800" y="762120"/>
            <a:ext cx="8420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ES, I'M LET LOOSE, FROM THE NOOSE" (AC/DC) &amp; "HEY, HEY MAMA SAID THE WAY YOU MOVE" (LED ZEPPELI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  AR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AMILY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14440" y="762120"/>
            <a:ext cx="8115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GOT ALL MY SISTERS WITH ME" (SISTER SLEDGE) &amp; "IF YOU PUSH ME TOO FAR I JUST MIGHT" (HALL &amp; OATES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HY  BREAK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EART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  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CAN TELL THE WORLD YOU NEVER WAS MY GIRL" (BILLY RAY CYRUS) &amp; "ONCE I HAD A LOVE AND IT WAS A GAS" (BLONDI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A DEATH TRAP, IT'S A SUICIDE RAP" (BRUCE SPRINGSTEEN) &amp; "I GOT MY MIND MADE UP, I NEED TO FEEL YOUR TOUCH" (BRYAN ADAMS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343400"/>
            <a:ext cx="579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LE  IN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IN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BENEATH  MY  WING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9960" y="762120"/>
            <a:ext cx="8344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NORMA JEAN" (ELTON JOHN) &amp; "I CAN FLY HIGHER THAN AN EAGLE" (BETTE MIDL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828800" y="4419720"/>
            <a:ext cx="5486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'T  WORRY,  B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APP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'S A LITTLE SONG I WROTE, YOU MIGHT WANT TO SING IT NOTE FOR NOTE" (BOBBY MCFERRIN) &amp; "IMAGINE ME AND YOU, I DO" (THE TURTL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Y  SOUL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IST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HRIST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THAT MR. MISTER ON THE RADIO, STEREO" (TRAIN) &amp; "YOU'RE MOTORING, WHAT'S YOUR PRICE FOR FLIGHT" (NIGHT RANG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F YOU'RE LOST YOU CAN LOOK AND YOU WILL FIND ME" (CYNDI LAUPER) &amp; "IF I HAD A BOX JUST FOR WISHES" (JIM CROC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'VE BEEN TOGETHER SINCE WAY BACK WHEN" (ORLEANS) &amp; " 'CAUSE I CAN'T WAIT FOREVER" (PHIL COLLIN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BODY EVER LOVED ME LIKE SHE DOES" (THE BEATLES) &amp; "EARLY IN THE EVENIN' JUST ABOUT SUPPER TIME" (CCR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ES, I'M LET LOOSE, FROM THE NOOSE" (AC/DC) &amp; "HEY, HEY MAMA SAID THE WAY YOU MOVE" (LED ZEPPELIN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380880" y="762120"/>
            <a:ext cx="83822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GOT ALL MY SISTERS WITH ME" (SISTER SLEDGE) &amp; "IF YOU PUSH ME TOO FAR I JUST MIGHT" (HALL &amp; OAT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152280" y="762120"/>
            <a:ext cx="8839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CAN TELL THE WORLD YOU NEVER WAS MY GIRL" (BILLY RAY CYRUS) &amp; "ONCE I HAD A LOVE AND IT WAS A GAS" (BLONDI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NORMA JEAN" (ELTON JOHN) &amp; "I CAN FLY HIGHER THAN AN EAGLE" (BETTE MIDLER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5:12:09Z</dcterms:created>
  <dc:creator>Jennifer Budzinski</dc:creator>
  <dc:description/>
  <dc:language>en-US</dc:language>
  <cp:lastModifiedBy>Erich Friedman</cp:lastModifiedBy>
  <dcterms:modified xsi:type="dcterms:W3CDTF">2020-08-26T16:41:30Z</dcterms:modified>
  <cp:revision>367</cp:revision>
  <dc:subject/>
  <dc:title>Slide 1</dc:title>
</cp:coreProperties>
</file>