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DC06-FDBF-4F9E-AA0F-54FE325E3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72BC-6E0E-48C8-829C-C9D2B5CCA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E2BA-A182-4EFB-9990-7A044EBF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3F71-A204-4204-ABBD-85F1D6DA6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0A3B-461E-4F9E-ABB8-58059985E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9DB-171A-4373-A80A-CFDBDED3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606B-49E2-4C2E-9C3A-84E3F901C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AEF0-8146-4D00-9EE8-06C11590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8A8E-7C30-4E99-A09D-8451FEB1F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C62-72ED-4A9F-AA91-2E02EAB7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E4A-3FC1-4FDA-A3B5-7560382EE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10A8-5AC8-4893-BC49-F8DA1BD3F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9A3D-C32D-4ED1-88F9-ACBA06C2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1DAB-8C7B-4204-B136-C3EB4481F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8B3F-213B-4E33-B6AC-855A55DF7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7024-F554-40DD-B6B5-B29A4D7F9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9081-C0F3-4F56-93B6-B53AF1EA3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9816-59E2-47E8-8D6C-51F5DAEA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BC6E-7A92-4665-87F5-32E3AAC51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63D5-B3D6-4B04-9C58-DCA65D11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3BB9-EC41-477D-9705-5B9F45E94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AE2E-0D83-438B-90EE-EF92F2159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6DA0-EBA8-49B3-8FEE-A7D074A00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19040" y="685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I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A  BO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81200" y="4876920"/>
            <a:ext cx="758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OR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28760" y="762120"/>
            <a:ext cx="8286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695600" y="4343400"/>
            <a:ext cx="5752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LET  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W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THE  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A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MILY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HY  BREAK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ART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F 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A DEATH TRAP, IT'S A SUICIDE RAP" (BRUCE SPRINGSTEEN) &amp; "I GOT MY MIND MADE UP, I NEED TO FEEL YOUR TOUCH" (BRYAN ADAM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NEATH  MY  WING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419720"/>
            <a:ext cx="5486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WORRY,  B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APP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A LITTLE SONG I WROTE, YOU MIGHT WANT TO SING IT NOTE FOR NOTE" (BOBBY MCFERRIN) &amp; "IMAGINE ME AND YOU, I DO" (THE TUR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SOU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IST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RIS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THAT MR. MISTER ON THE RADIO, STEREO" (TRAIN) &amp; "YOU'RE MOTORING, WHAT'S YOUR PRICE FOR FLIGHT" (NIGHT RANG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'RE LOST YOU CAN LOOK AND YOU WILL FIND ME" (CYNDI LAUPER) &amp; "IF I HAD A BOX JUST FOR WISHES" (JIM CRO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VE BEEN TOGETHER SINCE WAY BACK WHEN" (ORLEANS) &amp; " 'CAUSE I CAN'T WAIT FOREVER" (PHIL COLLI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EVER LOVED ME LIKE SHE DOES" (THE BEATLES) &amp; "EARLY IN THE EVENIN' JUST ABOUT SUPPER TIME" (CC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ES, I'M LET LOOSE, FROM THE NOOSE" (AC/DC) &amp; "HEY, HEY MAMA SAID THE WAY YOU MOVE" (LED ZEPPELI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0880" y="762120"/>
            <a:ext cx="8382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GOT ALL MY SISTERS WITH ME" (SISTER SLEDGE) &amp; "IF YOU PUSH ME TOO FAR I JUST MIGHT" (HALL &amp;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 TELL THE WORLD YOU NEVER WAS MY GIRL" (BILLY RAY CYRUS) &amp; "ONCE I HAD A LOVE AND IT WAS A GAS" (BLOND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 (ELTON JOHN) &amp; "I CAN FLY HIGHER THAN AN EAGLE" (BETTE MIDLE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41:30Z</dcterms:modified>
  <cp:revision>367</cp:revision>
  <dc:subject/>
  <dc:title>Slide 1</dc:title>
</cp:coreProperties>
</file>