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6A892-C6D7-400F-863C-6117593451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B87AB-6FD6-44B4-B702-95748BF2E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22C80-65F1-40A2-B8CE-C2F73E688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EB377-F9F7-402D-8BE5-66C91ED45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32A10-F9B8-40F7-A28D-3E7426C27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E979D-F8A4-4BAC-9629-A34197B52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94250-B4E2-4301-BF00-2E582914B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EE63F-A3EA-48BF-87D2-BF5116654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59E22-219D-4208-A7E6-98F7CAFFD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15E2F-EFA4-4858-A38A-7BDBA58C2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73A29-2E93-4379-832F-11EC5028F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3A8EF-3934-413B-9FC7-2B8D1F530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9D674-84FF-48F4-8305-023461E0E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6FEF2-4C47-4A28-9C24-E86B81466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3B750-DD82-4175-B006-295B8AD59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2CAD7-A513-4AB6-9D8A-6BFCF82FD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B355E-6E98-4148-BBD3-93A6ABE8F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C649A-2D3D-4800-850E-BE60BA142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EAA06-62CE-4051-A52A-643F7B0CF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E0998-243C-4C9D-BDD5-3E8009B81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90122-EED3-455C-9958-8CFB926F6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2CDD3-29A5-4D05-91BE-085004B4A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14AA2-7613-4368-8513-93ED6CE85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TE PAI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TWO STATES BEGIN WITH THE LETTER "V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TWO STATES DON'T BORDER AN OCEAN, GREAT LAKE, ANOTHER COUNTRY, OR ANY STATE THAT BORDERS ONE OF THO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RTH  &amp;  SOUTH  DAK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57200" y="7621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FTER CONTROVERSY OVER WHERE THE CAPITAL OF THIS TERRITORY SHOULD BE, IT WAS SPLIT INTO WHICH TWO U.S. STATES, WHICH JOINED THE UNION ON THE SAME D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UISIANA  &amp;  ALAS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304920" y="762120"/>
            <a:ext cx="85341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TWO STATES DON'T HAVE COUNTIES, BUT INSTEAD HAVE PARISHES OR BOROUGH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RTH DAKOTA  &amp;  MINNES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TWO STATES BORDER MANITOBA, CANA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LORADO  &amp;  WYO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TWO STATES HAVE BORDERS THAT ARE ALMOST EXACTLY RECTANG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80880" y="4952880"/>
            <a:ext cx="83822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BRASKA  &amp; MISSISSIPP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ICH TWO STATES IS IT ILLEGAL TO MARRY AT AGE 18 WITHOUT PARENTAL CONSENT OR COURT ORD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ORIDA  &amp;  HAWA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62120"/>
            <a:ext cx="82296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TWO STATES HAVE AN AVERAGE TEMPERATURE OF ABOVE 7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FAHRENHE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53352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IZONA  &amp;  NEW MEX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ND FROM WHICH TWO STATES WAS PART OF THE "GADSDEN PURCHAS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FTER CONTROVERSY OVER WHERE THE CAPITAL OF THIS TERRITORY SHOULD BE, IT WAS SPLIT INTO WHICH TWO U.S. STATES, WHICH JOINED THE UNION ON THE SAME DA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EST  VIRGINIA  &amp;  KENTUC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57200" y="762120"/>
            <a:ext cx="82296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ICH TWO APPALACHIAN STATES ARE BEAGLES MORE POPULAR AS PETS THAN LABRADOR RETRIEV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IRGINIA  &amp;  VERMO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57200" y="7621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TWO STATES BEGIN WITH THE LETTER "V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NSAS  &amp;  NEBRAS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57200" y="7621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TWO STATES DON'T BORDER AN OCEAN, GREAT LAKE, ANOTHER COUNTRY, OR ANY STATE THAT BORDERS ONE OF THO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266760" y="76176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TWO STATES DON'T HAVE COUNTIES, BUT INSTEAD HAVE PARISHES OR BOROUGH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TWO STATES BORDER MANITOBA, CANA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TWO STATES HAVE BORDERS THAT ARE ALMOST EXACTLY RECTANG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2396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ICH TWO STATES IS IT ILLEGAL TO MARRY AT AGE 18 WITHOUT PARENTAL CONSENT OR COURT ORD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TWO STATES HAVE AN AVERAGE TEMPERATURE OF ABOVE 7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FAHRENHEI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ND FROM WHICH TWO STATES WAS PART OF THE "GADSDEN PURCHAS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ICH TWO APPALACHIAN STATES ARE BEAGLES MORE POPULAR AS PETS THAN LABRADOR RETRIEV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3T16:52:51Z</dcterms:created>
  <dc:creator>Jennifer Budzinski</dc:creator>
  <dc:description/>
  <dc:language>en-US</dc:language>
  <cp:lastModifiedBy>Erich Friedman</cp:lastModifiedBy>
  <dcterms:modified xsi:type="dcterms:W3CDTF">2020-08-30T19:26:56Z</dcterms:modified>
  <cp:revision>285</cp:revision>
  <dc:subject/>
  <dc:title>Slide 1</dc:title>
</cp:coreProperties>
</file>