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14C-9EA9-4565-9F11-4BDBADFD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E05-BF41-48B8-A0B3-1A800AEB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8F3-5DB0-446C-9D89-B11C8036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38B-0557-49BA-B917-1DF1C3E8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A090-04A6-452E-AB30-BA4605C4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C52-C576-4D68-B8E3-6AAC035B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E51-A956-4B27-BBBB-802A7F5E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392-5633-430C-A2C0-7D978CDA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EEE5-0ED6-4C8B-84AD-10D6BE0D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3043-7B72-46D3-8577-45E9C53E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3EB-D86A-4EB6-B462-364D5D33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91F-1591-4B78-9409-166C81C1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DF3-114F-40DE-9880-9FC2F0CA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BBA-E4DB-4DD8-AD7A-2F2382490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CD2-6214-4ED6-91D6-F5657C41D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3A03-9B27-4E4C-99C3-98B92922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4F3-AAEA-44F2-9F19-E9C5A4D7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1D5-0781-48C4-9DEC-9D243D0E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BD8-C116-4816-91DA-0EC46CC4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2D5-B1C4-4E60-9EBB-136D04F6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B99C-6AEF-49D5-9542-A29CE1E6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E8BF-31B9-4C91-A814-B1ED1A2E3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53C-E30E-4FD0-A1E7-9667D827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PAI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&amp;  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DAKOTA  &amp;  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  &amp; 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&amp; 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&amp;  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  &amp;  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6:52:51Z</dcterms:created>
  <dc:creator>Jennifer Budzinski</dc:creator>
  <dc:description/>
  <dc:language>en-US</dc:language>
  <cp:lastModifiedBy>Erich Friedman</cp:lastModifiedBy>
  <dcterms:modified xsi:type="dcterms:W3CDTF">2020-08-30T19:26:56Z</dcterms:modified>
  <cp:revision>285</cp:revision>
  <dc:subject/>
  <dc:title>Slide 1</dc:title>
</cp:coreProperties>
</file>