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BF9CF-2AF2-46B0-A18D-483F554B7F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1866D-9E5A-4F87-A7C5-6909132EBD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BE112-1C6B-4767-B204-CDC8BB8DEC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CA7CB-4405-48C5-AEDD-194E2F1BE7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E17B3-B023-4412-A4F1-B330D7F9F9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EF091-631C-426E-9E26-38464C88E9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922C8-DBAA-452E-AD6C-02B4B16F3C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D3624-BD5F-4B2D-BF5B-11457DDFF0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1CD7B-42A1-4B5E-92BF-2BA8B9EA3A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C0D3F-A2F9-43F6-8D57-CDD4EE43D7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94A35-BAD8-4970-A9FE-4DEA0F6466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0E099-253C-4E01-941B-EB3439FEB3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63A6F-350A-48A5-9911-D310432824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B9D2A-8D5F-4A8C-8700-EADF4D1A2F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AA6E3-AB7D-45CF-986E-B35DDBC299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EF7FB-D4DD-4DAE-BDC8-53B5179F92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81CB6-C3C0-4E3B-99C3-50AECB7CFE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1BFCE-58B8-4225-AFCD-98D1A59408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C2365-1D8A-4424-B36C-818E9EE89F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278F2-F079-4775-B128-E76E168557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7A4CF-82B0-423C-84A4-C7A8F45FDD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5B4EC-E54E-42F0-B166-A32786F7A5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16F0D-1D92-4E1A-838B-00FA528EF5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TATE PAI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TWO STATES BEGIN WITH THE LETTER "V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TWO STATES DON'T BORDER AN OCEAN, GREAT LAKE, ANOTHER COUNTRY, OR ANY STATE THAT BORDERS ONE OF THO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457200" y="502920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ORTH  &amp;  SOUTH  DAKO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457200" y="76212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FTER CONTROVERSY OVER WHERE THE CAPITAL OF THIS TERRITORY SHOULD BE, IT WAS SPLIT INTO WHICH TWO U.S. STATES, WHICH JOINED THE UNION ON THE SAME DA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OUISIANA  &amp;  ALAS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304920" y="762120"/>
            <a:ext cx="853416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TWO STATES DON'T HAVE COUNTIES, BUT INSTEAD HAVE PARISHES OR BOROUGH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53352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ORTH DAKOTA  &amp;  MINNESO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TWO STATES BORDER MANITOBA, CANAD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LORADO  &amp;  WYOM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TWO STATES HAVE BORDERS THAT ARE ALMOST EXACTLY RECTANGL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380880" y="4952880"/>
            <a:ext cx="83822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EBRASKA  &amp; MISSISSIPP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457200" y="762120"/>
            <a:ext cx="82296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ICH TWO STATES IS IT ILLEGAL TO MARRY AT AGE 18 WITHOUT PARENTAL CONSENT OR COURT ORD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LORIDA  &amp;  HAWA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457200" y="762120"/>
            <a:ext cx="82296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TWO STATES HAVE AN AVERAGE TEMPERATURE OF ABOVE 7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FAHRENHEI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53352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RIZONA  &amp;  NEW MEXI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AND FROM WHICH TWO STATES WAS PART OF THE "GADSDEN PURCHAS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FTER CONTROVERSY OVER WHERE THE CAPITAL OF THIS TERRITORY SHOULD BE, IT WAS SPLIT INTO WHICH TWO U.S. STATES, WHICH JOINED THE UNION ON THE SAME DAY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EST  VIRGINIA  &amp;  KENTUCK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457200" y="762120"/>
            <a:ext cx="822960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ICH TWO APPALACHIAN STATES ARE BEAGLES MORE POPULAR AS PETS THAN LABRADOR RETRIEV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VIRGINIA  &amp;  VERMO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457200" y="76212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TWO STATES BEGIN WITH THE LETTER "V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ANSAS  &amp;  NEBRAS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457200" y="76212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TWO STATES DON'T BORDER AN OCEAN, GREAT LAKE, ANOTHER COUNTRY, OR ANY STATE THAT BORDERS ONE OF THO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266760" y="761760"/>
            <a:ext cx="8610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TWO STATES DON'T HAVE COUNTIES, BUT INSTEAD HAVE PARISHES OR BOROUGH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TWO STATES BORDER MANITOBA, CANAD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TWO STATES HAVE BORDERS THAT ARE ALMOST EXACTLY RECTANGL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72396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ICH TWO STATES IS IT ILLEGAL TO MARRY AT AGE 18 WITHOUT PARENTAL CONSENT OR COURT ORD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TWO STATES HAVE AN AVERAGE TEMPERATURE OF ABOVE 7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FAHRENHEI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AND FROM WHICH TWO STATES WAS PART OF THE "GADSDEN PURCHAS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ICH TWO APPALACHIAN STATES ARE BEAGLES MORE POPULAR AS PETS THAN LABRADOR RETRIEVE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3T16:52:51Z</dcterms:created>
  <dc:creator>Jennifer Budzinski</dc:creator>
  <dc:description/>
  <dc:language>en-US</dc:language>
  <cp:lastModifiedBy>Erich Friedman</cp:lastModifiedBy>
  <dcterms:modified xsi:type="dcterms:W3CDTF">2020-08-30T19:26:56Z</dcterms:modified>
  <cp:revision>285</cp:revision>
  <dc:subject/>
  <dc:title>Slide 1</dc:title>
</cp:coreProperties>
</file>