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CEFE-F6AF-4571-AD37-224B3771F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7B3B-AFB9-4170-9268-AD110199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FFF8-B474-4CAB-8F26-8F16E8CC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32CA-E97B-4A56-99D1-7816BB2DC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988B-C764-455A-AF75-FEF427FAC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A95D-3343-4511-9C3E-083E67892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0ABC-8908-46E0-AEB9-E8FD67578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AE3E-23D9-49FA-B73E-7AD3DFBBF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67B3-5F84-4CB1-ACD7-FBF202BBE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0B61-4739-4EF8-B8A6-41574E897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96DC-83CA-4ED2-9B7E-96679CD76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08B2-216C-4309-9EDA-431CEDA10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3F72-1473-4018-906A-7E8011317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8681-F234-4B97-969D-4CE0B6A5A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FFA4-33A6-4122-960F-399AE2B26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6653-807C-40F3-B15E-BE570F91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A057-6960-4939-ABF1-BE88F6D0A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E495-F288-439A-924C-3F16ED402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2B68-2A08-47E5-84F8-A2CD5E715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CDCB-15B8-4BB0-A4B7-74CE783CF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850D-FE9C-447E-B038-0AF2A379D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231C-A202-4BF0-A493-67B551316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7756-91CB-4352-8198-AF29A9F1C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: LOUISIANA OR LOS ANGE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OLDEST CATHEDRAL IN NORTH AMERICA IN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657600" cy="43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POPULATION? 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10  VS. 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S THE SUPER BOWL BEEN PLAYED MORE TIMES IN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43080" y="43434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                            ($700  BILLION  VS.  $200 BILL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7944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GDP (GROSS DOMESTIC PRODUCT)?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ELLEN DEGENERES BORN IN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905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32%  VS.  10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PERCENTAGE OF AFRICAN- AMERICANS? 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1812  VS. 183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LOUISIANA BECOMING A STATE, OR LOS ANGELES BECOMING A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(58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VS.  67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ERE IS IT COLDER IN THE WINTER,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259  VS.  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THE DEATH TOLL HIGHER IN THE 1994 LOS ANGELES EARTHQUAKE, OR THE 1969 HURRICANE THAT HIT LOUISI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S THE SUPER BOWL BEEN PLAYED MORE TIMES IN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IT LOUISIANA OR LOS ANGELES THAT CONTAINS PART OF INTERSTATE HIGHWAYS 5 AND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-76320" y="838080"/>
            <a:ext cx="5029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OLDEST CATHEDRAL IN NORTH AMERICA IN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657600" cy="43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4.7  VS.  3.8  MILL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POPULATION? 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GDP (GROSS DOMESTIC PRODUCT)?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ELLEN DEGENERES BORN IN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PERCENTAGE OF AFRICAN- AMERICANS? 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LOUISIANA BECOMING A STATE, OR LOS ANGELES BECOMING A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ERE IS IT COLDER IN THE WINTER,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THE DEATH TOLL HIGHER IN THE 1994 LOS ANGELES EARTHQUAKE, OR THE 1969 HURRICANE THAT HIT LOUISI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IT LOUISIANA OR LOS ANGELES THAT CONTAINS PART OF INTERSTATE HIGHWAYS 5 AND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19:15:39Z</dcterms:created>
  <dc:creator>Jennifer Budzinski</dc:creator>
  <dc:description/>
  <dc:language>en-US</dc:language>
  <cp:lastModifiedBy>Erich Friedman</cp:lastModifiedBy>
  <dcterms:modified xsi:type="dcterms:W3CDTF">2020-08-30T19:41:24Z</dcterms:modified>
  <cp:revision>358</cp:revision>
  <dc:subject/>
  <dc:title>Slide 1</dc:title>
</cp:coreProperties>
</file>