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53DA-B103-478D-8FAE-FE39185F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61A0-C032-4FD5-95D7-F12E1D0F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E78-FE8B-458F-A4D4-3913A0F8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1DDA-82FC-4B40-AC1A-4B4E56AB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589A-F701-4C4F-B678-C1D9894D1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533-AB07-445F-8235-DF9B95DF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960-1559-4E8E-A551-563210E5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8907-8E5E-4A01-8FCE-03996E8DE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B37D-C70D-493D-A121-CC1EA86D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91F-5047-432F-B7B1-23B24A4F1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050F-2054-45B4-AEE5-E7AF5408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30E-30EA-44AB-9BB9-10BAA09D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0E2B-C2B2-4904-BB23-27D610A4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8B8-C080-4601-853A-BD49DDFD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549C-9D39-4791-9A55-1882BFEE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1145-3ED5-4206-BE9C-82DE5548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0B31-1223-4442-B0A6-7785823A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967D-FFD2-42C7-B0A4-05876133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8E2-4F7F-4B75-9B00-BE18F968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3BA7-C9DA-4DE2-8EBF-D7FC51A64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7CC9-073E-4B60-8F5F-B2C456D8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C97-89DF-4626-99D2-AA601F04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6162-485F-4FE3-843A-96981827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: LOUISIANA OR LOS ANGE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OLDEST CATHEDRAL IN NORTH AMERICA IN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65760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OPULATION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10  VS. 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SUPER BOWL BEEN PLAYED MORE TIMES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43080" y="43434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                            ($700  BILLION  VS.  $200 B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7944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GDP (GROSS DOMESTIC PRODUCT)?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ELLEN DEGENERES BORN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05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32%  VS.  1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ERCENTAGE OF AFRICAN- AMERICANS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1812  VS. 18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OUISIANA BECOMING A STATE, OR LOS ANGELES BECOMING A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(5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S.  67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ERE IS IT COLDER IN THE WINTER,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259  VS.  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DEATH TOLL HIGHER IN THE 1994 LOS ANGELES EARTHQUAKE, OR THE 1969 HURRICANE THAT HIT LOUISI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SUPER BOWL BEEN PLAYED MORE TIMES IN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LOUISIANA OR LOS ANGELES THAT CONTAINS PART OF INTERSTATE HIGHWAYS 5 AND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-76320" y="838080"/>
            <a:ext cx="5029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OLDEST CATHEDRAL IN NORTH AMERICA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657600" cy="43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4.7  VS.  3.8  M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OPULATION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GDP (GROSS DOMESTIC PRODUCT)?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ELLEN DEGENERES BORN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ERCENTAGE OF AFRICAN- AMERICANS? 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OUISIANA BECOMING A STATE, OR LOS ANGELES BECOMING A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ERE IS IT COLDER IN THE WINTER,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DEATH TOLL HIGHER IN THE 1994 LOS ANGELES EARTHQUAKE, OR THE 1969 HURRICANE THAT HIT LOUISI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LOUISIANA OR LOS ANGELES THAT CONTAINS PART OF INTERSTATE HIGHWAYS 5 AND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19:15:39Z</dcterms:created>
  <dc:creator>Jennifer Budzinski</dc:creator>
  <dc:description/>
  <dc:language>en-US</dc:language>
  <cp:lastModifiedBy>Erich Friedman</cp:lastModifiedBy>
  <dcterms:modified xsi:type="dcterms:W3CDTF">2020-08-30T19:41:24Z</dcterms:modified>
  <cp:revision>358</cp:revision>
  <dc:subject/>
  <dc:title>Slide 1</dc:title>
</cp:coreProperties>
</file>