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6E96-F8B3-432A-BC3F-0288B92F8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DD6A-034F-4CA7-AC13-7A7287057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D2803-139F-417F-96E1-329854625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2D0-1C0A-4247-8804-C791ED0E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A122-6BDB-4DD6-8F44-5D0EC565F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610D-EC49-4434-8ECE-553A01E5D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49C0-3EE5-4805-A4F6-9E9B6C1DE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2E70-2021-4A2D-9A42-9DF163C3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C75D-AE8D-4993-BE5B-143095F01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22A9-D50A-4FAE-81EE-1CAD90C17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18E8-2DB0-4587-8822-8539D91C2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901E-C709-41C6-B502-8138CFCD2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984A-511F-438C-A3F0-13E78A6D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CE19-2324-4608-B9A9-79FC5F1F4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DC69-A77E-493E-86EC-D520177A3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9CB7-E330-4BF0-83A1-E1A2CE002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E4CC-D200-400D-ADF0-208EC2716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FF43-8408-4F26-831F-546853286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35565-1E8C-47F4-8FC1-B6C0EA0E0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F147-1AAE-475C-AA6D-4DBBAB186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FF82-8235-4A57-8F48-5FC8CD6AA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E853-5B60-4763-9107-8BE0CCD12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B7E7-2140-4C0E-9F7D-ABB7BF6D8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: LOUISIANA OR LOS ANGE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OLDEST CATHEDRAL IN NORTH AMERICA IN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657600" cy="43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OPULATION? 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10  VS.  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S THE SUPER BOWL BEEN PLAYED MORE TIMES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343080" y="4343400"/>
            <a:ext cx="8458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                            ($700  BILLION  VS.  $200 BILL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37944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GDP (GROSS DOMESTIC PRODUCT)?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9276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ELLEN DEGENERES BORN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9053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32%  VS.  10%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ERCENTAGE OF AFRICAN- AMERICANS? 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1812  VS. 183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OUISIANA BECOMING A STATE, OR LOS ANGELES BECOMING A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  (5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VS.  67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ERE IS IT COLDER IN THE WINTER,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259  VS.  5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DEATH TOLL HIGHER IN THE 1994 LOS ANGELES EARTHQUAKE, OR THE 1969 HURRICANE THAT HIT LOUISIA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S THE SUPER BOWL BEEN PLAYED MORE TIMES IN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LOUISIANA OR LOS ANGELES THAT CONTAINS PART OF INTERSTATE HIGHWAYS 5 AND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-76320" y="838080"/>
            <a:ext cx="50292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OLDEST CATHEDRAL IN NORTH AMERICA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657600" cy="437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IANA  (4.7  VS.  3.8  MILL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990720" y="762120"/>
            <a:ext cx="7162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OPULATION? 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GDP (GROSS DOMESTIC PRODUCT)?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ELLEN DEGENERES BORN IN LOUISIANA OR LOS ANGE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LARGER PERCENTAGE OF AFRICAN- AMERICANS? 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AME FIRST?  LOUISIANA BECOMING A STATE, OR LOS ANGELES BECOMING A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VERAGE, WHERE IS IT COLDER IN THE WINTER, LOUISIANA OR LOS ANGE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DEATH TOLL HIGHER IN THE 1994 LOS ANGELES EARTHQUAKE, OR THE 1969 HURRICANE THAT HIT LOUISIA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IT LOUISIANA OR LOS ANGELES THAT CONTAINS PART OF INTERSTATE HIGHWAYS 5 AND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19:15:39Z</dcterms:created>
  <dc:creator>Jennifer Budzinski</dc:creator>
  <dc:description/>
  <dc:language>en-US</dc:language>
  <cp:lastModifiedBy>Erich Friedman</cp:lastModifiedBy>
  <dcterms:modified xsi:type="dcterms:W3CDTF">2020-08-30T19:41:24Z</dcterms:modified>
  <cp:revision>358</cp:revision>
  <dc:subject/>
  <dc:title>Slide 1</dc:title>
</cp:coreProperties>
</file>