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3D0C-B5C8-441C-8BB9-8FE47B135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03DB-DDFF-49FB-B63E-7DCF73D63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0CE3-8507-4A7D-AA51-D2143EFEB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D571-265D-4374-9E89-166853A86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B8A4-3B75-4807-92ED-4FEC79FE9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2152-2184-4FC0-8BF5-67473FF6C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0A92-AA29-4B03-A32B-BDE6D106D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181D-149D-4705-B749-A6E1DD863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11F19-0CE8-475A-95E3-691D5AD0B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09F0-B7EC-43F4-AAD4-814B5E466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404B-CBD1-4478-9857-D6E9A7FD1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A88E-FEB7-42AF-A819-2FA87A969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A6AB-2661-453E-A4B2-3E7D896A4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DC1E-3E69-4E0C-A557-D23DC1958B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A543-6801-49E6-B513-9FB927FB9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0D30-7DA9-4D74-B088-7F256EB7A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70C6-7496-4DAE-A10C-FD415FB61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B2FE-41BF-4E4E-BD9A-E74A5F091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5AF7-AEED-4500-893C-C10CE678B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BB78-23C4-422A-8B95-57F568B67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780D-6B8B-49B6-87EC-2F1DF61C3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9EA4-EA91-40CD-A50E-DEB90DEAD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9295-3928-4CA4-935D-4AAD21C24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19320" y="133344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WHAT COUNTRIES ARE THESE BUILDINGS LOCATE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dome_of_the_rock-israel.jpg"/>
          <p:cNvPicPr/>
          <p:nvPr/>
        </p:nvPicPr>
        <p:blipFill>
          <a:blip r:embed="rId1"/>
          <a:stretch/>
        </p:blipFill>
        <p:spPr>
          <a:xfrm>
            <a:off x="1770120" y="1371600"/>
            <a:ext cx="5603760" cy="37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Notre-Dame-france.jpg"/>
          <p:cNvPicPr/>
          <p:nvPr/>
        </p:nvPicPr>
        <p:blipFill>
          <a:blip r:embed="rId1"/>
          <a:stretch/>
        </p:blipFill>
        <p:spPr>
          <a:xfrm>
            <a:off x="2706840" y="1371600"/>
            <a:ext cx="37303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  (TAJ  MAH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taj mahal-india.jpg"/>
          <p:cNvPicPr/>
          <p:nvPr/>
        </p:nvPicPr>
        <p:blipFill>
          <a:blip r:embed="rId1"/>
          <a:stretch/>
        </p:blipFill>
        <p:spPr>
          <a:xfrm>
            <a:off x="2286000" y="1523880"/>
            <a:ext cx="47577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910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CE  (THE ACROPOL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cropolis-greece.jpg"/>
          <p:cNvPicPr/>
          <p:nvPr/>
        </p:nvPicPr>
        <p:blipFill>
          <a:blip r:embed="rId1"/>
          <a:stretch/>
        </p:blipFill>
        <p:spPr>
          <a:xfrm>
            <a:off x="1905120" y="1447920"/>
            <a:ext cx="53146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  (ST.  BASIL'S  CATHEDR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t. basil's cathedral-russia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76320" y="495288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  (SYDNEY  OPERA  HOU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ydney opera house-australia.jpg"/>
          <p:cNvPicPr/>
          <p:nvPr/>
        </p:nvPicPr>
        <p:blipFill>
          <a:blip r:embed="rId1"/>
          <a:stretch/>
        </p:blipFill>
        <p:spPr>
          <a:xfrm>
            <a:off x="2286000" y="1447920"/>
            <a:ext cx="46893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YPT  (PYRAMIDS  OF  GIZ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pyramids of giza-egypt.jpg"/>
          <p:cNvPicPr/>
          <p:nvPr/>
        </p:nvPicPr>
        <p:blipFill>
          <a:blip r:embed="rId1"/>
          <a:stretch/>
        </p:blipFill>
        <p:spPr>
          <a:xfrm>
            <a:off x="1774800" y="1447920"/>
            <a:ext cx="55944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88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02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  (GUGGENHEIM  MUSE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uggenheim museum-spain.jpg"/>
          <p:cNvPicPr/>
          <p:nvPr/>
        </p:nvPicPr>
        <p:blipFill>
          <a:blip r:embed="rId1"/>
          <a:stretch/>
        </p:blipFill>
        <p:spPr>
          <a:xfrm>
            <a:off x="2170080" y="1446120"/>
            <a:ext cx="48038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9104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  (WESTMINSTER  ABB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westminster abbey-england.jpg"/>
          <p:cNvPicPr/>
          <p:nvPr/>
        </p:nvPicPr>
        <p:blipFill>
          <a:blip r:embed="rId1"/>
          <a:stretch/>
        </p:blipFill>
        <p:spPr>
          <a:xfrm>
            <a:off x="2247840" y="1371600"/>
            <a:ext cx="4648320" cy="32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taj mahal-india.jpg"/>
          <p:cNvPicPr/>
          <p:nvPr/>
        </p:nvPicPr>
        <p:blipFill>
          <a:blip r:embed="rId1"/>
          <a:stretch/>
        </p:blipFill>
        <p:spPr>
          <a:xfrm>
            <a:off x="2192400" y="1447920"/>
            <a:ext cx="47592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  (THE COLOSSEU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olosseum-italy.jpg"/>
          <p:cNvPicPr/>
          <p:nvPr/>
        </p:nvPicPr>
        <p:blipFill>
          <a:blip r:embed="rId1"/>
          <a:stretch/>
        </p:blipFill>
        <p:spPr>
          <a:xfrm>
            <a:off x="1982880" y="1371600"/>
            <a:ext cx="517824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33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RAEL  (DOME  OF  THE  R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dome_of_the_rock-israel.jpg"/>
          <p:cNvPicPr/>
          <p:nvPr/>
        </p:nvPicPr>
        <p:blipFill>
          <a:blip r:embed="rId1"/>
          <a:stretch/>
        </p:blipFill>
        <p:spPr>
          <a:xfrm>
            <a:off x="1876320" y="1371600"/>
            <a:ext cx="5391360" cy="358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  (NOTRE–DA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Notre-Dame-france.jpg"/>
          <p:cNvPicPr/>
          <p:nvPr/>
        </p:nvPicPr>
        <p:blipFill>
          <a:blip r:embed="rId1"/>
          <a:stretch/>
        </p:blipFill>
        <p:spPr>
          <a:xfrm>
            <a:off x="2838600" y="1371600"/>
            <a:ext cx="346680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cropolis-greece.jpg"/>
          <p:cNvPicPr/>
          <p:nvPr/>
        </p:nvPicPr>
        <p:blipFill>
          <a:blip r:embed="rId1"/>
          <a:stretch/>
        </p:blipFill>
        <p:spPr>
          <a:xfrm>
            <a:off x="1905120" y="1447920"/>
            <a:ext cx="53146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t. basil's cathedral-russia.jpg"/>
          <p:cNvPicPr/>
          <p:nvPr/>
        </p:nvPicPr>
        <p:blipFill>
          <a:blip r:embed="rId1"/>
          <a:stretch/>
        </p:blipFill>
        <p:spPr>
          <a:xfrm>
            <a:off x="1523880" y="133344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ydney opera house-australia.jpg"/>
          <p:cNvPicPr/>
          <p:nvPr/>
        </p:nvPicPr>
        <p:blipFill>
          <a:blip r:embed="rId1"/>
          <a:stretch/>
        </p:blipFill>
        <p:spPr>
          <a:xfrm>
            <a:off x="2286000" y="1447920"/>
            <a:ext cx="468936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pyramids of giza-egypt.jpg"/>
          <p:cNvPicPr/>
          <p:nvPr/>
        </p:nvPicPr>
        <p:blipFill>
          <a:blip r:embed="rId1"/>
          <a:stretch/>
        </p:blipFill>
        <p:spPr>
          <a:xfrm>
            <a:off x="1774800" y="1450800"/>
            <a:ext cx="55944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uggenheim museum-spain.jpg"/>
          <p:cNvPicPr/>
          <p:nvPr/>
        </p:nvPicPr>
        <p:blipFill>
          <a:blip r:embed="rId1"/>
          <a:stretch/>
        </p:blipFill>
        <p:spPr>
          <a:xfrm>
            <a:off x="2170080" y="1447920"/>
            <a:ext cx="48038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westminster abbey-england.jpg"/>
          <p:cNvPicPr/>
          <p:nvPr/>
        </p:nvPicPr>
        <p:blipFill>
          <a:blip r:embed="rId1"/>
          <a:stretch/>
        </p:blipFill>
        <p:spPr>
          <a:xfrm>
            <a:off x="2247840" y="1371600"/>
            <a:ext cx="464832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olosseum-italy.jpg"/>
          <p:cNvPicPr/>
          <p:nvPr/>
        </p:nvPicPr>
        <p:blipFill>
          <a:blip r:embed="rId1"/>
          <a:stretch/>
        </p:blipFill>
        <p:spPr>
          <a:xfrm>
            <a:off x="1982880" y="1447920"/>
            <a:ext cx="5178240" cy="3352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1T14:47:43Z</dcterms:modified>
  <cp:revision>286</cp:revision>
  <dc:subject/>
  <dc:title>Slide 1</dc:title>
</cp:coreProperties>
</file>