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1A2-E16A-4889-8AC6-E8699E60C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F57-4885-4DC1-9AAF-E64C2A13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8900-8C35-4F2B-B518-B5D5B954B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2972-8F90-40D9-8852-FF3F38E8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B98-86CB-4C9E-8DD0-981DE9EE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8CED-6826-4EE3-8D95-E54622AC9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DFA3-33A8-4C6F-9725-30E67D66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61C2-4F73-4C19-BC94-F05FCCC7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7DAF-418B-4359-B4F4-4209C1F8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EBC3-09FB-4AF4-AE40-9AAE07ECA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06D-9C32-4F06-A919-6D5FEF2A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6B7C-1A79-4920-8E51-86E6D17C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D18-1276-4D51-9B8C-4EE6A17E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2553-C6C6-4458-ACC2-ECC24E7F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FB9-8F81-4A4E-B13C-0F2BD8387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5BAD-E711-44C4-8800-33F8B842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C61-4E53-4D09-A2A2-C6E71A14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EE50-EE20-4272-99A5-5A60112C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A01-EE08-4385-B603-BA96EA61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9AAA-3BBA-4D61-93E6-4ACB6257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DB3E-87FD-4F1B-A8A2-8C8162D8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B025-91BB-46D5-A02F-EEE9501B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ED2B-D3E6-4E97-B5FE-04094A60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33344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WHAT COUNTRIES ARE THESE BUILDINGS LOCA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ome_of_the_rock-israel.jpg"/>
          <p:cNvPicPr/>
          <p:nvPr/>
        </p:nvPicPr>
        <p:blipFill>
          <a:blip r:embed="rId1"/>
          <a:stretch/>
        </p:blipFill>
        <p:spPr>
          <a:xfrm>
            <a:off x="1770120" y="1371600"/>
            <a:ext cx="560376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Notre-Dame-france.jpg"/>
          <p:cNvPicPr/>
          <p:nvPr/>
        </p:nvPicPr>
        <p:blipFill>
          <a:blip r:embed="rId1"/>
          <a:stretch/>
        </p:blipFill>
        <p:spPr>
          <a:xfrm>
            <a:off x="2706840" y="1371600"/>
            <a:ext cx="37303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  (TAJ  MAH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aj mahal-india.jpg"/>
          <p:cNvPicPr/>
          <p:nvPr/>
        </p:nvPicPr>
        <p:blipFill>
          <a:blip r:embed="rId1"/>
          <a:stretch/>
        </p:blipFill>
        <p:spPr>
          <a:xfrm>
            <a:off x="2286000" y="1523880"/>
            <a:ext cx="47577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910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CE  (THE ACROPOL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cropolis-greece.jpg"/>
          <p:cNvPicPr/>
          <p:nvPr/>
        </p:nvPicPr>
        <p:blipFill>
          <a:blip r:embed="rId1"/>
          <a:stretch/>
        </p:blipFill>
        <p:spPr>
          <a:xfrm>
            <a:off x="1905120" y="1447920"/>
            <a:ext cx="5314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  (ST.  BASIL'S  CATHED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t. basil's cathedral-russ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76320" y="49528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  (SYDNEY  OPERA  HOU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ydney opera house-australia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89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  (PYRAMIDS  OF  GI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yramids of giza-egypt.jpg"/>
          <p:cNvPicPr/>
          <p:nvPr/>
        </p:nvPicPr>
        <p:blipFill>
          <a:blip r:embed="rId1"/>
          <a:stretch/>
        </p:blipFill>
        <p:spPr>
          <a:xfrm>
            <a:off x="1774800" y="1447920"/>
            <a:ext cx="5594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88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02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  (GUGGENHEIM  MUS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uggenheim museum-spain.jpg"/>
          <p:cNvPicPr/>
          <p:nvPr/>
        </p:nvPicPr>
        <p:blipFill>
          <a:blip r:embed="rId1"/>
          <a:stretch/>
        </p:blipFill>
        <p:spPr>
          <a:xfrm>
            <a:off x="2170080" y="144612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9104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  (WESTMINSTER  ABB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westminster abbey-england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taj mahal-india.jpg"/>
          <p:cNvPicPr/>
          <p:nvPr/>
        </p:nvPicPr>
        <p:blipFill>
          <a:blip r:embed="rId1"/>
          <a:stretch/>
        </p:blipFill>
        <p:spPr>
          <a:xfrm>
            <a:off x="2192400" y="1447920"/>
            <a:ext cx="4759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  (THE COLOSS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olosseum-italy.jpg"/>
          <p:cNvPicPr/>
          <p:nvPr/>
        </p:nvPicPr>
        <p:blipFill>
          <a:blip r:embed="rId1"/>
          <a:stretch/>
        </p:blipFill>
        <p:spPr>
          <a:xfrm>
            <a:off x="1982880" y="1371600"/>
            <a:ext cx="51782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33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RAEL  (DOME  OF  THE  R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ome_of_the_rock-israel.jpg"/>
          <p:cNvPicPr/>
          <p:nvPr/>
        </p:nvPicPr>
        <p:blipFill>
          <a:blip r:embed="rId1"/>
          <a:stretch/>
        </p:blipFill>
        <p:spPr>
          <a:xfrm>
            <a:off x="1876320" y="1371600"/>
            <a:ext cx="5391360" cy="35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NOTRE–D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Notre-Dame-france.jpg"/>
          <p:cNvPicPr/>
          <p:nvPr/>
        </p:nvPicPr>
        <p:blipFill>
          <a:blip r:embed="rId1"/>
          <a:stretch/>
        </p:blipFill>
        <p:spPr>
          <a:xfrm>
            <a:off x="2838600" y="1371600"/>
            <a:ext cx="346680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cropolis-greece.jpg"/>
          <p:cNvPicPr/>
          <p:nvPr/>
        </p:nvPicPr>
        <p:blipFill>
          <a:blip r:embed="rId1"/>
          <a:stretch/>
        </p:blipFill>
        <p:spPr>
          <a:xfrm>
            <a:off x="1905120" y="1447920"/>
            <a:ext cx="5314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t. basil's cathedral-russia.jpg"/>
          <p:cNvPicPr/>
          <p:nvPr/>
        </p:nvPicPr>
        <p:blipFill>
          <a:blip r:embed="rId1"/>
          <a:stretch/>
        </p:blipFill>
        <p:spPr>
          <a:xfrm>
            <a:off x="1523880" y="133344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ydney opera house-australia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89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yramids of giza-egypt.jpg"/>
          <p:cNvPicPr/>
          <p:nvPr/>
        </p:nvPicPr>
        <p:blipFill>
          <a:blip r:embed="rId1"/>
          <a:stretch/>
        </p:blipFill>
        <p:spPr>
          <a:xfrm>
            <a:off x="1774800" y="1450800"/>
            <a:ext cx="55944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uggenheim museum-spain.jpg"/>
          <p:cNvPicPr/>
          <p:nvPr/>
        </p:nvPicPr>
        <p:blipFill>
          <a:blip r:embed="rId1"/>
          <a:stretch/>
        </p:blipFill>
        <p:spPr>
          <a:xfrm>
            <a:off x="2170080" y="144792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westminster abbey-england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olosseum-italy.jpg"/>
          <p:cNvPicPr/>
          <p:nvPr/>
        </p:nvPicPr>
        <p:blipFill>
          <a:blip r:embed="rId1"/>
          <a:stretch/>
        </p:blipFill>
        <p:spPr>
          <a:xfrm>
            <a:off x="1982880" y="1447920"/>
            <a:ext cx="51782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4:47:43Z</dcterms:modified>
  <cp:revision>286</cp:revision>
  <dc:subject/>
  <dc:title>Slide 1</dc:title>
</cp:coreProperties>
</file>