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1813-C9D0-4A1E-8958-76AD9693C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25FB-983D-48FF-8788-9A6E9B5DC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7C32-03E5-4D00-944F-DF23E1EF4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28C5-1607-4EEB-BB8D-5846E977B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DDF5-1F64-4169-8E88-EE7C2EFC5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2B61-E087-4C2D-B2AF-4675187F4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1003-0655-4685-BAFE-0572F0B35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350A-5B60-4355-B7BD-907DBD2B1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760C-A609-4685-9CB6-41033B132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AB45-78E8-4050-AF83-296AF34BB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3D65-4537-4881-95C1-8032C1E66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2280-67D4-4F43-B2F9-8CF6838A9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19F3-4909-4A92-9C4B-A46D48775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26AA-4E66-4D94-B6E8-B837B3571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BA40-A79B-4D6E-9D48-0085B11F3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0116-85B4-4279-877C-BA1A08277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0F6A-4217-492C-A417-BAC4E71C9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EBB5-1002-4E0F-81E2-D5A6CE8AB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1DDF-42CA-48DD-9D3D-52077E74D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3167-C466-40DA-9E5F-F31FE7FB0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1200-B469-46F7-A8AA-58B050998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E12C-C672-47D1-848A-B0DCDCFF1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AEDB-AFD8-48FB-A820-1E5B5563E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19320" y="1333440"/>
            <a:ext cx="6705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WHAT COUNTRIES ARE THESE BUILDINGS LOCAT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dome_of_the_rock-israel.jpg"/>
          <p:cNvPicPr/>
          <p:nvPr/>
        </p:nvPicPr>
        <p:blipFill>
          <a:blip r:embed="rId1"/>
          <a:stretch/>
        </p:blipFill>
        <p:spPr>
          <a:xfrm>
            <a:off x="1770120" y="1371600"/>
            <a:ext cx="5603760" cy="37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Notre-Dame-france.jpg"/>
          <p:cNvPicPr/>
          <p:nvPr/>
        </p:nvPicPr>
        <p:blipFill>
          <a:blip r:embed="rId1"/>
          <a:stretch/>
        </p:blipFill>
        <p:spPr>
          <a:xfrm>
            <a:off x="2706840" y="1371600"/>
            <a:ext cx="37303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  (TAJ  MAH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taj mahal-india.jpg"/>
          <p:cNvPicPr/>
          <p:nvPr/>
        </p:nvPicPr>
        <p:blipFill>
          <a:blip r:embed="rId1"/>
          <a:stretch/>
        </p:blipFill>
        <p:spPr>
          <a:xfrm>
            <a:off x="2286000" y="1523880"/>
            <a:ext cx="475776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9104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CE  (THE ACROPOL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acropolis-greece.jpg"/>
          <p:cNvPicPr/>
          <p:nvPr/>
        </p:nvPicPr>
        <p:blipFill>
          <a:blip r:embed="rId1"/>
          <a:stretch/>
        </p:blipFill>
        <p:spPr>
          <a:xfrm>
            <a:off x="1905120" y="1447920"/>
            <a:ext cx="53146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  (ST.  BASIL'S  CATHEDR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st. basil's cathedral-russia.jpg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76320" y="4952880"/>
            <a:ext cx="8991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RALIA  (SYDNEY  OPERA  HOU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sydney opera house-australia.jpg"/>
          <p:cNvPicPr/>
          <p:nvPr/>
        </p:nvPicPr>
        <p:blipFill>
          <a:blip r:embed="rId1"/>
          <a:stretch/>
        </p:blipFill>
        <p:spPr>
          <a:xfrm>
            <a:off x="2286000" y="1447920"/>
            <a:ext cx="468936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YPT  (PYRAMIDS  OF  GIZ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pyramids of giza-egypt.jpg"/>
          <p:cNvPicPr/>
          <p:nvPr/>
        </p:nvPicPr>
        <p:blipFill>
          <a:blip r:embed="rId1"/>
          <a:stretch/>
        </p:blipFill>
        <p:spPr>
          <a:xfrm>
            <a:off x="1774800" y="1447920"/>
            <a:ext cx="55944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88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02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IN  (GUGGENHEIM  MUSEU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guggenheim museum-spain.jpg"/>
          <p:cNvPicPr/>
          <p:nvPr/>
        </p:nvPicPr>
        <p:blipFill>
          <a:blip r:embed="rId1"/>
          <a:stretch/>
        </p:blipFill>
        <p:spPr>
          <a:xfrm>
            <a:off x="2170080" y="1446120"/>
            <a:ext cx="480384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9104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AND  (WESTMINSTER  ABBE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westminster abbey-england.jpg"/>
          <p:cNvPicPr/>
          <p:nvPr/>
        </p:nvPicPr>
        <p:blipFill>
          <a:blip r:embed="rId1"/>
          <a:stretch/>
        </p:blipFill>
        <p:spPr>
          <a:xfrm>
            <a:off x="2247840" y="1371600"/>
            <a:ext cx="464832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taj mahal-india.jpg"/>
          <p:cNvPicPr/>
          <p:nvPr/>
        </p:nvPicPr>
        <p:blipFill>
          <a:blip r:embed="rId1"/>
          <a:stretch/>
        </p:blipFill>
        <p:spPr>
          <a:xfrm>
            <a:off x="2192400" y="1447920"/>
            <a:ext cx="47592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ALY  (THE COLOSSEU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colosseum-italy.jpg"/>
          <p:cNvPicPr/>
          <p:nvPr/>
        </p:nvPicPr>
        <p:blipFill>
          <a:blip r:embed="rId1"/>
          <a:stretch/>
        </p:blipFill>
        <p:spPr>
          <a:xfrm>
            <a:off x="1982880" y="1371600"/>
            <a:ext cx="517824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33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RAEL  (DOME  OF  THE  RO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dome_of_the_rock-israel.jpg"/>
          <p:cNvPicPr/>
          <p:nvPr/>
        </p:nvPicPr>
        <p:blipFill>
          <a:blip r:embed="rId1"/>
          <a:stretch/>
        </p:blipFill>
        <p:spPr>
          <a:xfrm>
            <a:off x="1876320" y="1371600"/>
            <a:ext cx="5391360" cy="358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  (NOTRE–DA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Notre-Dame-france.jpg"/>
          <p:cNvPicPr/>
          <p:nvPr/>
        </p:nvPicPr>
        <p:blipFill>
          <a:blip r:embed="rId1"/>
          <a:stretch/>
        </p:blipFill>
        <p:spPr>
          <a:xfrm>
            <a:off x="2838600" y="1371600"/>
            <a:ext cx="3466800" cy="36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acropolis-greece.jpg"/>
          <p:cNvPicPr/>
          <p:nvPr/>
        </p:nvPicPr>
        <p:blipFill>
          <a:blip r:embed="rId1"/>
          <a:stretch/>
        </p:blipFill>
        <p:spPr>
          <a:xfrm>
            <a:off x="1905120" y="1447920"/>
            <a:ext cx="53146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st. basil's cathedral-russia.jpg"/>
          <p:cNvPicPr/>
          <p:nvPr/>
        </p:nvPicPr>
        <p:blipFill>
          <a:blip r:embed="rId1"/>
          <a:stretch/>
        </p:blipFill>
        <p:spPr>
          <a:xfrm>
            <a:off x="1523880" y="133344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ydney opera house-australia.jpg"/>
          <p:cNvPicPr/>
          <p:nvPr/>
        </p:nvPicPr>
        <p:blipFill>
          <a:blip r:embed="rId1"/>
          <a:stretch/>
        </p:blipFill>
        <p:spPr>
          <a:xfrm>
            <a:off x="2286000" y="1447920"/>
            <a:ext cx="46893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pyramids of giza-egypt.jpg"/>
          <p:cNvPicPr/>
          <p:nvPr/>
        </p:nvPicPr>
        <p:blipFill>
          <a:blip r:embed="rId1"/>
          <a:stretch/>
        </p:blipFill>
        <p:spPr>
          <a:xfrm>
            <a:off x="1774800" y="1450800"/>
            <a:ext cx="559440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guggenheim museum-spain.jpg"/>
          <p:cNvPicPr/>
          <p:nvPr/>
        </p:nvPicPr>
        <p:blipFill>
          <a:blip r:embed="rId1"/>
          <a:stretch/>
        </p:blipFill>
        <p:spPr>
          <a:xfrm>
            <a:off x="2170080" y="1447920"/>
            <a:ext cx="48038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westminster abbey-england.jpg"/>
          <p:cNvPicPr/>
          <p:nvPr/>
        </p:nvPicPr>
        <p:blipFill>
          <a:blip r:embed="rId1"/>
          <a:stretch/>
        </p:blipFill>
        <p:spPr>
          <a:xfrm>
            <a:off x="2247840" y="1371600"/>
            <a:ext cx="464832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olosseum-italy.jpg"/>
          <p:cNvPicPr/>
          <p:nvPr/>
        </p:nvPicPr>
        <p:blipFill>
          <a:blip r:embed="rId1"/>
          <a:stretch/>
        </p:blipFill>
        <p:spPr>
          <a:xfrm>
            <a:off x="1982880" y="1447920"/>
            <a:ext cx="5178240" cy="335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1T14:47:43Z</dcterms:modified>
  <cp:revision>286</cp:revision>
  <dc:subject/>
  <dc:title>Slide 1</dc:title>
</cp:coreProperties>
</file>