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EAEC-FED8-43FA-A984-1CCF12EA8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A72C-8225-4B93-A4E2-FC6128CA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6ACC-7E3E-49F7-B911-B249823FC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D59-F596-44D6-8545-084849AC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00A-B904-4164-8151-2244B899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EA24-CC1C-4B87-9D04-E505C4CFB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B72-8F4F-4E8D-9657-EB49058F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2E8C-3BE8-49FA-A0DE-5DC3EBD1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9D57-E69A-48ED-9EF9-C3ABF86C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FE6E-659D-4D88-9DF6-F763F4278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7D1-25D2-4978-8612-E7950DB10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07A1-5398-4B21-94BD-157BF0DC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B43-9E3B-4D83-967B-CEAEC610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A167-4788-4271-ACF9-8E9E9505D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A2B5-0010-4151-978A-9DC47CD31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CBD1-1DE1-4014-A794-D65FEFEF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5F8-DD91-4A82-9BD5-6E15DAF4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11F-52EB-41D1-A270-C5A9A8092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E858-D2AA-44D8-8607-3005B9FC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A8FF-AACC-4808-B738-5FA33B4C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573-5DA2-490C-AB4D-F250E497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E185-04AF-40EF-924B-8816CAA0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0ABF-12DD-4375-9040-4FE3DFDA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OUNTRIES FROM THEIR OUT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208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LAT.gif"/>
          <p:cNvPicPr/>
          <p:nvPr/>
        </p:nvPicPr>
        <p:blipFill>
          <a:blip r:embed="rId1"/>
          <a:stretch/>
        </p:blipFill>
        <p:spPr>
          <a:xfrm>
            <a:off x="1155600" y="1371600"/>
            <a:ext cx="683280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4136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.gif"/>
          <p:cNvPicPr/>
          <p:nvPr/>
        </p:nvPicPr>
        <p:blipFill>
          <a:blip r:embed="rId1"/>
          <a:stretch/>
        </p:blipFill>
        <p:spPr>
          <a:xfrm>
            <a:off x="1063800" y="1447920"/>
            <a:ext cx="69847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Q.gif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J.gif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910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.gif"/>
          <p:cNvPicPr/>
          <p:nvPr/>
        </p:nvPicPr>
        <p:blipFill>
          <a:blip r:embed="rId1"/>
          <a:stretch/>
        </p:blipFill>
        <p:spPr>
          <a:xfrm>
            <a:off x="1000080" y="1333440"/>
            <a:ext cx="71438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B.gif"/>
          <p:cNvPicPr/>
          <p:nvPr/>
        </p:nvPicPr>
        <p:blipFill>
          <a:blip r:embed="rId1"/>
          <a:stretch/>
        </p:blipFill>
        <p:spPr>
          <a:xfrm>
            <a:off x="1104840" y="1344600"/>
            <a:ext cx="6934320" cy="33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ANGOLA.png"/>
          <p:cNvPicPr/>
          <p:nvPr/>
        </p:nvPicPr>
        <p:blipFill>
          <a:blip r:embed="rId1"/>
          <a:stretch/>
        </p:blipFill>
        <p:spPr>
          <a:xfrm>
            <a:off x="1063800" y="1371600"/>
            <a:ext cx="7016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47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.gif"/>
          <p:cNvPicPr/>
          <p:nvPr/>
        </p:nvPicPr>
        <p:blipFill>
          <a:blip r:embed="rId1"/>
          <a:stretch/>
        </p:blipFill>
        <p:spPr>
          <a:xfrm>
            <a:off x="1028880" y="1430280"/>
            <a:ext cx="708660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S.gif"/>
          <p:cNvPicPr/>
          <p:nvPr/>
        </p:nvPicPr>
        <p:blipFill>
          <a:blip r:embed="rId1"/>
          <a:stretch/>
        </p:blipFill>
        <p:spPr>
          <a:xfrm>
            <a:off x="990720" y="1447920"/>
            <a:ext cx="6984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VENEZUELA.png"/>
          <p:cNvPicPr/>
          <p:nvPr/>
        </p:nvPicPr>
        <p:blipFill>
          <a:blip r:embed="rId1"/>
          <a:stretch/>
        </p:blipFill>
        <p:spPr>
          <a:xfrm>
            <a:off x="952560" y="1352520"/>
            <a:ext cx="723888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2080" cy="33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LAT.gif"/>
          <p:cNvPicPr/>
          <p:nvPr/>
        </p:nvPicPr>
        <p:blipFill>
          <a:blip r:embed="rId1"/>
          <a:stretch/>
        </p:blipFill>
        <p:spPr>
          <a:xfrm>
            <a:off x="1155600" y="1351080"/>
            <a:ext cx="683280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Q.gif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J.gif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.gif"/>
          <p:cNvPicPr/>
          <p:nvPr/>
        </p:nvPicPr>
        <p:blipFill>
          <a:blip r:embed="rId1"/>
          <a:stretch/>
        </p:blipFill>
        <p:spPr>
          <a:xfrm>
            <a:off x="1000080" y="1371600"/>
            <a:ext cx="71438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B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ANGOLA.png"/>
          <p:cNvPicPr/>
          <p:nvPr/>
        </p:nvPicPr>
        <p:blipFill>
          <a:blip r:embed="rId1"/>
          <a:stretch/>
        </p:blipFill>
        <p:spPr>
          <a:xfrm>
            <a:off x="1063800" y="1371600"/>
            <a:ext cx="7016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VENEZUELA.png"/>
          <p:cNvPicPr/>
          <p:nvPr/>
        </p:nvPicPr>
        <p:blipFill>
          <a:blip r:embed="rId1"/>
          <a:stretch/>
        </p:blipFill>
        <p:spPr>
          <a:xfrm>
            <a:off x="952560" y="1343160"/>
            <a:ext cx="72388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20:30:02Z</dcterms:created>
  <dc:creator>Jennifer Budzinski</dc:creator>
  <dc:description/>
  <dc:language>en-US</dc:language>
  <cp:lastModifiedBy>Erich Friedman</cp:lastModifiedBy>
  <dcterms:modified xsi:type="dcterms:W3CDTF">2020-09-01T14:50:07Z</dcterms:modified>
  <cp:revision>278</cp:revision>
  <dc:subject/>
  <dc:title>Slide 1</dc:title>
</cp:coreProperties>
</file>