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4ED3-E4FC-4D2A-9632-DA2EF02C4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00B5-A17F-4D50-9938-817ED19B9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D29A-826D-4FB4-B9C8-B17A6537C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2837-D12D-4059-BE42-769056A96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7C03-9C5F-491B-9174-B28D04A12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3318-37B4-40B5-AF66-3932D70DF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AC42-44E8-4926-B504-71B4DFA66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10DA-1B13-4505-9EF1-DB5A5F3F6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036C-A483-4609-8E9A-3C6286F5B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CA4A-68E0-4376-97A5-03D0EE8B6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5C3F-84AF-4FAD-A6CE-89C440700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58F0-FCCE-4F29-B561-DFDF1A7F9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6D04-16EB-4FF3-96E5-290E965E6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6426-D08F-472B-BF65-5AB0DBD21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B37D-EC5C-4D99-AF99-D2BA5A1E0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111C-2022-4159-8666-471B23702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FB39-1A71-4136-8CEF-105A651C5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77F9-50F2-44DE-B708-56753CE18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73EC-A318-4157-A510-34EFFD759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F0E0-299E-4572-A082-512D88485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ED8C-C767-4EFA-AD79-9F17412A6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1D1A-62C3-4AB6-BCF2-B57779066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5445-20C6-4E42-A3BE-F5B2F0E30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PLAC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CHINESE CHECKERS INVENTED?  INDIA, GERMANY, OR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FRENCH BEANS ORIGINATE?  ITALY, MEXICO, OR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AUTHENTIC PANAMA HATS MADE? COSTA RICA, ECUADOR, OR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FRENCH TOAST ORIGINATE?  HUNGARY, ROMANIA, OR SER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19200" y="762120"/>
            <a:ext cx="79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BAVARIAN CREAM FIRST MADE?  FRANCE, GREECE, OR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FRENCH HORNS FIRST MADE?    ITALY, GERMANY, OR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BELGIAN WAFFLES ORIGINATE?  FRANCE, POLAND, OR THE UNITES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09760" y="789120"/>
            <a:ext cx="6324480" cy="32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INDIA INK INVENTED?  CHINA, PAKISTAN, OR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ERE BRAZILIAN WAXES FIRST POPULAR?  CHILE, MEXICO, OR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AUTHENTIC PANAMA HATS MADE? COSTA RICA, ECUADOR, OR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FRENCH FRIES FIRST MADE?  BELGIUM, ENGLAND,   OR THE NETHER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81160" y="762120"/>
            <a:ext cx="6781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CHINESE CHECKERS INVENTED?  INDIA, GERMANY, OR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FRENCH BEANS ORIGINATE?  ITALY, MEXICO, OR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FRENCH TOAST ORIGINATE?  HUNGARY, ROMANIA, OR SER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BAVARIAN CREAM FIRST MADE?  FRANCE, GREECE, OR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FRENCH HORNS FIRST MADE?    ITALY, GERMANY, OR SP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BELGIAN WAFFLES ORIGINATE?  FRANCE, POLAND, OR THE UNITES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INDIA INK INVENTED?  CHINA, PAKISTAN, OR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ERE BRAZILIAN WAXES FIRST POPULAR?  CHILE, MEXICO, OR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FRENCH FRIES FIRST MADE?  BELGIUM, ENGLAND,   OR THE NETHER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21:07:19Z</dcterms:created>
  <dc:creator>Jennifer Budzinski</dc:creator>
  <dc:description/>
  <dc:language>en-US</dc:language>
  <cp:lastModifiedBy>Erich Friedman</cp:lastModifiedBy>
  <dcterms:modified xsi:type="dcterms:W3CDTF">2020-09-01T14:51:59Z</dcterms:modified>
  <cp:revision>348</cp:revision>
  <dc:subject/>
  <dc:title>Slide 1</dc:title>
</cp:coreProperties>
</file>