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061B-F65D-4E36-8CF6-505663825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23F2-AAD0-489F-A20C-1C0B7376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1858-FD31-4FCA-BF65-BAC6B25BE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2844-E154-42E2-9783-49D7C3590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7629-F781-4CE5-AE6C-D689DF90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A75F-BF3F-444E-A866-A6526B084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FBE8-1037-4FB1-9226-34BFD4F29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6230-3079-47AF-AA29-8A56DB283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2D76-82D0-49A3-915B-CC58A3B32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3E73-2896-4F92-B395-F310EB16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B8E0-A0E0-4128-86F4-4BAFF70F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062D-BC06-4674-B8E8-8500A10B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C79-A2CA-43DC-B9ED-6034F6DA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BA07-B2E6-4FF4-864D-52B34DDE1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B1E-B29D-4C1C-A3AF-7108B9417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D7DD-79F1-4A6C-8419-CEA8EC296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74BA-E9EF-4A3E-A02C-2E379C32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1A27-BDE1-4FAD-B482-84B3CF493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1FFA-1CDD-42CC-89EA-4228E03EA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44C5-10B8-4180-A006-CB09C099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8EF0-401E-48CE-B30B-A2997A3C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11EE-E647-4390-BBC5-30DC982B8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4BFD-9F62-47DA-AC17-ED0819E6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PLAC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89120"/>
            <a:ext cx="632448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AUTHENTIC PANAMA HATS MADE? COSTA RICA, ECUADOR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CHINESE CHECKERS INVENTED?  INDIA, GERMANY, OR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BEANS ORIGINATE?  ITALY, MEXICO, O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FRENCH TOAST ORIGINATE?  HUNGARY, ROMANIA, OR SER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BAVARIAN CREAM FIRST MADE?  FRANCE, GREECE, O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HORNS FIRST MADE?    ITALY, GERMANY, O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BELGIAN WAFFLES ORIGINATE?  FRANCE, POLAND, OR THE UNITES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INDIA INK INVENTED?  CHINA, PAKISTAN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WERE BRAZILIAN WAXES FIRST POPULAR?  CHILE, MEXICO, OR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FRENCH FRIES FIRST MADE?  BELGIUM, ENGLAND,   OR THE NETHER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1T14:51:59Z</dcterms:modified>
  <cp:revision>348</cp:revision>
  <dc:subject/>
  <dc:title>Slide 1</dc:title>
</cp:coreProperties>
</file>