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1BE-ADBC-4F7F-860F-16051FC5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5C0-C63A-48C6-A386-6BB0CEA9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BBEF-4302-4C08-AA65-A0C03EE1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0C1B-7182-4D3F-823C-F4CB586F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187-E0E9-4632-9400-3DE3670CB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0D3-D830-4A8D-9842-47E2DC62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8B6-8BAC-4800-A3FE-C6BF7789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B33D-D37C-41C5-8EFC-E946BE55C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3050-34E6-482E-890C-1DAFE0EC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443-C8F7-4B1D-B0A1-C05CFFA0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FCE9-23D2-4C13-B99C-763C0F079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27C-4648-420B-90D9-54255B13E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7492-56BF-4B6A-914B-5883BB264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B691-5682-4702-AFC4-D3E62FAE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FDA8-F06A-41F1-AEDD-28665C64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DF80-67B8-4DBE-88EC-D927A1CCE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419B-7189-437C-8801-776C9665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2E17-2693-4430-921C-4DD434EE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590E-9437-48A1-B09C-793A883D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C7AC-9AD8-455A-BE96-9E96ECD1A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B9C8-FBBD-469A-A6E7-B637C4DDD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B1B0-58E7-440A-BE49-D8252C8E9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78B7-9AAA-4930-A48C-89D3D557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PLAC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CHINESE CHECKERS INVENTED?  INDIA, GERMANY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BEANS ORIGINATE?  ITALY, MEXICO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AUTHENTIC PANAMA HATS MADE? COSTA RICA, ECUADOR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TOAST ORIGINATE?  HUNGARY, ROMANIA, OR SER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19200" y="76212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BAVARIAN CREAM FIRST MADE?  FRANCE, GREECE, O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HORNS FIRST MADE?    ITALY, GERMANY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BELGIAN WAFFLES ORIGINATE?  FRANCE, POLAND, OR THE UNITES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89120"/>
            <a:ext cx="632448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INDIA INK INVENTED?  CHINA, PAKISTAN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BRAZILIAN WAXES FIRST POPULAR?  CHILE, MEXICO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AUTHENTIC PANAMA HATS MADE? COSTA RICA, ECUADOR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FRIES FIRST MADE?  BELGIUM, ENGLAND,   OR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CHINESE CHECKERS INVENTED?  INDIA, GERMANY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BEANS ORIGINATE?  ITALY, MEXICO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TOAST ORIGINATE?  HUNGARY, ROMANIA, OR SER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BAVARIAN CREAM FIRST MADE?  FRANCE, GREECE, O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HORNS FIRST MADE?    ITALY, GERMANY, OR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BELGIAN WAFFLES ORIGINATE?  FRANCE, POLAND, OR THE UNITES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INDIA INK INVENTED?  CHINA, PAKISTAN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BRAZILIAN WAXES FIRST POPULAR?  CHILE, MEXICO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FRIES FIRST MADE?  BELGIUM, ENGLAND,   OR THE NETHER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1:07:19Z</dcterms:created>
  <dc:creator>Jennifer Budzinski</dc:creator>
  <dc:description/>
  <dc:language>en-US</dc:language>
  <cp:lastModifiedBy>Erich Friedman</cp:lastModifiedBy>
  <dcterms:modified xsi:type="dcterms:W3CDTF">2020-09-01T14:51:59Z</dcterms:modified>
  <cp:revision>348</cp:revision>
  <dc:subject/>
  <dc:title>Slide 1</dc:title>
</cp:coreProperties>
</file>