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89DE-DBD8-4514-BEFC-50FCD2316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C08A-1CA3-4B39-8973-8158E14B7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9108-C575-43FB-97E1-374C31033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68D9-0ACD-4C07-B83C-8C1708491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AF4F-A802-4712-8308-05C035C8C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E3B7-4C2C-4CEF-BA44-12386AD86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B32C-724E-4443-8C94-D338AD6FB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CA2C-8413-4AA2-B383-72C607B8B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242B-4604-40ED-A58D-C2EE8A579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E2ED-3332-4ED9-95C7-36C6C5BF9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CE96-F8A3-488F-BC32-ED35AA8FB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D2D5-66D8-46C5-AB08-A845DD13F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D701-D0B2-4062-BF70-66BE7CE83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8782-CE38-465C-9563-86E08773C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05E3-DC17-4A3F-B5E5-D41EFDCC5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C23B-8ACA-42D5-8944-33B30DC22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9D3F-8B7B-4B32-97E7-C1408D789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F11E-538E-489C-A1B0-4FD22A411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316A-AFF2-4EF8-9D3E-9792FEC8E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B3E8-C999-4C80-AA2C-F9112A84F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7B22-DE57-4F1B-A67C-EDC593C7D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E6B4-83E0-4A51-A61E-B5DBCB15A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ADD3-F777-4CF6-9817-285ED0CD9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UNTRIES HAVE THESE CURRENCY NOT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hong-kong.jpg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35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switzerland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04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russia.jpg"/>
          <p:cNvPicPr/>
          <p:nvPr/>
        </p:nvPicPr>
        <p:blipFill>
          <a:blip r:embed="rId1"/>
          <a:stretch/>
        </p:blipFill>
        <p:spPr>
          <a:xfrm>
            <a:off x="914400" y="1295280"/>
            <a:ext cx="722304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china.jpg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australia.jpg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35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india.png"/>
          <p:cNvPicPr/>
          <p:nvPr/>
        </p:nvPicPr>
        <p:blipFill>
          <a:blip r:embed="rId1"/>
          <a:stretch/>
        </p:blipFill>
        <p:spPr>
          <a:xfrm>
            <a:off x="457200" y="1295280"/>
            <a:ext cx="81853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mexico.jpg"/>
          <p:cNvPicPr/>
          <p:nvPr/>
        </p:nvPicPr>
        <p:blipFill>
          <a:blip r:embed="rId1"/>
          <a:stretch/>
        </p:blipFill>
        <p:spPr>
          <a:xfrm>
            <a:off x="533520" y="1295280"/>
            <a:ext cx="8076960" cy="343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japan.jpg"/>
          <p:cNvPicPr/>
          <p:nvPr/>
        </p:nvPicPr>
        <p:blipFill>
          <a:blip r:embed="rId1"/>
          <a:stretch/>
        </p:blipFill>
        <p:spPr>
          <a:xfrm>
            <a:off x="990720" y="1295280"/>
            <a:ext cx="72212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norway.jpg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russia.jpg"/>
          <p:cNvPicPr/>
          <p:nvPr/>
        </p:nvPicPr>
        <p:blipFill>
          <a:blip r:embed="rId1"/>
          <a:stretch/>
        </p:blipFill>
        <p:spPr>
          <a:xfrm>
            <a:off x="914400" y="1295280"/>
            <a:ext cx="72230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canada.jpg"/>
          <p:cNvPicPr/>
          <p:nvPr/>
        </p:nvPicPr>
        <p:blipFill>
          <a:blip r:embed="rId1"/>
          <a:stretch/>
        </p:blipFill>
        <p:spPr>
          <a:xfrm>
            <a:off x="457200" y="1295280"/>
            <a:ext cx="82137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G  K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hong-kong.jpg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35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witzerland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04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china.jpg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australia.jpg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india.png"/>
          <p:cNvPicPr/>
          <p:nvPr/>
        </p:nvPicPr>
        <p:blipFill>
          <a:blip r:embed="rId1"/>
          <a:stretch/>
        </p:blipFill>
        <p:spPr>
          <a:xfrm>
            <a:off x="457200" y="1295280"/>
            <a:ext cx="8185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mexico.jpg"/>
          <p:cNvPicPr/>
          <p:nvPr/>
        </p:nvPicPr>
        <p:blipFill>
          <a:blip r:embed="rId1"/>
          <a:stretch/>
        </p:blipFill>
        <p:spPr>
          <a:xfrm>
            <a:off x="533520" y="1295280"/>
            <a:ext cx="8076960" cy="34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japan.jpg"/>
          <p:cNvPicPr/>
          <p:nvPr/>
        </p:nvPicPr>
        <p:blipFill>
          <a:blip r:embed="rId1"/>
          <a:stretch/>
        </p:blipFill>
        <p:spPr>
          <a:xfrm>
            <a:off x="990720" y="1295280"/>
            <a:ext cx="72212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norway.jpg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anada.jpg"/>
          <p:cNvPicPr/>
          <p:nvPr/>
        </p:nvPicPr>
        <p:blipFill>
          <a:blip r:embed="rId1"/>
          <a:stretch/>
        </p:blipFill>
        <p:spPr>
          <a:xfrm>
            <a:off x="457200" y="1295280"/>
            <a:ext cx="82137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4T18:06:08Z</dcterms:modified>
  <cp:revision>289</cp:revision>
  <dc:subject/>
  <dc:title>Slide 1</dc:title>
</cp:coreProperties>
</file>