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24BA-0837-48B2-8CFE-D77B9236F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1560-996C-45FF-868F-B4A4144F9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E740-3A62-4575-8394-DB949B9DF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095E-2125-4111-8D91-98BF126BA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1B77-FBC9-498D-BD1D-952B7E418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46F9-E118-41D4-A829-229DE6CA7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AE6F-4D76-4554-A276-C83FE88F4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7A8B-0C70-4AB1-9A59-D4D828010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BD30-0423-4054-904B-544D61B98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DB6D-FC10-4F0F-98C2-EB8217BB9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21A1-2184-410A-B581-22A1A3FF9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4BCD-C66F-47F5-B43A-33314C791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08C9-2555-4E43-9BA6-E3D8EE072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50F6-5386-4A49-8937-0312D8214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01B6-410F-4EAC-91BD-9A550C07C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2021-6404-42FE-A336-2FA976CAA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EFD4-23B6-435F-BFBE-52B070CE0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6874-2F52-406F-9DDA-46E0ED8F8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13F7-6F7D-403D-8A52-E5BFC1610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F439-569B-4DD1-BC60-448C3F72F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3066-79AF-41B8-A340-0E45E9CC6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425B-788A-40C3-AD49-F187A7F32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88B6-827B-4FDB-A3CA-5B8D88B6D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UNTRIES HAVE THESE CURRENCY NOT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hong-kong.jpg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witzerland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04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russia.jpg"/>
          <p:cNvPicPr/>
          <p:nvPr/>
        </p:nvPicPr>
        <p:blipFill>
          <a:blip r:embed="rId1"/>
          <a:stretch/>
        </p:blipFill>
        <p:spPr>
          <a:xfrm>
            <a:off x="914400" y="1295280"/>
            <a:ext cx="722304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china.jpg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australia.jpg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india.png"/>
          <p:cNvPicPr/>
          <p:nvPr/>
        </p:nvPicPr>
        <p:blipFill>
          <a:blip r:embed="rId1"/>
          <a:stretch/>
        </p:blipFill>
        <p:spPr>
          <a:xfrm>
            <a:off x="457200" y="1295280"/>
            <a:ext cx="8185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mexico.jpg"/>
          <p:cNvPicPr/>
          <p:nvPr/>
        </p:nvPicPr>
        <p:blipFill>
          <a:blip r:embed="rId1"/>
          <a:stretch/>
        </p:blipFill>
        <p:spPr>
          <a:xfrm>
            <a:off x="533520" y="1295280"/>
            <a:ext cx="8076960" cy="343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japan.jpg"/>
          <p:cNvPicPr/>
          <p:nvPr/>
        </p:nvPicPr>
        <p:blipFill>
          <a:blip r:embed="rId1"/>
          <a:stretch/>
        </p:blipFill>
        <p:spPr>
          <a:xfrm>
            <a:off x="990720" y="1295280"/>
            <a:ext cx="72212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norway.jpg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russia.jpg"/>
          <p:cNvPicPr/>
          <p:nvPr/>
        </p:nvPicPr>
        <p:blipFill>
          <a:blip r:embed="rId1"/>
          <a:stretch/>
        </p:blipFill>
        <p:spPr>
          <a:xfrm>
            <a:off x="914400" y="1295280"/>
            <a:ext cx="72230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anada.jpg"/>
          <p:cNvPicPr/>
          <p:nvPr/>
        </p:nvPicPr>
        <p:blipFill>
          <a:blip r:embed="rId1"/>
          <a:stretch/>
        </p:blipFill>
        <p:spPr>
          <a:xfrm>
            <a:off x="457200" y="1295280"/>
            <a:ext cx="82137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G  K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hong-kong.jpg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35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witzerland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04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china.jpg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australia.jpg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india.png"/>
          <p:cNvPicPr/>
          <p:nvPr/>
        </p:nvPicPr>
        <p:blipFill>
          <a:blip r:embed="rId1"/>
          <a:stretch/>
        </p:blipFill>
        <p:spPr>
          <a:xfrm>
            <a:off x="457200" y="1295280"/>
            <a:ext cx="8185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mexico.jpg"/>
          <p:cNvPicPr/>
          <p:nvPr/>
        </p:nvPicPr>
        <p:blipFill>
          <a:blip r:embed="rId1"/>
          <a:stretch/>
        </p:blipFill>
        <p:spPr>
          <a:xfrm>
            <a:off x="533520" y="1295280"/>
            <a:ext cx="8076960" cy="34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japan.jpg"/>
          <p:cNvPicPr/>
          <p:nvPr/>
        </p:nvPicPr>
        <p:blipFill>
          <a:blip r:embed="rId1"/>
          <a:stretch/>
        </p:blipFill>
        <p:spPr>
          <a:xfrm>
            <a:off x="990720" y="1295280"/>
            <a:ext cx="72212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norway.jpg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anada.jpg"/>
          <p:cNvPicPr/>
          <p:nvPr/>
        </p:nvPicPr>
        <p:blipFill>
          <a:blip r:embed="rId1"/>
          <a:stretch/>
        </p:blipFill>
        <p:spPr>
          <a:xfrm>
            <a:off x="457200" y="1295280"/>
            <a:ext cx="82137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18:06:08Z</dcterms:modified>
  <cp:revision>289</cp:revision>
  <dc:subject/>
  <dc:title>Slide 1</dc:title>
</cp:coreProperties>
</file>