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5EC-D03F-4B4B-8F66-CFDC32159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33CC-985E-45CD-A054-49097874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4691-2DF3-41AE-A12D-176D7EF1A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1ACC-AD50-4F20-AB68-86AA436B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AE1-92FB-494C-A3BA-495E12FA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9AE3-6EBA-4740-8497-438B55E56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37E5-4638-4375-93D8-A4AD006D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2169-3724-480F-ADE6-0BD51F1F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F012-0765-415F-A0CD-1E12FF319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E79-2B1C-4D7C-B76C-25D21A95F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7D3F-63BE-47CA-AF0A-3B81CAE1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2F87-5159-4401-91B3-74C75EF66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9F45-BDCC-44FD-A210-D2952352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C21F-E6C5-46A2-80AF-104891C69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A9E-3F8B-48F8-9729-EE8EFC0C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B6B4-5C6F-4416-978E-FF368E15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E135-3BDD-49CD-992F-49D87324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9E77-839D-4979-9730-2A9654C0E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127D-197E-43CE-9FDC-385F0D0F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FD1B-047F-4DE5-BFB1-9E9CBEEA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14CC-16B3-4202-9F78-62B61E05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53DF-2366-4CC1-B1E2-3F66DEE77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91F6-32F9-4992-8EE8-EA2F8932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563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TATES HAVE THESE LICENSE PLA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elawar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outhdak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newhampshire.jpg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innes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CON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wisconsin.jpg"/>
          <p:cNvPicPr/>
          <p:nvPr/>
        </p:nvPicPr>
        <p:blipFill>
          <a:blip r:embed="rId1"/>
          <a:stretch/>
        </p:blipFill>
        <p:spPr>
          <a:xfrm>
            <a:off x="99072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00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georgia.jpg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colorado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ennesse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laska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newhampshire.jpg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CAR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northcarolina.jpg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A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elawar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outhdak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innes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wisconsin.jpg"/>
          <p:cNvPicPr/>
          <p:nvPr/>
        </p:nvPicPr>
        <p:blipFill>
          <a:blip r:embed="rId1"/>
          <a:stretch/>
        </p:blipFill>
        <p:spPr>
          <a:xfrm>
            <a:off x="99072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georgia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olorado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ennesse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alaska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northcarolina.jpg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1:59:18Z</dcterms:modified>
  <cp:revision>290</cp:revision>
  <dc:subject/>
  <dc:title>Slide 1</dc:title>
</cp:coreProperties>
</file>