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1D7D-2183-4A8C-92C7-7258A94EA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FD55-3BDD-4427-B5F3-EE549786C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73BB-A862-48B3-8835-84F34C39A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2717-C4F7-4C91-AE9D-1E8ED0E3F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9C1C5-2247-4992-A391-8CBC078E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83C6-47A9-4293-B178-F10EC54683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1D5B-D70A-419F-B0D9-D7466E3DC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650F5-4D5E-4E76-BECA-221DAEF80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AD35-D15A-415D-B36F-8AB9D7871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813C-19AA-4E13-BFA5-AE5C07053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D1440-410E-4DBB-8EE2-D28E6D2A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116E-411F-4926-8057-234FB6D5D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157D-C08F-4861-B8CE-A40A3B9C9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245E-0CFA-4781-BCC2-B6AD3BC0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1CDC-3F6C-4578-A5D5-B9914F3C5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DDE7-E47E-4569-A815-D43C23A1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9DF63-2926-4BFA-B351-9F2C3A6E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5479-52EB-4DCB-9E82-141F96BB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AD89-0715-4643-8490-5D905847F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9EE79-E295-47D2-9C02-904524E99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8E4F-E5DC-4E1B-8513-AFBC33749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7BF9-EEE9-426E-8D5E-5D32A2E8A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4000-EDFB-41F7-8F00-205558B3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66680" y="1333440"/>
            <a:ext cx="70106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TIONAL PA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TALLEST MOUNTAIN IN NORTH AME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NATIONAL PARK THAT IS FARTHEST FROM ANY OTHER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19320" y="762120"/>
            <a:ext cx="67053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TIONAL PARK, ESTABLISHED IN 187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52560" y="49528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INGS  CANYON  &amp;  SEQUOI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04840" y="762120"/>
            <a:ext cx="6934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NATIONAL PARKS ARE ADJACENT?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THER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ND  CANY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IGAN  (ISLE  ROYA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LEAST VISITED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MU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 IS CONSIDERED THE FATHER OF NATIONAL PARK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TER  LA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DEEPEST LAKE IN THE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NATIONAL PARK, ESTABLISHED IN 187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MMOTH  C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LONGEST CAVE SYSTEM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N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TALLEST MOUNTAIN IN NORTH AME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E  (ACADIA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NATIONAL PARK THAT IS FARTHEST FROM ANY OTHER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 NATIONAL PARKS ARE ADJACENT?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NATIONAL PARKS ARE THERE IN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VISITED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TATE IS THE LEAST VISITED NATIONAL PAR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VIRONMENTALIST IS CONSIDERED THE FATHER OF NATIONAL PARK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DEEPEST LAKE IN THE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 PARK IS HOME TO THE LONGEST CAVE SYSTEM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17:41:10Z</dcterms:created>
  <dc:creator>Jennifer Budzinski</dc:creator>
  <dc:description/>
  <dc:language>en-US</dc:language>
  <cp:lastModifiedBy>Erich Friedman</cp:lastModifiedBy>
  <dcterms:modified xsi:type="dcterms:W3CDTF">2020-09-05T13:57:44Z</dcterms:modified>
  <cp:revision>337</cp:revision>
  <dc:subject/>
  <dc:title>Slide 1</dc:title>
</cp:coreProperties>
</file>