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6134-80E1-4870-99A5-0A3AEBE11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B56C-AD68-4610-8473-5208C5B32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760A-CDFC-4216-B2CE-12596A236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F833-278C-4F4B-AD8E-27678467B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F800-6374-486E-B2E5-64AEB6C8C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C1B9-DB31-4EFA-8988-941CC63C4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6A89-7F90-417D-A21A-72F63D8F4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19E5-7F68-4112-A059-68F0D4A8A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3321-49F1-4134-B5D8-26A5F9D47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4A6C-B7F9-424E-979E-3F9A9B6D0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59D7-716C-45B3-AF41-750230428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9094-A67E-4364-986F-A1B849671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6724-F49F-49B1-AA25-02E926D19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2169-B3C7-49D6-B406-CC6333FF8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A520-C448-4714-9DF9-E245E4DFD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4A0A-BFCE-46D9-BE50-06B91D804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916A-6C39-420D-8ABC-4B61B52E3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235C-401A-4875-9E4B-160F2E91B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E983-4F7F-44AD-9111-F3FBBEF08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F5CF-C19C-4070-ABFD-39967B358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01C5-4C71-482B-B9AC-771CA62CE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1FDC-B959-40EC-81C8-85E8CF5A2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C0F5-38AB-4D64-8BFB-99DD757C2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66680" y="1333440"/>
            <a:ext cx="7010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TIONAL PA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PARK IS HOME TO THE TALLEST MOUNTAIN IN NORTH AME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0484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IS THE NATIONAL PARK THAT IS FARTHEST FROM ANY OTHER NATIONAL P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LLOW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19320" y="762120"/>
            <a:ext cx="6705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TIONAL PARK, ESTABLISHED IN 187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52560" y="495288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S  CANYON  &amp;  SEQUOIA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04840" y="762120"/>
            <a:ext cx="6934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NATIONAL PARKS ARE ADJACENT?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NATIONAL PARKS ARE THERE IN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D  CANY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VISITED NATIONAL P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IGAN  (ISLE  ROYA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IS THE LEAST VISITED NATIONAL P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U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VIRONMENTALIST  IS CONSIDERED THE FATHER OF NATIONAL PAR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TER  L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PARK IS HOME TO THE DEEPEST LAKE IN THE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TIONAL PARK, ESTABLISHED IN 187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MMOTH  C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PARK IS HOME TO THE LONGEST CAVE SYSTEM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PARK IS HOME TO THE TALLEST MOUNTAIN IN NORTH AME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INE  (ACADI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43000" y="762120"/>
            <a:ext cx="6858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IS THE NATIONAL PARK THAT IS FARTHEST FROM ANY OTHER NATIONAL P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NATIONAL PARKS ARE ADJACENT?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NATIONAL PARKS ARE THERE IN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VISITED NATIONAL P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IS THE LEAST VISITED NATIONAL P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VIRONMENTALIST IS CONSIDERED THE FATHER OF NATIONAL PAR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PARK IS HOME TO THE DEEPEST LAKE IN THE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PARK IS HOME TO THE LONGEST CAVE SYSTEM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8T17:41:10Z</dcterms:created>
  <dc:creator>Jennifer Budzinski</dc:creator>
  <dc:description/>
  <dc:language>en-US</dc:language>
  <cp:lastModifiedBy>Erich Friedman</cp:lastModifiedBy>
  <dcterms:modified xsi:type="dcterms:W3CDTF">2020-09-05T13:57:44Z</dcterms:modified>
  <cp:revision>337</cp:revision>
  <dc:subject/>
  <dc:title>Slide 1</dc:title>
</cp:coreProperties>
</file>