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FB5B-AC9D-468A-B0D1-1B72126F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8035-9BD0-4967-9790-DD22A19A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0C6D-7F4C-4D9D-80C8-8D0999B2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D61-BF64-4FAD-B317-A9A15486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B4F4-B484-4B49-9075-52CB00B89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532B-ED82-4BAC-A044-3E24893FF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C318-74DB-4F0D-A681-0AF4830F7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9239-1AFE-40DA-933A-65FE32E1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696D-33E4-4436-9008-84F1C59D5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2CF3-B60D-4E0D-BB19-6CD4B1974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D40E-EE1E-42FE-8184-E2786C93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8F28-72D6-4146-8AF9-DBBB5D7B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90D2-AFE7-4FA7-8AD0-5B482A22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D64-1641-4E23-82DE-C0F196AE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87A-13C3-4B14-BC1B-E58F67065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DC79-EDC8-4072-87F7-645A670A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9ED-F034-4B3A-B3F6-8CD40ACE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29F3-6200-4F91-86CD-C8605D18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C87E-A783-47DC-921F-EDCF913B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676B-E40B-4383-B7FF-F186AE1D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A6DB-F441-4B92-ADD5-DBAB1141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1982-A3BE-4213-A686-864A43F7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46B6-3536-4CAD-A6E3-D9400B8B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480" y="1676160"/>
            <a:ext cx="56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ITY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UTH  DAKOT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22640" y="1905120"/>
            <a:ext cx="46987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OUISIAN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76360" y="1967040"/>
            <a:ext cx="439128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AS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H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49360" y="1905120"/>
            <a:ext cx="444528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D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58920" y="1887480"/>
            <a:ext cx="48261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ISSOUR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98600" y="1914480"/>
            <a:ext cx="454680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LOR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84480" y="1905120"/>
            <a:ext cx="4775040" cy="28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LLINO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398680" y="1905120"/>
            <a:ext cx="43466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LIFORN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470320" y="2000160"/>
            <a:ext cx="42033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EX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AS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9360" y="1905120"/>
            <a:ext cx="444528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IZO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M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29080" y="1971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UTH  DAKO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OUX 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22640" y="1905120"/>
            <a:ext cx="469872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OUIS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376360" y="1967040"/>
            <a:ext cx="4391280" cy="29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D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58920" y="1887480"/>
            <a:ext cx="48261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ISSOUR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98600" y="1914480"/>
            <a:ext cx="454680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LOR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84480" y="1905120"/>
            <a:ext cx="4775040" cy="28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LLINOI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98680" y="1905120"/>
            <a:ext cx="43466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LIFORNI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70320" y="2000160"/>
            <a:ext cx="42033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EXA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IZON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29080" y="1971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12:09Z</dcterms:modified>
  <cp:revision>289</cp:revision>
  <dc:subject/>
  <dc:title>Slide 1</dc:title>
</cp:coreProperties>
</file>