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2178-0513-4630-B366-395A9CA0B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7BB9-F40F-4890-9A46-F940D4E8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9D12-95BC-430A-9741-C2184F879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AA0C-A75D-4AF0-B8AD-075566A9F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0397-FD2C-4F57-B9C3-EFD935EEF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4489-F291-4113-A679-2649F180C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78F2-FFD7-4FFC-91CE-AA27764D4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E2D1-4C75-48AE-9EC0-002D310C6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1764-785E-450E-BA76-C139EC94B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1E15-C4E2-459A-8C91-DF345B5BB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2F86-9905-465C-B2E3-9CB6811D2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8186-AEDC-488F-A5D8-D234A0014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8D6F-65C5-48EA-8DB8-A18B1EDA2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1FCC-29C5-403B-8309-5CD3D998E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1F15-9A5A-40DB-AF9C-1BB474A51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F77B-7FC9-4CD6-97D1-079891168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F47B-11B6-4DB3-8D0B-6108ABC39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861F-3D51-4BC8-97E1-CF2EAF4F8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CE81-907F-47A7-B72A-7D6C99DBB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25D8-1E00-47BF-BCF1-9A06F4228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BC31-B75E-4014-AAF6-EF0FD9A77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1850E-832D-479D-9B02-B0950962D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A73E-A0D4-49FF-A7D1-5E73030FE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52480" y="1676160"/>
            <a:ext cx="563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CITY FLA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OUTH  DAKOT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222640" y="1905120"/>
            <a:ext cx="469872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OUISIAN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376360" y="1967040"/>
            <a:ext cx="4391280" cy="29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ASK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CHO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349360" y="1905120"/>
            <a:ext cx="4445280" cy="29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NDIA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PO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58920" y="1887480"/>
            <a:ext cx="482616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ISSOUR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NT  LO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98600" y="1914480"/>
            <a:ext cx="4546800" cy="302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LORI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184480" y="1905120"/>
            <a:ext cx="4775040" cy="286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LLINO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398680" y="1905120"/>
            <a:ext cx="43466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ALIFORN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AK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470320" y="2000160"/>
            <a:ext cx="4203360" cy="28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EX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ANT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413080" y="1981080"/>
            <a:ext cx="4317840" cy="28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LASK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49360" y="1905120"/>
            <a:ext cx="4445280" cy="29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RIZO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M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629080" y="19717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OUTH  DAKOT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OUX  F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222640" y="1905120"/>
            <a:ext cx="4698720" cy="28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LOUISIA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ORL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376360" y="1967040"/>
            <a:ext cx="4391280" cy="29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NDIAN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58920" y="1887480"/>
            <a:ext cx="48261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ISSOUR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98600" y="1914480"/>
            <a:ext cx="454680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LORI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184480" y="1905120"/>
            <a:ext cx="4775040" cy="28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LLINOI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398680" y="1905120"/>
            <a:ext cx="43466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ALIFORNI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470320" y="2000160"/>
            <a:ext cx="420336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EXA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413080" y="1981080"/>
            <a:ext cx="4317840" cy="28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RIZON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629080" y="19717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12-16T14:12:09Z</dcterms:modified>
  <cp:revision>289</cp:revision>
  <dc:subject/>
  <dc:title>Slide 1</dc:title>
</cp:coreProperties>
</file>