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F9CC-8D65-40FC-8EA3-BDD4C2DC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BD6D-D40C-4E50-A335-DD8296A98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51A4-AF10-482D-AA35-29209A5A5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3B9C-1D56-407F-AFDB-09805243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B10-435B-4B60-9F8C-D4AE4C57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AD11-C97B-4297-B902-FAB7FBF2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2336-BF0A-4942-89DB-B4E9C8C1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C653-3AF1-406F-A2BE-0DE156000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A991-9702-4BAB-8854-163517E03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26F7-90A2-4F07-955E-550A73B6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9D80-8013-4FA5-B712-D97066AC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785-F201-4F34-AD0C-6997081F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5278-0ADC-402F-99EF-49D146F3D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2862-2454-496D-B26F-6FF440AD0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870A-C290-48E2-99E6-1FA9FF24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74E1-B872-40AF-B361-10254267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4F8A-C57B-4F8D-BC6F-AEDB1E4C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006-2AF8-43E0-ADD4-961FB798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9616-0C4D-4A5C-9F43-02C776A1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0481-36FD-4CB9-85A7-13027270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8FE5-1304-4835-A32A-7EE5E2B4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26A9-324D-4102-ABDC-BB3124CE7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757-4A8F-41D7-AA4A-D88E4294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480" y="1676160"/>
            <a:ext cx="56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ITY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UTH  DAKOT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22640" y="1905120"/>
            <a:ext cx="46987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OUISIAN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76360" y="1967040"/>
            <a:ext cx="439128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AS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H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49360" y="1905120"/>
            <a:ext cx="444528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D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58920" y="1887480"/>
            <a:ext cx="48261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ISSOUR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98600" y="1914480"/>
            <a:ext cx="454680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LOR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84480" y="1905120"/>
            <a:ext cx="4775040" cy="28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LLINO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398680" y="1905120"/>
            <a:ext cx="43466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LIFORN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470320" y="2000160"/>
            <a:ext cx="42033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EX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AS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9360" y="1905120"/>
            <a:ext cx="444528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IZO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29080" y="1971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UTH  DAKO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OUX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22640" y="1905120"/>
            <a:ext cx="46987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OUIS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376360" y="1967040"/>
            <a:ext cx="4391280" cy="29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D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58920" y="1887480"/>
            <a:ext cx="48261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ISSOUR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98600" y="1914480"/>
            <a:ext cx="454680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LOR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84480" y="1905120"/>
            <a:ext cx="477504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LLINOI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98680" y="1905120"/>
            <a:ext cx="43466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LIFORNI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70320" y="2000160"/>
            <a:ext cx="4203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EXA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IZON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29080" y="1971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12:09Z</dcterms:modified>
  <cp:revision>289</cp:revision>
  <dc:subject/>
  <dc:title>Slide 1</dc:title>
</cp:coreProperties>
</file>