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101-0F21-4061-A4BB-3058CB11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C46E-CD10-4251-BB44-6FC4FD9A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0F0-D5F9-45B3-99D5-8EC7E75D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70CD-EFC1-4563-82CB-FF91E5C5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E5F-3C4E-440A-A319-7EC18050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2B2-3CDC-40DD-8DD4-446FB0C1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EC1-38AA-48FC-8DB0-799DA660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9BF-320D-4BE4-9002-245CB7CE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B57-644B-4544-A373-33215759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82C-AABA-4CAA-AEF8-709BF399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486-B7F4-4727-8BA0-A537B56A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1A59-CAB7-4109-B4BE-0FA01EC1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1952-A2A4-43E3-8964-6F576BDB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B81-B19B-4549-8AD6-ABA56F2E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A466-9AE4-4802-9B7C-1187CFF6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67C-9239-4236-8C90-FA0CF077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63F4-511F-4D95-A845-29BC5622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0EA-1814-4D69-8896-A9FE93D0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88A-34A8-41C5-B188-9C6F7789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866-B0FB-410A-8CC7-54275700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367-90FB-439F-9951-32ADCCB9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84C-3F3F-49FF-8B40-CE7E972E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1BE7-6DA5-404B-9836-62631380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914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PENTS   (1/5 CREDIT FOR EAC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,  ASIA,  AFRICA,  AMERICAS  &amp;  OCE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83808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90440" y="43434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X,  BROOKLYN,  QUEENS,   MANHATTAN  &amp;  STATEN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80028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,  FRANCE,  RUSSIA,  U.K.  &amp; 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3434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IOR,  HURON,  ERIE,  MICHIGAN  &amp;  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9320" y="762120"/>
            <a:ext cx="6705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ZAKHSTAN,  KENYA,  KIRIBATI,   KUWAIT  &amp;  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3434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,  FINLAND,  ICELAND,  NORWAY  &amp;  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9760" y="762120"/>
            <a:ext cx="6324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VILLE,  MIAMI,  TAMPA,  ORLANDO  &amp;  ST.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09760" y="762120"/>
            <a:ext cx="6324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,  MAUI,  O'AHU,  KAUA'I  &amp;  MOLOKA'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ORRA,  FRANCE,  GIBRALT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OCCO  &amp;  PORTU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00280" y="43434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Y,  AUSTIN,  ATLANTA,  AUGUSTA  &amp;  ANNAPO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8:24:10Z</dcterms:created>
  <dc:creator>Jennifer Budzinski</dc:creator>
  <dc:description/>
  <dc:language>en-US</dc:language>
  <cp:lastModifiedBy>Erich Friedman</cp:lastModifiedBy>
  <dcterms:modified xsi:type="dcterms:W3CDTF">2020-12-16T14:12:43Z</dcterms:modified>
  <cp:revision>357</cp:revision>
  <dc:subject/>
  <dc:title>Slide 1</dc:title>
</cp:coreProperties>
</file>