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5DD8-9875-44E6-A6EE-D23F53A5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6756-89C0-4DD1-BB8F-FA0047726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8969-0269-4719-B63F-072548CC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361F-0EEF-4450-969D-882FC7FE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D488-745E-41B4-9097-332D66F1A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AE6E-B17B-4B56-B55A-3B4BFB0F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D8A82-B8E7-42C9-B15B-7824D717B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1467-73BA-4B18-8AA9-2D07B60DE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0BC4-B575-42F0-93C0-1BF2B1E3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12B7-E3A8-4AB3-BBEC-6DAB94DE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3D1E-77AB-4FFC-987F-F773D102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043-90CB-4013-A00B-0C14D6D26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1558-184E-45B7-B991-1AE95BADA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C065-0209-4DBD-AB98-57498B6EB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B2CB-87FD-4D25-8CF1-A6C33839B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9B90-9B0D-447C-9AA5-CF91F8CC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1655-2398-4C5C-B2B2-90DD1DBA3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F35A-9896-4302-AEA9-E932B302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9B89-57A6-4727-B619-43F0E2AC4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1217-63C6-4F60-BC60-7FA25C0C4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6C90-534E-43E8-9368-44AEAE80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7845-9919-4F34-93CC-D3F856C33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AEC6-FAE1-405D-9E8B-4155C0B6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914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PENTS   (1/5 CREDIT FOR EAC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ORDER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U.S. STATE CAPITALS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,  ASIA,  AFRICA,  AMERICAS  &amp;  OCEAN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9320" y="83808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ONTINENTS" ARE REPRESENTED BY THE 5 OLYMPIC 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90440" y="434340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ONX,  BROOKLYN,  QUEENS,   MANHATTAN  &amp;  STATEN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80028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BOROUGHS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714680" y="4343400"/>
            <a:ext cx="5715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,  FRANCE,  RUSSIA,  U.K.  &amp;  U.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IES ARE THE 5 PERMANENT MEMBERS OF THE UNITED NATIONS SECURITY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3434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IOR,  HURON,  ERIE,  MICHIGAN  &amp;  ON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19320" y="762120"/>
            <a:ext cx="6705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5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34340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ZAKHSTAN,  KENYA,  KIRIBATI,   KUWAIT  &amp;  KYRGYZ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EGIN WITH THE LETTER "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23960" y="43434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,  FINLAND,  ICELAND,  NORWAY  &amp;  SW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09760" y="762120"/>
            <a:ext cx="63244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NORDIC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VILLE,  MIAMI,  TAMPA,  ORLANDO  &amp;  ST.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09760" y="762120"/>
            <a:ext cx="63244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ITIES IN FLORIDA THAT HAVE A POPULATION OVER ¼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ONTINENTS" ARE REPRESENTED BY THE 5 OLYMPIC 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81160" y="434340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,  MAUI,  O'AHU,  KAUA'I  &amp;  MOLOKA'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LARGEST ISLANDS OF HAWA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ORRA,  FRANCE,  GIBRALT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OCCO  &amp;  PORTUG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ORDER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00280" y="43434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Y,  AUSTIN,  ATLANTA,  AUGUSTA  &amp;  ANNAPOL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U.S. STATE CAPITALS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BOROUGHS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IES ARE THE 5 PERMANENT MEMBERS OF THE UNITED NATIONS SECURITY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5 GREAT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 COUNTRIES BEGIN WITH THE LETTER "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NORDIC COUNT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ITIES IN FLORIDA THAT HAVE A POPULATION OVER ¼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LARGEST ISLANDS OF HAWA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8:24:10Z</dcterms:created>
  <dc:creator>Jennifer Budzinski</dc:creator>
  <dc:description/>
  <dc:language>en-US</dc:language>
  <cp:lastModifiedBy>Erich Friedman</cp:lastModifiedBy>
  <dcterms:modified xsi:type="dcterms:W3CDTF">2020-12-16T14:12:43Z</dcterms:modified>
  <cp:revision>357</cp:revision>
  <dc:subject/>
  <dc:title>Slide 1</dc:title>
</cp:coreProperties>
</file>