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0CA-0F23-48E3-8CBF-BFCAAAE4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CB79-B26B-4316-B05A-E4D2E4D2B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D28-3E86-4D85-B802-30393393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CFD-88D3-4236-B628-D7197931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D5DD-3980-4FD3-A9B8-FFCB1DF7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00D-FF90-4199-89C0-440690DD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1B8-E163-4CE3-A9F4-54457155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DB16-C7E4-42ED-A257-B6A05870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0B3-3629-4D4E-B3B5-35996907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1158-F8DC-42AA-B7B4-0320C26A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977-221E-4104-8A8E-5ABE1D09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A26-88D6-41E4-9531-328A1D65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130-77B3-4E25-9302-7B1E081C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9D0-2E84-4DBD-A4D3-5E346857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B98-E279-4F81-9407-5DE14CD3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7F0A-3AE1-47C1-A271-D2D2CDC3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4C0D-2E34-427B-B662-9A63AB78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CABF-25D1-430A-ADED-636799C2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7C4E-A819-43C8-9478-D1D564BE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990-C621-4BA8-B2DE-17894AFE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CA19-2480-4747-9A4A-D07378D3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02B2-EA0A-4472-A181-60C31DC33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CB2-9F59-4A7C-91F8-E23C43FF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914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PENTS   (1/5 CREDIT FOR EAC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,  ASIA,  AFRICA,  AMERICAS  &amp;  OCE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83808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90440" y="43434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X,  BROOKLYN,  QUEENS,   MANHATTAN  &amp;  STATEN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80028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,  FRANCE,  RUSSIA,  U.K.  &amp; 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3434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IOR,  HURON,  ERIE,  MICHIGAN  &amp;  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9320" y="762120"/>
            <a:ext cx="6705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ZAKHSTAN,  KENYA,  KIRIBATI,   KUWAIT  &amp;  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3434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,  FINLAND,  ICELAND,  NORWAY  &amp;  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9760" y="762120"/>
            <a:ext cx="6324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VILLE,  MIAMI,  TAMPA,  ORLANDO  &amp;  ST.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09760" y="762120"/>
            <a:ext cx="6324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,  MAUI,  O'AHU,  KAUA'I  &amp;  MOLOKA'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ORRA,  FRANCE,  GIBRALT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OCCO  &amp;  PORTU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00280" y="43434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Y,  AUSTIN,  ATLANTA,  AUGUSTA  &amp;  ANNAPO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8:24:10Z</dcterms:created>
  <dc:creator>Jennifer Budzinski</dc:creator>
  <dc:description/>
  <dc:language>en-US</dc:language>
  <cp:lastModifiedBy>Erich Friedman</cp:lastModifiedBy>
  <dcterms:modified xsi:type="dcterms:W3CDTF">2020-12-16T14:12:43Z</dcterms:modified>
  <cp:revision>357</cp:revision>
  <dc:subject/>
  <dc:title>Slide 1</dc:title>
</cp:coreProperties>
</file>