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A870E-A8B6-4C41-B656-24D8D6C04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0C62F-052B-4B76-9563-6C30BA2DF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6723A-B64E-4D0D-8561-286FEFBA6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7D497-2BFF-4654-8498-052CDC7A5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4FD81-04C0-49EF-A7C1-4F5861DD7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9107A-2773-4123-9D20-150D5E8A3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BDC79-D7BC-49D8-8F37-7FE990DC7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06C26-E5A0-48E7-B0BD-1A051FF25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29403-0B15-43E0-B3CC-5A9A5F96F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EA878-90F6-4646-96E4-4F6596D98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E649D-8104-4DE3-B2F0-E08EF1D7F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F150D-44AB-4345-8785-E3085D9E6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4B34F-7E81-4781-B80A-B3D28378A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DF003-CA48-4B6E-A1C9-F0FAB088B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D8E89-4907-49D4-B842-42522766A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47C3F-1811-4076-B5D5-EE1E89452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AA958-FCB6-4999-AC81-9A9158937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92606-CD15-4252-B245-9535B8FCB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FB862-B523-4C23-875F-7FEBC63EF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70DCC-54E9-4E3A-A346-5D96B4C9D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7CF1E-980B-44B4-B754-85A3B6417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91618-A886-4159-B6AB-718188AFA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DFEE5-4EE2-4E26-8816-D4D084E14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971640" y="761760"/>
            <a:ext cx="7200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 WHAT COUNTRIES CAN THESE FAMOUS FOUNTAINS BE FOUN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15920" y="761760"/>
            <a:ext cx="8910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NPO BRIDGE RAINBOW FOUNTAI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1720800" y="2004840"/>
            <a:ext cx="5702400" cy="294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789120" y="762120"/>
            <a:ext cx="7565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CHIBALD FOUNTA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2381400" y="2057400"/>
            <a:ext cx="4381200" cy="292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066680" y="5029200"/>
            <a:ext cx="701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SA  (LAS  VEGA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198360" y="762120"/>
            <a:ext cx="8747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LLAGIO FOUNTA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1917720" y="1981080"/>
            <a:ext cx="5308560" cy="297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457200" y="50292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SSIA  (MOSCOW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100080" y="762120"/>
            <a:ext cx="89438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EOPLE'S FRIENDSHIP FOUNTA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1865160" y="1981080"/>
            <a:ext cx="5413680" cy="30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457200" y="5029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TALY  (ROM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4800" y="762120"/>
            <a:ext cx="7934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EVI FOUNTA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2502000" y="1905120"/>
            <a:ext cx="4140000" cy="308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343080" y="5029200"/>
            <a:ext cx="845820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NA  (XIA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31760" y="762120"/>
            <a:ext cx="8880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IG WILD GOOSE PAGODA FOUNTAIN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1752480" y="1916280"/>
            <a:ext cx="5639040" cy="305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457200" y="50292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NGAP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439560" y="762120"/>
            <a:ext cx="8264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UNTAIN OF WEAL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2503440" y="2057400"/>
            <a:ext cx="4137120" cy="291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"/>
          <p:cNvSpPr/>
          <p:nvPr/>
        </p:nvSpPr>
        <p:spPr>
          <a:xfrm>
            <a:off x="457200" y="5029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CE  (PARI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500040" y="762120"/>
            <a:ext cx="8143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RAVINSKY FOUNTA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2003400" y="1981080"/>
            <a:ext cx="5137200" cy="30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1143000" y="502920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AE  (DUBA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311040" y="762120"/>
            <a:ext cx="8521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URJ KHALIFA FOUNTA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2347920" y="2057400"/>
            <a:ext cx="444816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89000" y="762120"/>
            <a:ext cx="8766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LLAGIO FOUNTA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1917720" y="1981080"/>
            <a:ext cx="5308560" cy="297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457200" y="5029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AIN  (BARCELON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266760" y="762120"/>
            <a:ext cx="86104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GIC FOUNTAIN OF MONTJUI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905120" y="2011320"/>
            <a:ext cx="5333760" cy="300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3"/>
          <p:cNvSpPr/>
          <p:nvPr/>
        </p:nvSpPr>
        <p:spPr>
          <a:xfrm>
            <a:off x="380880" y="5029200"/>
            <a:ext cx="8382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UTH  KOREA  (SEOU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204840" y="762120"/>
            <a:ext cx="87343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NPO BRIDGE RAINBOW FOUNTAI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720800" y="2004840"/>
            <a:ext cx="5702400" cy="2948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3"/>
          <p:cNvSpPr/>
          <p:nvPr/>
        </p:nvSpPr>
        <p:spPr>
          <a:xfrm>
            <a:off x="457200" y="5029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USTRALIA  (SYDNE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839880" y="762120"/>
            <a:ext cx="7462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CHIBALD FOUNTA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2381400" y="2057400"/>
            <a:ext cx="4381200" cy="292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03320" y="761760"/>
            <a:ext cx="89373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EOPLE'S FRIENDSHIP FOUNTA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865160" y="1981080"/>
            <a:ext cx="541368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598320" y="762120"/>
            <a:ext cx="7947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EVI FOUNTA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502000" y="1905120"/>
            <a:ext cx="4140000" cy="30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19160" y="762120"/>
            <a:ext cx="89056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IG WILD GOOSE PAGODA FOUNTAI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752480" y="1916280"/>
            <a:ext cx="5639040" cy="305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UNTAIN OF WEALT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503440" y="2057400"/>
            <a:ext cx="4137120" cy="291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87360" y="761760"/>
            <a:ext cx="8369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RAVINSKY FOUNTA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003400" y="1981080"/>
            <a:ext cx="513720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85920" y="761760"/>
            <a:ext cx="8372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URJ KHALIFA FOUNTA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347920" y="2057400"/>
            <a:ext cx="44481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16080" y="761760"/>
            <a:ext cx="8511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GIC FOUNTAIN OF MONTJUIC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905120" y="2011320"/>
            <a:ext cx="5333760" cy="3006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1-06-13T14:27:01Z</dcterms:modified>
  <cp:revision>395</cp:revision>
  <dc:subject/>
  <dc:title>Slide 1</dc:title>
</cp:coreProperties>
</file>