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7BF1-5E60-4AFB-8AAB-B225A1E73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4ACA-A483-494E-A2A8-7636033DC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1C48-1584-4CB8-805A-31AA0555E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CEC2-C18D-40AC-ADD0-FDDA88AFE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0F09-471F-4EFE-A843-E878106F0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79DE-3B47-44DF-8EA6-092B0CE33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55D5-12CE-43C5-B9AB-56419E4CA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FF7E-280E-4D99-8F86-DE7ADB0BA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EF1E-AF68-46D3-B1BD-98833573E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AD6B-1627-4937-9175-7197E2AD6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7656-B039-40C9-8A93-01AE1D7A7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069E-0D8B-4D64-BA69-EBA7A3303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8B25-AAFE-421E-A250-B7578E178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E1B1-49F4-4F5A-8689-067FC6C7D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5C4C-DAE2-437D-9FF3-B54E568E3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5418-F778-4F05-A01C-10BB81289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8480-44A8-4452-9E7C-7FF8C0652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34ED-7FAF-4F85-B94F-04F7E3033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04F9-8C77-4A2F-9C04-CB63F12BC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3CCE-1C7F-4670-BE6B-C7B841856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F85D-C77E-4D55-AE18-5A138C655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922FD-194E-4982-AB1C-565CE1D22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9D08-B1A1-4809-9E09-2D21F497F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71640" y="761760"/>
            <a:ext cx="7200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WHAT COUNTRIES CAN THESE FAMOUS FOUNTAINS BE FOUND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15920" y="761760"/>
            <a:ext cx="8910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NPO BRIDGE RAINBOW FOUNTAI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720800" y="2004840"/>
            <a:ext cx="5702400" cy="29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789120" y="762120"/>
            <a:ext cx="7565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CHIBALD FOUNT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381400" y="2057400"/>
            <a:ext cx="4381200" cy="292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066680" y="5029200"/>
            <a:ext cx="701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SA  (LAS  VEG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198360" y="762120"/>
            <a:ext cx="8747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LLAGIO FOUNT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1917720" y="1981080"/>
            <a:ext cx="5308560" cy="297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457200" y="50292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SSIA  (MOSCO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100080" y="762120"/>
            <a:ext cx="89438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OPLE'S FRIENDSHIP FOUNT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1865160" y="1981080"/>
            <a:ext cx="541368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457200" y="5029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ALY  (ROM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4800" y="762120"/>
            <a:ext cx="7934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EVI FOUNT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502000" y="1905120"/>
            <a:ext cx="4140000" cy="30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343080" y="5029200"/>
            <a:ext cx="845820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NA  (XIA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31760" y="762120"/>
            <a:ext cx="888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G WILD GOOSE PAGODA FOUNTAI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1752480" y="1916280"/>
            <a:ext cx="5639040" cy="305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457200" y="5029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NGAP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439560" y="762120"/>
            <a:ext cx="8264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NTAIN OF WEAL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503440" y="2057400"/>
            <a:ext cx="4137120" cy="291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45720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CE  (PARI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500040" y="762120"/>
            <a:ext cx="8143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RAVINSKY FOUNT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2003400" y="1981080"/>
            <a:ext cx="513720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1143000" y="50292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AE  (DUBA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311040" y="762120"/>
            <a:ext cx="8521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RJ KHALIFA FOUNT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2347920" y="2057400"/>
            <a:ext cx="444816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89000" y="762120"/>
            <a:ext cx="8766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LLAGIO FOUNTA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1917720" y="1981080"/>
            <a:ext cx="5308560" cy="297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457200" y="5029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AIN  (BARCELON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266760" y="762120"/>
            <a:ext cx="8610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GIC FOUNTAIN OF MONTJUI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905120" y="2011320"/>
            <a:ext cx="5333760" cy="300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380880" y="502920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UTH  KOREA  (SEOU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204840" y="762120"/>
            <a:ext cx="87343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NPO BRIDGE RAINBOW FOUNTA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720800" y="2004840"/>
            <a:ext cx="5702400" cy="294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45720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STRALIA  (SYDNE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839880" y="762120"/>
            <a:ext cx="7462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CHIBALD FOUNT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2381400" y="2057400"/>
            <a:ext cx="4381200" cy="292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03320" y="761760"/>
            <a:ext cx="89373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OPLE'S FRIENDSHIP FOUNTA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865160" y="1981080"/>
            <a:ext cx="541368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598320" y="762120"/>
            <a:ext cx="7947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EVI FOUNT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502000" y="1905120"/>
            <a:ext cx="4140000" cy="30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19160" y="762120"/>
            <a:ext cx="8905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G WILD GOOSE PAGODA FOUNTAI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752480" y="1916280"/>
            <a:ext cx="5639040" cy="305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UNTAIN OF WEAL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503440" y="2057400"/>
            <a:ext cx="4137120" cy="29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87360" y="761760"/>
            <a:ext cx="8369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RAVINSKY FOUNTA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003400" y="1981080"/>
            <a:ext cx="51372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85920" y="761760"/>
            <a:ext cx="8372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RJ KHALIFA FOUNTA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347920" y="2057400"/>
            <a:ext cx="44481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16080" y="761760"/>
            <a:ext cx="8511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GIC FOUNTAIN OF MONTJUI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905120" y="2011320"/>
            <a:ext cx="5333760" cy="3006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1-06-13T14:27:01Z</dcterms:modified>
  <cp:revision>395</cp:revision>
  <dc:subject/>
  <dc:title>Slide 1</dc:title>
</cp:coreProperties>
</file>