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092-CFB8-4DA0-A32F-D7835AC73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4A58-27F7-432C-B3A5-E48FB55C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206-4870-4C34-BFDA-BBA0CE2CB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E7B8-3D5C-46DE-BB19-5355B774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6A1C-3C57-4E1F-99B0-2414AB0B6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6F3B-DEF5-4F4B-BA13-F37C6D83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0F4-8146-45C1-BD02-CBC0DD5F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F0CC-EB34-4330-AACE-5FA030359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247-AA9B-4E6D-BB91-76E22DF80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84C4-C015-4664-B851-BF83457A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AEA8-C386-4EED-A029-A680DCB4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9FE2-9963-4542-839B-31A64AFA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477-F819-4797-8348-91CFCDCC4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605F-5960-4E73-88D3-8E2D98452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28B5-3C96-4821-82E1-E8E23A27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DAC-5577-478A-B70D-278B5348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6901-88FD-496B-8E47-BAB3DEE7E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B566-8B6C-4213-9AF9-F777FE59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2C26-2019-4E15-86E9-4597B9B7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C238-06E6-4ADB-8BA9-7C9DA314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13B5-808A-44DB-B589-95EFC2A3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CE4A-0CE6-4E2A-87A5-B0CC8B08F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0EFD-5759-4527-8138-0E298F4D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176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WO ADJACENT U.S. STATES ARE SHOWN (WITHOUT THEIR COMMON BOUNDARY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ND-SD.gif"/>
          <p:cNvPicPr/>
          <p:nvPr/>
        </p:nvPicPr>
        <p:blipFill>
          <a:blip r:embed="rId1"/>
          <a:stretch/>
        </p:blipFill>
        <p:spPr>
          <a:xfrm>
            <a:off x="2719440" y="1490760"/>
            <a:ext cx="370512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ID-MT.gif"/>
          <p:cNvPicPr/>
          <p:nvPr/>
        </p:nvPicPr>
        <p:blipFill>
          <a:blip r:embed="rId1"/>
          <a:stretch/>
        </p:blipFill>
        <p:spPr>
          <a:xfrm>
            <a:off x="1828800" y="1523880"/>
            <a:ext cx="5403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30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  VIRGINIA  &amp;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VA-WV.gif"/>
          <p:cNvPicPr/>
          <p:nvPr/>
        </p:nvPicPr>
        <p:blipFill>
          <a:blip r:embed="rId1"/>
          <a:stretch/>
        </p:blipFill>
        <p:spPr>
          <a:xfrm>
            <a:off x="1703520" y="1414440"/>
            <a:ext cx="57369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  &amp;  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IN-IL.gif"/>
          <p:cNvPicPr/>
          <p:nvPr/>
        </p:nvPicPr>
        <p:blipFill>
          <a:blip r:embed="rId1"/>
          <a:stretch/>
        </p:blipFill>
        <p:spPr>
          <a:xfrm>
            <a:off x="2590920" y="1447920"/>
            <a:ext cx="396216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  &amp;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S-AL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&amp;  SOUTH  CAR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A-SC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98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698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OURI  &amp;  ARKAN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O-AR.gif"/>
          <p:cNvPicPr/>
          <p:nvPr/>
        </p:nvPicPr>
        <p:blipFill>
          <a:blip r:embed="rId1"/>
          <a:stretch/>
        </p:blipFill>
        <p:spPr>
          <a:xfrm>
            <a:off x="3062160" y="1447920"/>
            <a:ext cx="304488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&amp;  NEW 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Z-NM.gif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8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  &amp;  NEW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VT-NH.gif"/>
          <p:cNvPicPr/>
          <p:nvPr/>
        </p:nvPicPr>
        <p:blipFill>
          <a:blip r:embed="rId1"/>
          <a:stretch/>
        </p:blipFill>
        <p:spPr>
          <a:xfrm>
            <a:off x="2800440" y="1447920"/>
            <a:ext cx="354168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VA-WV.gif"/>
          <p:cNvPicPr/>
          <p:nvPr/>
        </p:nvPicPr>
        <p:blipFill>
          <a:blip r:embed="rId1"/>
          <a:stretch/>
        </p:blipFill>
        <p:spPr>
          <a:xfrm>
            <a:off x="1703520" y="1447920"/>
            <a:ext cx="57369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TAH  &amp;  WY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UT-WY.gif"/>
          <p:cNvPicPr/>
          <p:nvPr/>
        </p:nvPicPr>
        <p:blipFill>
          <a:blip r:embed="rId1"/>
          <a:stretch/>
        </p:blipFill>
        <p:spPr>
          <a:xfrm>
            <a:off x="2476440" y="1413000"/>
            <a:ext cx="4191120" cy="33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&amp;  SOUTH 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ND-SD.gif"/>
          <p:cNvPicPr/>
          <p:nvPr/>
        </p:nvPicPr>
        <p:blipFill>
          <a:blip r:embed="rId1"/>
          <a:stretch/>
        </p:blipFill>
        <p:spPr>
          <a:xfrm>
            <a:off x="2719440" y="1482840"/>
            <a:ext cx="3705120" cy="31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AHO  &amp;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ID-MT.gif"/>
          <p:cNvPicPr/>
          <p:nvPr/>
        </p:nvPicPr>
        <p:blipFill>
          <a:blip r:embed="rId1"/>
          <a:stretch/>
        </p:blipFill>
        <p:spPr>
          <a:xfrm>
            <a:off x="1870200" y="1447920"/>
            <a:ext cx="5403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IN-IL.gif"/>
          <p:cNvPicPr/>
          <p:nvPr/>
        </p:nvPicPr>
        <p:blipFill>
          <a:blip r:embed="rId1"/>
          <a:stretch/>
        </p:blipFill>
        <p:spPr>
          <a:xfrm>
            <a:off x="2590920" y="1447920"/>
            <a:ext cx="396216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MS-AL.gif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A-SC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O-AR.gif"/>
          <p:cNvPicPr/>
          <p:nvPr/>
        </p:nvPicPr>
        <p:blipFill>
          <a:blip r:embed="rId1"/>
          <a:stretch/>
        </p:blipFill>
        <p:spPr>
          <a:xfrm>
            <a:off x="3049560" y="1457280"/>
            <a:ext cx="304488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Z-NM.gif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VT-NH.gif"/>
          <p:cNvPicPr/>
          <p:nvPr/>
        </p:nvPicPr>
        <p:blipFill>
          <a:blip r:embed="rId1"/>
          <a:stretch/>
        </p:blipFill>
        <p:spPr>
          <a:xfrm>
            <a:off x="2800440" y="1447920"/>
            <a:ext cx="35416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71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UT-WY.gif"/>
          <p:cNvPicPr/>
          <p:nvPr/>
        </p:nvPicPr>
        <p:blipFill>
          <a:blip r:embed="rId1"/>
          <a:stretch/>
        </p:blipFill>
        <p:spPr>
          <a:xfrm>
            <a:off x="2438280" y="1447920"/>
            <a:ext cx="4191120" cy="338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19:30:34Z</dcterms:modified>
  <cp:revision>282</cp:revision>
  <dc:subject/>
  <dc:title>Slide 1</dc:title>
</cp:coreProperties>
</file>