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D69-A6D0-4F9C-999C-9C85E2DCC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12CB-6104-47B1-B2A3-466955B2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AB8-D5A3-4E92-9AC0-51F8AB7E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26BE-E277-456D-AFCA-C92DF278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23E-159C-451B-943D-4AF21A6B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8995-8411-44A1-9760-CF07DB92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EEB-999C-4E3E-9164-67670E50D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468-F4E6-4772-A26B-2872F7BF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A616-BCC4-429F-B22D-E1C0D9BF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148-57A6-4C01-BD14-0AA73427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2BE-F1E1-449F-AEB1-4344C1EC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CB4-B669-4DA4-A1AE-761FB03D7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A963-8009-4E9F-AB19-E8EF0CA6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2AC-B133-490A-BC74-5517ACCC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233-4D70-4C7D-8826-5A220CAA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324-F197-4754-97B0-249BDE83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ECAC-2911-4AA1-B26D-86C0154D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2866-D8F7-4C7F-92CE-4656B2A9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FF57-D819-451F-AAB7-107140D0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68E-98D4-4FC2-B552-F1EA7DD4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BFB-2981-4835-94CA-23A07E5A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C47B-2348-4543-B41A-3363498B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353-717D-433E-AF53-F2C8EF66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176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WO ADJACENT U.S. STATES ARE SHOWN (WITHOUT THEIR COMMON BOUNDARY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D-SD.gif"/>
          <p:cNvPicPr/>
          <p:nvPr/>
        </p:nvPicPr>
        <p:blipFill>
          <a:blip r:embed="rId1"/>
          <a:stretch/>
        </p:blipFill>
        <p:spPr>
          <a:xfrm>
            <a:off x="2719440" y="1490760"/>
            <a:ext cx="370512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ID-MT.gif"/>
          <p:cNvPicPr/>
          <p:nvPr/>
        </p:nvPicPr>
        <p:blipFill>
          <a:blip r:embed="rId1"/>
          <a:stretch/>
        </p:blipFill>
        <p:spPr>
          <a:xfrm>
            <a:off x="1828800" y="1523880"/>
            <a:ext cx="5403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30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A-WV.gif"/>
          <p:cNvPicPr/>
          <p:nvPr/>
        </p:nvPicPr>
        <p:blipFill>
          <a:blip r:embed="rId1"/>
          <a:stretch/>
        </p:blipFill>
        <p:spPr>
          <a:xfrm>
            <a:off x="1703520" y="141444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  &amp;  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&amp;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S-AL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&amp;  SOU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98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98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&amp;  AR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O-AR.gif"/>
          <p:cNvPicPr/>
          <p:nvPr/>
        </p:nvPicPr>
        <p:blipFill>
          <a:blip r:embed="rId1"/>
          <a:stretch/>
        </p:blipFill>
        <p:spPr>
          <a:xfrm>
            <a:off x="3062160" y="144792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8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  &amp;  NEW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A-WV.gif"/>
          <p:cNvPicPr/>
          <p:nvPr/>
        </p:nvPicPr>
        <p:blipFill>
          <a:blip r:embed="rId1"/>
          <a:stretch/>
        </p:blipFill>
        <p:spPr>
          <a:xfrm>
            <a:off x="1703520" y="144792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T-WY.gif"/>
          <p:cNvPicPr/>
          <p:nvPr/>
        </p:nvPicPr>
        <p:blipFill>
          <a:blip r:embed="rId1"/>
          <a:stretch/>
        </p:blipFill>
        <p:spPr>
          <a:xfrm>
            <a:off x="2476440" y="141300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D-SD.gif"/>
          <p:cNvPicPr/>
          <p:nvPr/>
        </p:nvPicPr>
        <p:blipFill>
          <a:blip r:embed="rId1"/>
          <a:stretch/>
        </p:blipFill>
        <p:spPr>
          <a:xfrm>
            <a:off x="2719440" y="1482840"/>
            <a:ext cx="370512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  &amp;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ID-MT.gif"/>
          <p:cNvPicPr/>
          <p:nvPr/>
        </p:nvPicPr>
        <p:blipFill>
          <a:blip r:embed="rId1"/>
          <a:stretch/>
        </p:blipFill>
        <p:spPr>
          <a:xfrm>
            <a:off x="1870200" y="1447920"/>
            <a:ext cx="5403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S-AL.gif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O-AR.gif"/>
          <p:cNvPicPr/>
          <p:nvPr/>
        </p:nvPicPr>
        <p:blipFill>
          <a:blip r:embed="rId1"/>
          <a:stretch/>
        </p:blipFill>
        <p:spPr>
          <a:xfrm>
            <a:off x="3049560" y="145728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UT-WY.gif"/>
          <p:cNvPicPr/>
          <p:nvPr/>
        </p:nvPicPr>
        <p:blipFill>
          <a:blip r:embed="rId1"/>
          <a:stretch/>
        </p:blipFill>
        <p:spPr>
          <a:xfrm>
            <a:off x="2438280" y="144792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9:30:34Z</dcterms:modified>
  <cp:revision>282</cp:revision>
  <dc:subject/>
  <dc:title>Slide 1</dc:title>
</cp:coreProperties>
</file>