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DD24-CFF2-4A01-B024-17475CBAE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EAFE-AC22-4856-ADAE-78AB55267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3505-CB7E-4070-B2C1-91FF6032E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F2D1-37F9-4185-AFDE-39F1102E9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BA50-554B-4404-99F1-B3DA3210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C82F-2BB5-4529-9FB3-F3061F2B5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FE54-B8B9-4D2E-9B6A-1DB4DDD39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E45E9-F6AC-4455-9772-BDA5F2201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2569-E795-401F-8509-A7F723F00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786F-027C-4DB3-B8E4-F85EC6108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0626-EFFB-4ED1-B8B9-467620304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E5D9-28E8-405B-BFFE-0C5459B20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1BF6-9494-4BF8-97D9-970D48B6E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44BF-50B1-40BC-9D88-5CD5EB83A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160F-E34C-4C6F-B48B-50D02AEA9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64F2-4AB6-4FED-A394-127213C02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D0AA-AAEB-4490-96B2-DC20E10A4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57C4-6B46-45BD-98D5-28E67B4A9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9D0E-E9A2-496B-ADF3-6D872C587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A04C-C978-4CB4-99D9-87203F593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185D-2D20-43D5-B944-F9B3D6F50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A05A-BEED-4A51-8B95-D1FD10D67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4566-1291-4D8A-B4D5-A08CE8A20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176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WO ADJACENT U.S. STATES ARE SHOWN (WITHOUT THEIR COMMON BOUNDARY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ND-SD.gif"/>
          <p:cNvPicPr/>
          <p:nvPr/>
        </p:nvPicPr>
        <p:blipFill>
          <a:blip r:embed="rId1"/>
          <a:stretch/>
        </p:blipFill>
        <p:spPr>
          <a:xfrm>
            <a:off x="2719440" y="1490760"/>
            <a:ext cx="3705120" cy="31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ID-MT.gif"/>
          <p:cNvPicPr/>
          <p:nvPr/>
        </p:nvPicPr>
        <p:blipFill>
          <a:blip r:embed="rId1"/>
          <a:stretch/>
        </p:blipFill>
        <p:spPr>
          <a:xfrm>
            <a:off x="1828800" y="1523880"/>
            <a:ext cx="5403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30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  VIRGINIA  &amp;  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VA-WV.gif"/>
          <p:cNvPicPr/>
          <p:nvPr/>
        </p:nvPicPr>
        <p:blipFill>
          <a:blip r:embed="rId1"/>
          <a:stretch/>
        </p:blipFill>
        <p:spPr>
          <a:xfrm>
            <a:off x="1703520" y="1414440"/>
            <a:ext cx="573696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LLINOIS  &amp;  IND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IN-IL.gif"/>
          <p:cNvPicPr/>
          <p:nvPr/>
        </p:nvPicPr>
        <p:blipFill>
          <a:blip r:embed="rId1"/>
          <a:stretch/>
        </p:blipFill>
        <p:spPr>
          <a:xfrm>
            <a:off x="2590920" y="1447920"/>
            <a:ext cx="396216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SSIPPI  &amp;  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MS-AL.gif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33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  &amp;  SOUTH  CAR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GA-SC.gif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69800" y="774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698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OURI  &amp;  ARKAN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O-AR.gif"/>
          <p:cNvPicPr/>
          <p:nvPr/>
        </p:nvPicPr>
        <p:blipFill>
          <a:blip r:embed="rId1"/>
          <a:stretch/>
        </p:blipFill>
        <p:spPr>
          <a:xfrm>
            <a:off x="3062160" y="1447920"/>
            <a:ext cx="3044880" cy="344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  &amp;  NEW  MEX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AZ-NM.gif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8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MONT  &amp;  NEW HAMPS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VT-NH.gif"/>
          <p:cNvPicPr/>
          <p:nvPr/>
        </p:nvPicPr>
        <p:blipFill>
          <a:blip r:embed="rId1"/>
          <a:stretch/>
        </p:blipFill>
        <p:spPr>
          <a:xfrm>
            <a:off x="2800440" y="1447920"/>
            <a:ext cx="3541680" cy="32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VA-WV.gif"/>
          <p:cNvPicPr/>
          <p:nvPr/>
        </p:nvPicPr>
        <p:blipFill>
          <a:blip r:embed="rId1"/>
          <a:stretch/>
        </p:blipFill>
        <p:spPr>
          <a:xfrm>
            <a:off x="1703520" y="1447920"/>
            <a:ext cx="573696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TAH  &amp;  WYO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UT-WY.gif"/>
          <p:cNvPicPr/>
          <p:nvPr/>
        </p:nvPicPr>
        <p:blipFill>
          <a:blip r:embed="rId1"/>
          <a:stretch/>
        </p:blipFill>
        <p:spPr>
          <a:xfrm>
            <a:off x="2476440" y="1413000"/>
            <a:ext cx="4191120" cy="338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&amp;  SOUTH  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ND-SD.gif"/>
          <p:cNvPicPr/>
          <p:nvPr/>
        </p:nvPicPr>
        <p:blipFill>
          <a:blip r:embed="rId1"/>
          <a:stretch/>
        </p:blipFill>
        <p:spPr>
          <a:xfrm>
            <a:off x="2719440" y="1482840"/>
            <a:ext cx="3705120" cy="318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DAHO  &amp;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ID-MT.gif"/>
          <p:cNvPicPr/>
          <p:nvPr/>
        </p:nvPicPr>
        <p:blipFill>
          <a:blip r:embed="rId1"/>
          <a:stretch/>
        </p:blipFill>
        <p:spPr>
          <a:xfrm>
            <a:off x="1870200" y="1447920"/>
            <a:ext cx="54036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IN-IL.gif"/>
          <p:cNvPicPr/>
          <p:nvPr/>
        </p:nvPicPr>
        <p:blipFill>
          <a:blip r:embed="rId1"/>
          <a:stretch/>
        </p:blipFill>
        <p:spPr>
          <a:xfrm>
            <a:off x="2590920" y="1447920"/>
            <a:ext cx="396216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MS-AL.gif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33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GA-SC.gif"/>
          <p:cNvPicPr/>
          <p:nvPr/>
        </p:nvPicPr>
        <p:blipFill>
          <a:blip r:embed="rId1"/>
          <a:stretch/>
        </p:blipFill>
        <p:spPr>
          <a:xfrm>
            <a:off x="2286000" y="1447920"/>
            <a:ext cx="4572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O-AR.gif"/>
          <p:cNvPicPr/>
          <p:nvPr/>
        </p:nvPicPr>
        <p:blipFill>
          <a:blip r:embed="rId1"/>
          <a:stretch/>
        </p:blipFill>
        <p:spPr>
          <a:xfrm>
            <a:off x="3049560" y="1457280"/>
            <a:ext cx="3044880" cy="344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Z-NM.gif"/>
          <p:cNvPicPr/>
          <p:nvPr/>
        </p:nvPicPr>
        <p:blipFill>
          <a:blip r:embed="rId1"/>
          <a:stretch/>
        </p:blipFill>
        <p:spPr>
          <a:xfrm>
            <a:off x="1523880" y="1447920"/>
            <a:ext cx="609624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VT-NH.gif"/>
          <p:cNvPicPr/>
          <p:nvPr/>
        </p:nvPicPr>
        <p:blipFill>
          <a:blip r:embed="rId1"/>
          <a:stretch/>
        </p:blipFill>
        <p:spPr>
          <a:xfrm>
            <a:off x="2800440" y="1447920"/>
            <a:ext cx="3541680" cy="32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714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UT-WY.gif"/>
          <p:cNvPicPr/>
          <p:nvPr/>
        </p:nvPicPr>
        <p:blipFill>
          <a:blip r:embed="rId1"/>
          <a:stretch/>
        </p:blipFill>
        <p:spPr>
          <a:xfrm>
            <a:off x="2438280" y="1447920"/>
            <a:ext cx="4191120" cy="338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19:30:34Z</dcterms:modified>
  <cp:revision>282</cp:revision>
  <dc:subject/>
  <dc:title>Slide 1</dc:title>
</cp:coreProperties>
</file>