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45EFE-892C-4BC2-87CB-452C564B9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1131C-D426-4D3E-ADCE-5E2BD95E0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F24-045A-4060-BE71-FBB639BF7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3EFB-9531-4283-9A05-B18BDE9AF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CF06-B74E-48BD-889A-E925EC576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E3062-6DCB-4625-9758-C6E1D970F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018D-D0E5-4D29-9C00-9862BA608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6D5E-4291-461C-BC80-1689E1BF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3CC1E-3CAE-482A-BB59-4581FB790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B60F-6486-4EAB-B706-20A037A17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BACA-29B6-4ED1-AC28-64783FF22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2EC05-899A-4375-95A1-8E1FE735C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F02E-70EF-420A-A6F9-16CCA0CAF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6FC1-D7DB-4723-A71E-E7A19A8FE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7F23-9B7B-435A-A843-A70BE317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63E2D-6B46-4B6F-841A-70EF68437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9F30-53A4-4D21-B742-E7E76B50A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6CF9-C5C4-424E-B677-02103AB89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1C5E-49C4-4F1D-AC46-F66850615B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CA54-9AB3-4E2D-BC62-93058E50C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539C-D9A7-4EB5-A670-91382E97E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662D-E0FC-42BC-BB56-E64FE3575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1508-EEB7-4FAE-923A-B76225363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LORIDA COUN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444760" y="1295280"/>
            <a:ext cx="42544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683160" y="1295280"/>
            <a:ext cx="17776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166840" y="1295280"/>
            <a:ext cx="48103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 – D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OLU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3139920" y="1295280"/>
            <a:ext cx="2864160" cy="358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3562200" y="1295280"/>
            <a:ext cx="201960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E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784680" y="1295280"/>
            <a:ext cx="1574640" cy="35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MIN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974960" y="1295280"/>
            <a:ext cx="51940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349360" y="1295280"/>
            <a:ext cx="4445280" cy="302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166840" y="1295280"/>
            <a:ext cx="48103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G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3052800" y="1295280"/>
            <a:ext cx="3038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2444760" y="1295280"/>
            <a:ext cx="42544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V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3683160" y="1295280"/>
            <a:ext cx="17776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3165480" y="1295280"/>
            <a:ext cx="2813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717640" y="1295280"/>
            <a:ext cx="3708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139920" y="1295280"/>
            <a:ext cx="2864160" cy="35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562200" y="1295280"/>
            <a:ext cx="201960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784680" y="1295280"/>
            <a:ext cx="1574640" cy="358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1974960" y="1295280"/>
            <a:ext cx="51940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3052800" y="1295280"/>
            <a:ext cx="3038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7-12T12:44:18Z</dcterms:modified>
  <cp:revision>289</cp:revision>
  <dc:subject/>
  <dc:title>Slide 1</dc:title>
</cp:coreProperties>
</file>