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EE58-1AD0-4F9F-B5D5-B753A4DBB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46F7-84B5-46FB-9ED1-36EE62197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6676-CBB1-4E55-ADF9-3B948B8A0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FC2D-A2A1-4C48-89FB-659ABB603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162A-F18E-42EA-8823-F74448DFA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71E9-2045-407C-98EF-864BC73AF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2D39-E8C4-475F-8885-ED6CEBA96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FF4B-7BF5-451F-8DB7-BDB205D2E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295B-B5E2-40C8-87A4-C8095F189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C2B9-C2AD-4A23-8B35-0809486CF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6C4E-104A-4DE5-8DE9-111A69828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FAF4-39FD-482B-A5C2-F72DE70D8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49BC-E8F8-403E-94D3-87435CFA9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2A0E-235C-4724-83D4-3C3C8B72C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1902-34D3-47C3-A6C7-F4F9041BC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39B9-354A-4154-8F90-EF1CFF2DD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DAB9-2744-4C06-A35C-DEA161E18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F3AD-42A4-4365-A744-D14BABBC2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CC07-DA96-49A5-BD28-60B07DD4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CA85-FF34-46B2-BB7E-589C6A153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5A48-54BA-4D6B-A27D-79A9C0244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04B6-B2BD-486F-B2A3-E768430F4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DA90-D391-477A-AED8-0CACEB89C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LORIDA COUN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444760" y="1295280"/>
            <a:ext cx="42544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683160" y="1295280"/>
            <a:ext cx="17776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166840" y="1295280"/>
            <a:ext cx="481032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MI – D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3165480" y="1295280"/>
            <a:ext cx="28130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LU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717640" y="1295280"/>
            <a:ext cx="3708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139920" y="1295280"/>
            <a:ext cx="286416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562200" y="1295280"/>
            <a:ext cx="201960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E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784680" y="1295280"/>
            <a:ext cx="157464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MIN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974960" y="1295280"/>
            <a:ext cx="5194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49360" y="1295280"/>
            <a:ext cx="4445280" cy="3022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166840" y="1295280"/>
            <a:ext cx="481032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G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3052800" y="1295280"/>
            <a:ext cx="3038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444760" y="1295280"/>
            <a:ext cx="42544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V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3683160" y="1295280"/>
            <a:ext cx="17776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165480" y="1295280"/>
            <a:ext cx="2813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717640" y="1295280"/>
            <a:ext cx="3708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139920" y="1295280"/>
            <a:ext cx="286416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562200" y="1295280"/>
            <a:ext cx="2019600" cy="35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784680" y="1295280"/>
            <a:ext cx="157464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974960" y="1295280"/>
            <a:ext cx="5194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052800" y="1295280"/>
            <a:ext cx="3038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7-12T12:44:18Z</dcterms:modified>
  <cp:revision>289</cp:revision>
  <dc:subject/>
  <dc:title>Slide 1</dc:title>
</cp:coreProperties>
</file>