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1.png" ContentType="image/png"/>
  <Override PartName="/ppt/media/image3.gif" ContentType="image/gif"/>
  <Override PartName="/ppt/media/image26.gif" ContentType="image/gif"/>
  <Override PartName="/ppt/media/image32.png" ContentType="image/png"/>
  <Override PartName="/ppt/media/image7.png" ContentType="image/png"/>
  <Override PartName="/ppt/media/image1.jpeg" ContentType="image/jpeg"/>
  <Override PartName="/ppt/media/image38.gif" ContentType="image/gif"/>
  <Override PartName="/ppt/media/image40.gif" ContentType="image/gif"/>
  <Override PartName="/ppt/media/image33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gif" ContentType="image/gif"/>
  <Override PartName="/ppt/media/image41.gif" ContentType="image/gif"/>
  <Override PartName="/ppt/media/image34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42.gif" ContentType="image/gif"/>
  <Override PartName="/ppt/media/image35.png" ContentType="image/png"/>
  <Override PartName="/ppt/media/image36.png" ContentType="image/png"/>
  <Override PartName="/ppt/media/image43.gif" ContentType="image/gif"/>
  <Override PartName="/ppt/media/image37.gif" ContentType="image/gif"/>
  <Override PartName="/ppt/media/image30.png" ContentType="image/png"/>
  <Override PartName="/ppt/media/image2.gif" ContentType="image/gif"/>
  <Override PartName="/ppt/media/image25.gif" ContentType="image/gif"/>
  <Override PartName="/ppt/media/image13.gif" ContentType="image/gif"/>
  <Override PartName="/ppt/media/image12.gif" ContentType="image/gif"/>
  <Override PartName="/ppt/media/image11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4331-1C7F-46AE-8DF9-397112A9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CBF-5CA3-4932-87E6-55260EC2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8331-DCE1-4D94-9CA6-DBAAE33C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9CA5-8D57-43E2-99B0-676E28CB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DFD-817D-4209-BBF4-31F41A6C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BB2-44C2-438C-8E73-E72824D34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7336-91EB-4D82-B7BC-F456A9B5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C304-ACF4-4916-B4D7-8CC15C801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CC33-D018-434E-A58B-03B34836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5BC-8FB2-4C4D-A98E-E828C2E8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B4E-E418-47A3-B724-103D76272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9DA6-8581-4AE3-AD4F-36DA87D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861E-436D-413B-A809-14CFE709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1B1F-CB91-4702-BDD5-B04295E9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E4C5-1A27-4D41-860A-14763804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0D7-00BE-49FA-8CEF-54E64F56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C2B-CF68-4E81-B498-600FA666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665E-240D-4D1D-8457-0637DF37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ACC0-FCF2-4275-A5B4-4139EF15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DCEC-7F09-48E2-9173-18FDFE92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3C8-60A2-415C-8663-0BB43350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6208-8079-468D-8705-3A27B42A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DF77-2AD1-4139-9114-89A4550F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1800" y="1333440"/>
            <a:ext cx="8420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 THE FLAGS OF THESE SETS OF COUNTRIES HAVE IN COMM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IRELAND, SENEGAL, ITALY, NIGERIA, AND SRI LANK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1720" y="762120"/>
            <a:ext cx="700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KIRIBATI, MALAWI, AND ANTIGUA AND BARBUDA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XACTLY  2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0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PANAMA, CURACAO, SAINT KITTS AND NEVIS, AND SAO TOME AND PRINCI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080" y="3776760"/>
            <a:ext cx="1465200" cy="941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957320" y="3776760"/>
            <a:ext cx="141120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3625920" y="3776760"/>
            <a:ext cx="1412640" cy="94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5295960" y="3776760"/>
            <a:ext cx="1409760" cy="94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6964200" y="376560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77800" y="4952880"/>
            <a:ext cx="622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  LONG 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59080" y="762120"/>
            <a:ext cx="6225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WITZERLAND, NEPAL, AND VATICAN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772080" y="2722680"/>
            <a:ext cx="1638000" cy="19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143000" y="271476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6019920" y="272880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440" y="49528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RESCENT  MOON  &amp;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79280" y="762120"/>
            <a:ext cx="57405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ERIA, PAKISTAN, MALAYSIA, TURKEY, LIBYA, AND TUNIS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7680" y="3429000"/>
            <a:ext cx="19429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622760" y="3429000"/>
            <a:ext cx="194328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127920" y="403200"/>
            <a:ext cx="2590560" cy="129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2438280" y="3427560"/>
            <a:ext cx="194004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6127920" y="1905120"/>
            <a:ext cx="2616120" cy="131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6"/>
          <a:stretch/>
        </p:blipFill>
        <p:spPr>
          <a:xfrm>
            <a:off x="6810480" y="3422520"/>
            <a:ext cx="19382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ZIGZ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03200" y="762120"/>
            <a:ext cx="833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HRAIN, KIRIBATI, AND QA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03200" y="2209680"/>
            <a:ext cx="2436840" cy="14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198960" y="2209680"/>
            <a:ext cx="2211120" cy="14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5769000" y="2209680"/>
            <a:ext cx="290988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IRELY  BLUE  &amp;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09640" y="762120"/>
            <a:ext cx="7524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LAND, ISRAEL, GREECE, HONDURAS, AND SO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72960" y="3430440"/>
            <a:ext cx="1521000" cy="93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651120" y="3443400"/>
            <a:ext cx="1403640" cy="90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5288040" y="3435480"/>
            <a:ext cx="1824120" cy="91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4"/>
          <a:stretch/>
        </p:blipFill>
        <p:spPr>
          <a:xfrm>
            <a:off x="7345440" y="3430440"/>
            <a:ext cx="1371600" cy="9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2128680" y="3432240"/>
            <a:ext cx="1289160" cy="93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RED  CR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7160" y="762120"/>
            <a:ext cx="868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LAND, TONGA, AND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8560" y="2286000"/>
            <a:ext cx="20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9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367320" y="2286000"/>
            <a:ext cx="219096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143000" y="4606920"/>
            <a:ext cx="685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BOTH  VERTICAL  &amp;  HORIZONTAL 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3760" y="830160"/>
            <a:ext cx="5843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, JAMAICA, ISRAEL, LAOS, PERU, AND MICRONE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57200" y="3386160"/>
            <a:ext cx="1846440" cy="123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029280" y="250920"/>
            <a:ext cx="270684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2666880" y="3386160"/>
            <a:ext cx="1694160" cy="123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4724280" y="3373560"/>
            <a:ext cx="1846440" cy="123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6934320" y="3386160"/>
            <a:ext cx="1846080" cy="123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6"/>
          <a:stretch/>
        </p:blipFill>
        <p:spPr>
          <a:xfrm>
            <a:off x="6033960" y="1776240"/>
            <a:ext cx="270684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SYRIA, PANAMA, CURACAO, SAINT KITTS AND NEVIS, AND SAO TOME AND PRINCIP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92000" y="762120"/>
            <a:ext cx="756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MINICA, KAZAKHSTAN, PAPUA NEW GUINEA, UGANDA, AND ALB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80880" y="3203640"/>
            <a:ext cx="1435320" cy="144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2071800" y="319716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00600" y="3205080"/>
            <a:ext cx="1360440" cy="143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5516640" y="3203640"/>
            <a:ext cx="137628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5"/>
          <a:stretch/>
        </p:blipFill>
        <p:spPr>
          <a:xfrm>
            <a:off x="7151760" y="3203640"/>
            <a:ext cx="135900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89000" y="495288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VERTICAL  GREEN  STR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2560" y="762120"/>
            <a:ext cx="5261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ELAND, SENEGAL, ITALY, NIGERIA, AND SRI LAN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5960" y="3429000"/>
            <a:ext cx="24382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6554880" y="476280"/>
            <a:ext cx="1908000" cy="127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3359160" y="3429000"/>
            <a:ext cx="2438280" cy="122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095880" y="3429000"/>
            <a:ext cx="240048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>
            <a:off x="6572160" y="1947960"/>
            <a:ext cx="188928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  RISING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138320" y="762120"/>
            <a:ext cx="686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IBATI, MALAWI, AND ANTIGUA AND BARBU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59092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6168960" y="2743200"/>
            <a:ext cx="25941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8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SWITZERLAND, NEPAL, AND VATICAN CITY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5040" y="762120"/>
            <a:ext cx="841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ALGERIA, PAKISTAN, MALAYSIA, TURKEY, LIBYA, AND TUNISIA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BAHRAIN, KIRIBATI, AND QATAR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7600" y="761760"/>
            <a:ext cx="8308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FINLAND, ISRAEL, GREECE, HONDURAS, MICRONESIA, AND SOMAL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ICELAND, TONGA, AND GEORG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JAPAN, JAMAICA, ISRAEL, LAOS, PERU, AND MICRONES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1080" y="761760"/>
            <a:ext cx="75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DOMINICA, KAZAKHSTAN, PAPUA NEW GUINEA, UGANDA, AND ALBAN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26T21:01:28Z</dcterms:modified>
  <cp:revision>382</cp:revision>
  <dc:subject/>
  <dc:title>Slide 1</dc:title>
</cp:coreProperties>
</file>