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4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3.png" ContentType="image/png"/>
  <Override PartName="/ppt/media/image20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31.png" ContentType="image/png"/>
  <Override PartName="/ppt/media/image3.gif" ContentType="image/gif"/>
  <Override PartName="/ppt/media/image26.gif" ContentType="image/gif"/>
  <Override PartName="/ppt/media/image32.png" ContentType="image/png"/>
  <Override PartName="/ppt/media/image7.png" ContentType="image/png"/>
  <Override PartName="/ppt/media/image1.jpeg" ContentType="image/jpeg"/>
  <Override PartName="/ppt/media/image38.gif" ContentType="image/gif"/>
  <Override PartName="/ppt/media/image40.gif" ContentType="image/gif"/>
  <Override PartName="/ppt/media/image33.png" ContentType="image/png"/>
  <Override PartName="/ppt/media/image8.png" ContentType="image/png"/>
  <Override PartName="/ppt/media/image28.png" ContentType="image/png"/>
  <Override PartName="/ppt/media/image5.gif" ContentType="image/gif"/>
  <Override PartName="/ppt/media/image39.gif" ContentType="image/gif"/>
  <Override PartName="/ppt/media/image41.gif" ContentType="image/gif"/>
  <Override PartName="/ppt/media/image34.png" ContentType="image/png"/>
  <Override PartName="/ppt/media/image9.png" ContentType="image/png"/>
  <Override PartName="/ppt/media/image29.png" ContentType="image/png"/>
  <Override PartName="/ppt/media/image6.gif" ContentType="image/gif"/>
  <Override PartName="/ppt/media/image42.gif" ContentType="image/gif"/>
  <Override PartName="/ppt/media/image35.png" ContentType="image/png"/>
  <Override PartName="/ppt/media/image36.png" ContentType="image/png"/>
  <Override PartName="/ppt/media/image43.gif" ContentType="image/gif"/>
  <Override PartName="/ppt/media/image37.gif" ContentType="image/gif"/>
  <Override PartName="/ppt/media/image30.png" ContentType="image/png"/>
  <Override PartName="/ppt/media/image2.gif" ContentType="image/gif"/>
  <Override PartName="/ppt/media/image25.gif" ContentType="image/gif"/>
  <Override PartName="/ppt/media/image13.gif" ContentType="image/gif"/>
  <Override PartName="/ppt/media/image12.gif" ContentType="image/gif"/>
  <Override PartName="/ppt/media/image11.gif" ContentType="image/gif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B5DE-CCA2-4C21-A47B-174724F47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E593-50C2-4D67-90B7-742D01BBB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8FA7-802E-4304-9704-A70A6518D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4C7B-5231-4EE8-966E-3F58774AB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80704-96F2-4608-BDE8-1CCEA31F7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F43B-78AA-423D-98A2-D4AF7CE1E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15E6-7923-4E5D-8467-54F00B1C6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CD43-AB78-4A55-940E-C1B7F8648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4406-39E0-4BF6-B289-3A9AFF310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9E38-2628-4D4C-90FC-C3ACE47AA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E2FB-AC30-4AED-835A-FEC3B94EB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0252-A43C-4A74-8D96-AA6515E1E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A765-7D2D-4A87-A46C-078740049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152D-6F22-451B-8BA2-F66E12B68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2A67-5A78-4A82-9D97-BAB24719C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6A6D-C5ED-4EA7-BD40-4EEFAB74F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F194-C342-4935-A975-6CC4D9CCA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F5C7-244C-4195-821F-720417DBD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5ED13-99D6-4B46-9261-F8704A39F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15F5-2ADE-4D99-8027-8C42D8D86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AA907-0918-4539-A64D-64ECADFE2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2977-2A83-48A8-90FA-C22557168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C1E8-6E06-4FAA-9C12-EC49D61B3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3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image" Target="../media/image38.gif"/><Relationship Id="rId3" Type="http://schemas.openxmlformats.org/officeDocument/2006/relationships/image" Target="../media/image39.gif"/><Relationship Id="rId4" Type="http://schemas.openxmlformats.org/officeDocument/2006/relationships/image" Target="../media/image40.gif"/><Relationship Id="rId5" Type="http://schemas.openxmlformats.org/officeDocument/2006/relationships/image" Target="../media/image41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42.gif"/><Relationship Id="rId3" Type="http://schemas.openxmlformats.org/officeDocument/2006/relationships/image" Target="../media/image4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61800" y="1333440"/>
            <a:ext cx="8420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DO THE FLAGS OF THESE SETS OF COUNTRIES HAVE IN COMMO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95160" y="761760"/>
            <a:ext cx="7753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FLAGS OF IRELAND, SENEGAL, ITALY, NIGERIA, AND SRI LANKA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071720" y="762120"/>
            <a:ext cx="7000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FLAGS OF KIRIBATI, MALAWI, AND ANTIGUA AND BARBUDA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EXACTLY  2  ST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15880" y="762120"/>
            <a:ext cx="81104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YRIA, PANAMA, CURACAO, SAINT KITTS AND NEVIS, AND SAO TOME AND PRINCI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35080" y="3776760"/>
            <a:ext cx="1465200" cy="941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1957320" y="3776760"/>
            <a:ext cx="1411200" cy="941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3625920" y="3776760"/>
            <a:ext cx="1412640" cy="941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4"/>
          <a:stretch/>
        </p:blipFill>
        <p:spPr>
          <a:xfrm>
            <a:off x="5295960" y="3776760"/>
            <a:ext cx="1409760" cy="942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5"/>
          <a:stretch/>
        </p:blipFill>
        <p:spPr>
          <a:xfrm>
            <a:off x="6964200" y="3765600"/>
            <a:ext cx="190512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477800" y="4952880"/>
            <a:ext cx="6226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T  LONG  RECT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1459080" y="762120"/>
            <a:ext cx="6225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WITZERLAND, NEPAL, AND VATICAN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3772080" y="2722680"/>
            <a:ext cx="1638000" cy="1996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1143000" y="271476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3"/>
          <a:stretch/>
        </p:blipFill>
        <p:spPr>
          <a:xfrm>
            <a:off x="6019920" y="272880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90440" y="4952880"/>
            <a:ext cx="8763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CRESCENT  MOON  &amp;  S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79280" y="762120"/>
            <a:ext cx="574056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GERIA, PAKISTAN, MALAYSIA, TURKEY, LIBYA, AND TUNISI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47680" y="3429000"/>
            <a:ext cx="1942920" cy="1295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4622760" y="3429000"/>
            <a:ext cx="1943280" cy="1297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6127920" y="403200"/>
            <a:ext cx="2590560" cy="1298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4"/>
          <a:stretch/>
        </p:blipFill>
        <p:spPr>
          <a:xfrm>
            <a:off x="2438280" y="3427560"/>
            <a:ext cx="1940040" cy="1295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5"/>
          <a:stretch/>
        </p:blipFill>
        <p:spPr>
          <a:xfrm>
            <a:off x="6127920" y="1905120"/>
            <a:ext cx="2616120" cy="1312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2" descr=""/>
          <p:cNvPicPr/>
          <p:nvPr/>
        </p:nvPicPr>
        <p:blipFill>
          <a:blip r:embed="rId6"/>
          <a:stretch/>
        </p:blipFill>
        <p:spPr>
          <a:xfrm>
            <a:off x="6810480" y="3422520"/>
            <a:ext cx="1938240" cy="12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ZIGZA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03200" y="762120"/>
            <a:ext cx="8336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HRAIN, KIRIBATI, AND QA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03200" y="2209680"/>
            <a:ext cx="2436840" cy="1460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3198960" y="2209680"/>
            <a:ext cx="2211120" cy="1476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3"/>
          <a:stretch/>
        </p:blipFill>
        <p:spPr>
          <a:xfrm>
            <a:off x="5769000" y="2209680"/>
            <a:ext cx="2909880" cy="146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TIRELY  BLUE  &amp;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809640" y="762120"/>
            <a:ext cx="75247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LAND, ISRAEL, GREECE, HONDURAS, AND SOM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72960" y="3430440"/>
            <a:ext cx="1521000" cy="935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3651120" y="3443400"/>
            <a:ext cx="1403640" cy="901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3"/>
          <a:stretch/>
        </p:blipFill>
        <p:spPr>
          <a:xfrm>
            <a:off x="5288040" y="3435480"/>
            <a:ext cx="1824120" cy="915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4"/>
          <a:stretch/>
        </p:blipFill>
        <p:spPr>
          <a:xfrm>
            <a:off x="7345440" y="3430440"/>
            <a:ext cx="1371600" cy="90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"/>
          <p:cNvPicPr/>
          <p:nvPr/>
        </p:nvPicPr>
        <p:blipFill>
          <a:blip r:embed="rId5"/>
          <a:stretch/>
        </p:blipFill>
        <p:spPr>
          <a:xfrm>
            <a:off x="2128680" y="3432240"/>
            <a:ext cx="1289160" cy="93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RED  CRO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227160" y="762120"/>
            <a:ext cx="8688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CELAND, TONGA, AND GEORG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628560" y="2286000"/>
            <a:ext cx="2014560" cy="1457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2914560" cy="1457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6367320" y="2286000"/>
            <a:ext cx="2190960" cy="14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3"/>
          <p:cNvSpPr/>
          <p:nvPr/>
        </p:nvSpPr>
        <p:spPr>
          <a:xfrm>
            <a:off x="1143000" y="4606920"/>
            <a:ext cx="685800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VE  BOTH  VERTICAL  &amp;  HORIZONTAL  SYM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23760" y="830160"/>
            <a:ext cx="584352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PAN, JAMAICA, ISRAEL, LAOS, PERU, AND MICRONE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457200" y="3386160"/>
            <a:ext cx="1846440" cy="1231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6029280" y="250920"/>
            <a:ext cx="2706840" cy="1352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3"/>
          <a:stretch/>
        </p:blipFill>
        <p:spPr>
          <a:xfrm>
            <a:off x="2666880" y="3386160"/>
            <a:ext cx="1694160" cy="1231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4"/>
          <a:stretch/>
        </p:blipFill>
        <p:spPr>
          <a:xfrm>
            <a:off x="4724280" y="3373560"/>
            <a:ext cx="1846440" cy="1231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5"/>
          <a:stretch/>
        </p:blipFill>
        <p:spPr>
          <a:xfrm>
            <a:off x="6934320" y="3386160"/>
            <a:ext cx="1846080" cy="1231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" descr=""/>
          <p:cNvPicPr/>
          <p:nvPr/>
        </p:nvPicPr>
        <p:blipFill>
          <a:blip r:embed="rId6"/>
          <a:stretch/>
        </p:blipFill>
        <p:spPr>
          <a:xfrm>
            <a:off x="6033960" y="1776240"/>
            <a:ext cx="2706840" cy="14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14520" y="762120"/>
            <a:ext cx="7920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FLAGS OF SYRIA, PANAMA, CURACAO, SAINT KITTS AND NEVIS, AND SAO TOME AND PRINCIPE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BI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792000" y="762120"/>
            <a:ext cx="7560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MINICA, KAZAKHSTAN, PAPUA NEW GUINEA, UGANDA, AND ALBA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380880" y="3203640"/>
            <a:ext cx="1435320" cy="1444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2071800" y="3197160"/>
            <a:ext cx="1573200" cy="1444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3"/>
          <a:stretch/>
        </p:blipFill>
        <p:spPr>
          <a:xfrm>
            <a:off x="3900600" y="3205080"/>
            <a:ext cx="1360440" cy="1436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/>
          <p:cNvPicPr/>
          <p:nvPr/>
        </p:nvPicPr>
        <p:blipFill>
          <a:blip r:embed="rId4"/>
          <a:stretch/>
        </p:blipFill>
        <p:spPr>
          <a:xfrm>
            <a:off x="5516640" y="3203640"/>
            <a:ext cx="1376280" cy="1436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"/>
          <p:cNvPicPr/>
          <p:nvPr/>
        </p:nvPicPr>
        <p:blipFill>
          <a:blip r:embed="rId5"/>
          <a:stretch/>
        </p:blipFill>
        <p:spPr>
          <a:xfrm>
            <a:off x="7151760" y="3203640"/>
            <a:ext cx="1359000" cy="147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3"/>
          <p:cNvSpPr/>
          <p:nvPr/>
        </p:nvSpPr>
        <p:spPr>
          <a:xfrm>
            <a:off x="189000" y="4952880"/>
            <a:ext cx="8762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VERTICAL  GREEN  STRI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682560" y="762120"/>
            <a:ext cx="52610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RELAND, SENEGAL, ITALY, NIGERIA, AND SRI LANK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615960" y="3429000"/>
            <a:ext cx="2438280" cy="121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6554880" y="476280"/>
            <a:ext cx="1908000" cy="1274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3359160" y="3429000"/>
            <a:ext cx="2438280" cy="1222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6095880" y="3429000"/>
            <a:ext cx="2400480" cy="12193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5"/>
          <a:stretch/>
        </p:blipFill>
        <p:spPr>
          <a:xfrm>
            <a:off x="6572160" y="1947960"/>
            <a:ext cx="1889280" cy="125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A  RISING  S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1138320" y="762120"/>
            <a:ext cx="6867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RIBATI, MALAWI, AND ANTIGUA AND BARBU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2590920" cy="1728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3276720" y="2743200"/>
            <a:ext cx="2590560" cy="1728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6168960" y="2743200"/>
            <a:ext cx="259416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76480" y="761760"/>
            <a:ext cx="678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FLAGS OF SWITZERLAND, NEPAL, AND VATICAN CITY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65040" y="762120"/>
            <a:ext cx="8413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FLAGS OF ALGERIA, PAKISTAN, MALAYSIA, TURKEY, LIBYA, AND TUNISIA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50800" y="762120"/>
            <a:ext cx="804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FLAGS OF BAHRAIN, KIRIBATI, AND QATAR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7600" y="761760"/>
            <a:ext cx="8308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FLAGS OF FINLAND, ISRAEL, GREECE, HONDURAS, MICRONESIA, AND SOMALIA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39200" y="761760"/>
            <a:ext cx="8263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FLAGS OF ICELAND, TONGA, AND GEORGIA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97000" y="761760"/>
            <a:ext cx="8550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FLAGS OF JAPAN, JAMAICA, ISRAEL, LAOS, PERU, AND MICRONESIA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11080" y="761760"/>
            <a:ext cx="7521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FLAGS OF DOMINICA, KAZAKHSTAN, PAPUA NEW GUINEA, UGANDA, AND ALBANIA HAVE IN CO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10-26T21:01:28Z</dcterms:modified>
  <cp:revision>382</cp:revision>
  <dc:subject/>
  <dc:title>Slide 1</dc:title>
</cp:coreProperties>
</file>