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12DD-BD12-4884-B6F2-38279A2C5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909A-9A54-4A08-B987-5B9EB00B4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000E-64E3-45E5-BE7F-CC5AD2BE8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DAE9-834F-4A73-B1C7-96EA7BEE0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052B-218E-4D73-87BA-B4526FBF9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320C-22FA-4803-A6A8-7E552ACFE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F9D1-D322-4341-AC53-046F2DC44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3C9F-8732-4BA6-ACB3-8761C11FF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C556-14DC-4D6C-8677-9AD1A0004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BE79-EFAC-4A55-AE24-AF00C78D3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87D6-019C-4477-8879-18B56C5B1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D634-631F-4555-86E6-896FBFEE8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E658-29BE-46E2-800E-5C1BA5269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FE3F-149F-4F35-BB9A-7ACE1734D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F093-4C62-4087-B451-C11421586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197D-380B-42F5-A54A-7FA59E689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2867-B11D-45E1-AAA9-A18418E54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2040-FA00-4136-84CA-04BE77103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56C2-C8AA-4568-8D73-8E074425D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A74D-B0A0-4816-B1A8-CFF0CBBE8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32C1-A8F7-48BF-AE87-D6BF80173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CF97-E550-44E8-9D93-F209A4165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2B4F-6F12-45CB-9F9D-050AB20E5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LAN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ORLANDO'S LARGEST EMPLOYER BEFORE DISNEY, RESPONSIBLE FOR THE 3-LETTER AIRPORT CODE "MC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033560" y="762120"/>
            <a:ext cx="7076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PICTURED ON THE LOGO FOR THE ORLANDO CITY SOCCER CL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LAS  VEG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68360" y="762120"/>
            <a:ext cx="8205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ORLANDO    IS THE NUMBER #1 TOURIST DESTINATION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TO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ATTRACTION IN THE ORLANDO AREA, FOUNDED IN 194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TLE,  COTTON  &amp;  CIT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25600" y="762120"/>
            <a:ext cx="8091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THE ATTRACTIONS, ORLANDO'S 3 LARGEST INDUSTRIES ALL BEGAN WITH "C".  WHAT WERE TH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  YOU  LIKE 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85720" y="762120"/>
            <a:ext cx="797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LANDO IS REPORTEDLY NAMED FOR THE LEAD IN WHAT SHAKESPEARE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ONIAL  DR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LANDO STREET WAS PART OF THE FIRST HIGHWAY IN CENTRAL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  TRUST  C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ALLEST BUILDING IN ORLAN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57360" y="762120"/>
            <a:ext cx="7829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ORLANDO'S CITY HALL WAS ACTUALLY BLOWN UP FOR A SCENE IN "LETHAL WEAPON 3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38120" y="762120"/>
            <a:ext cx="8267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ORLANDO    IS THE NUMBER #1 TOURIST DESTINATION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MINOLE  &amp;  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11240" y="762120"/>
            <a:ext cx="712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ME OF "SEMORAN" BLVD (HIGHWAY 436) IS A COMBINATION OF WHAT TWO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CCOY  AIRFORCE  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95360" y="762120"/>
            <a:ext cx="81914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ORLANDO'S LARGEST EMPLOYER BEFORE DISNEY, RESPONSIBLE FOR THE 3-LETTER AIRPORT CODE "MC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6676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52280" y="762120"/>
            <a:ext cx="5791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PICTURED ON THE LOGO FOR THE ORLANDO CITY SOCCER CL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159600" y="914400"/>
            <a:ext cx="2501640" cy="283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0760" y="761760"/>
            <a:ext cx="8319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ATTRACTION IN THE ORLANDO AREA, FOUNDED IN 194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63400" y="762120"/>
            <a:ext cx="80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THE ATTRACTIONS, ORLANDO'S 3 LARGEST INDUSTRIES ALL BEGAN WITH "C".  WHAT WERE TH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7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LANDO IS REPORTEDLY NAMED FOR THE LEAD IN WHAT SHAKESPEARE P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LANDO STREET WAS PART OF THE FIRST HIGHWAY IN CENTRAL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ALLEST BUILDING IN ORLAN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38280" y="761760"/>
            <a:ext cx="7867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ORLANDO'S CITY HALL WAS ACTUALLY BLOWN UP FOR A SCENE IN "LETHAL WEAPON 3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ME OF "SEMORAN" BLVD (HIGHWAY 436) IS A COMBINATION OF WHAT TWO WO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2-03-02T13:09:37Z</dcterms:modified>
  <cp:revision>360</cp:revision>
  <dc:subject/>
  <dc:title>Slide 1</dc:title>
</cp:coreProperties>
</file>