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3F58-01AB-404A-B24D-F1B51CCC1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5B7E-7B5F-43BD-A90D-651846BFB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7D28B-C320-43E5-9F90-0A27DEF0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E64-6190-415F-992E-33029A78C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A208-5829-4AC7-BA39-27C234CF8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B070-979C-457E-A7B6-903AA39B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C170-E6C2-4512-96BE-551885AE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01E1-F109-4CD6-AB7E-E709BF73F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F625-96F7-4996-9E1D-57D432CA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1B54-A05B-4E7B-95C2-8979C2758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93F6-7DA4-4D29-BC74-EAA08640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7CA-04DF-433A-A7B4-E0F507DD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B26C-E95A-429F-956A-61CC29D5E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8C7-06DB-4830-81F0-5115B43A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145A-3D71-4EB6-BF14-921A78477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F7CC-310A-4076-8BC1-D9960060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6922-DCD7-49FD-B1D7-EF8D6B59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CBA5-21E3-47F7-A569-2E57EF1AA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04CC-B776-4112-8A9C-D40B15D57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E65-8A4A-46E5-86F7-8DC55591E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D808-B6F1-4CB7-9278-79F0DE1E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EDE-4C15-43A4-AF05-1E5295A92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FB0F-EAB7-4C19-A814-17099B26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33560" y="762120"/>
            <a:ext cx="707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LOGO FOR THE ORLANDO CITY SOCCER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LAS  VEG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8360" y="762120"/>
            <a:ext cx="820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    IS THE NUMBER #1 TOURIST DESTINATION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TTRACTION IN THE ORLANDO AREA, FOUNDED IN 194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TLE,  COTTON  &amp;  CIT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25600" y="762120"/>
            <a:ext cx="80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ATTRACTIONS, ORLANDO'S 3 LARGEST INDUSTRIES ALL BEGAN WITH "C".  WHAT WE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 YOU  LIKE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5720" y="76212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ANDO IS REPORTEDLY NAMED FOR THE LEAD IN WHAT SHAKESPEARE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  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STREET WAS PART OF THE FIRST HIGHWAY IN CENTRAL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TRUST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ORL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57360" y="762120"/>
            <a:ext cx="782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'S CITY HALL WAS ACTUALLY BLOWN UP FOR A SCENE IN "LETHAL WEAPON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    IS THE NUMBER #1 TOURIST DESTINATION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  &amp;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11240" y="762120"/>
            <a:ext cx="71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"SEMORAN" BLVD (HIGHWAY 436) IS A COMBINATION OF WHAT TWO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Y  AIRFORCE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91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2280" y="762120"/>
            <a:ext cx="5791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CTURED ON THE LOGO FOR THE ORLANDO CITY SOCCER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159600" y="914400"/>
            <a:ext cx="2501640" cy="28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0760" y="761760"/>
            <a:ext cx="8319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TTRACTION IN THE ORLANDO AREA, FOUNDED IN 194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ATTRACTIONS, ORLANDO'S 3 LARGEST INDUSTRIES ALL BEGAN WITH "C".  WHAT WE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7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LANDO IS REPORTEDLY NAMED FOR THE LEAD IN WHAT SHAKESPEARE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STREET WAS PART OF THE FIRST HIGHWAY IN CENTRAL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ALLEST BUILDING IN ORLAN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LANDO'S CITY HALL WAS ACTUALLY BLOWN UP FOR A SCENE IN "LETHAL WEAPON 3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"SEMORAN" BLVD (HIGHWAY 436) IS A COMBINATION OF WHAT TWO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2T13:09:37Z</dcterms:modified>
  <cp:revision>360</cp:revision>
  <dc:subject/>
  <dc:title>Slide 1</dc:title>
</cp:coreProperties>
</file>