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17A8-C908-46D2-B74F-A29B560B6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D8B5-F828-47DB-BC33-F8F37B5F0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A2C1-BB03-4163-BB04-97275EB4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177B-F6FE-4A1F-92B5-60AD07F76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C664-6455-4F97-B793-8EBEAC0C3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895F-2232-4994-9356-F5B69FDA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655F-4C4A-4682-9D5D-E641FE6A9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0A8F-D97F-47D4-9EC4-533E3107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BF15-7EE3-4C06-B429-799AC0B07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CABA-EF3C-4C6B-A3DB-CDC097704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537A-348C-4674-800D-8B79FEB5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1496-BC69-40DA-8698-B6A06352B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158-1A4D-4910-90AB-21004681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42C9-78A9-445C-9706-90E38669D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E3BF-F96E-4BE1-B5F6-E107DFE2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5955-FFE9-45AC-84BF-8511DEA64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07C1-EB37-4A1C-A6E3-BA7E00993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B66B-0AA5-4644-9A48-E1C7837D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FDDD-7F3C-4169-8217-47FE5EBE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AD5B-EA2F-44C9-8238-996640519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6E55-7FF4-464C-B3AD-A1F1CB6A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864E-B84E-4C53-AA60-CA0D99347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B870-C339-45BB-ACB7-D3E852DF3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6761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MERICAN CITIES HAVE THESE SKYLIN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46040" y="1371600"/>
            <a:ext cx="82519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41400" y="1295280"/>
            <a:ext cx="5461200" cy="36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7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47640" y="1295280"/>
            <a:ext cx="7848720" cy="36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924200" y="1295280"/>
            <a:ext cx="52956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41440" y="1295280"/>
            <a:ext cx="806112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841400" y="1295280"/>
            <a:ext cx="546120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46040" y="1371600"/>
            <a:ext cx="825192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47640" y="1295280"/>
            <a:ext cx="7848720" cy="36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924200" y="1295280"/>
            <a:ext cx="5295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41440" y="1295280"/>
            <a:ext cx="806112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6T11:00:07Z</dcterms:modified>
  <cp:revision>288</cp:revision>
  <dc:subject/>
  <dc:title>Slide 1</dc:title>
</cp:coreProperties>
</file>