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9BDC-4048-48AB-B19F-C97DF5B65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2ACC-5D10-4685-8B5F-3B507A193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536D9-DE00-4850-89FD-52340A77F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2654-271A-46A1-BDDE-B622003FB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9CC5-1A62-4CB0-AAC1-B5BE9DFC9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9D91-C3D8-4898-9BB7-3F3CB5B9F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9CAC-E03B-41E7-AF37-A3E9E8017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A6C0-3BEA-406D-97F6-510E7B96C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2E7D-05F4-4FD1-AFD3-629F718BF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0C0A-A777-45D7-8031-671A6E061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9B74-67C1-4B02-A691-5C273B623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F2D6-C811-4BFB-96C8-50AFF3A09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88ADF-1801-46EA-B8CF-8EEE65C91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0E70-220B-48F5-9BF2-46FF4617C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1775-C8AC-4434-A2F8-24213FB6D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1285-8E58-41F7-AC80-A9E7DA34B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EB22-E5BC-43D5-80B0-507E9A89E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0F60-6879-428D-814A-2EECEC810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97FB-4B4C-4309-AD5E-96442593B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D530-4641-4A4F-A1BB-17BCD1840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DEFA-58F0-43D5-889D-5E6AADD63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50B4-7472-4A39-86D1-323D3F75F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706F5-CFDC-4875-82B2-0D5B6427B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676160"/>
            <a:ext cx="7391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AMERICAN CITIES HAVE THESE SKYLIN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1714680" y="1295280"/>
            <a:ext cx="5715000" cy="361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46040" y="1371600"/>
            <a:ext cx="8251920" cy="26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A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1841400" y="1295280"/>
            <a:ext cx="5461200" cy="364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792440" y="1295280"/>
            <a:ext cx="5559120" cy="37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 LO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647640" y="1295280"/>
            <a:ext cx="7848720" cy="360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ADELPH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357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SHING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1924200" y="1295280"/>
            <a:ext cx="52956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S  ANGE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886040" y="1295280"/>
            <a:ext cx="5371920" cy="359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AM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541440" y="1295280"/>
            <a:ext cx="8061120" cy="28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841400" y="1295280"/>
            <a:ext cx="5461200" cy="364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N  FRANCIS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1714680" y="1295280"/>
            <a:ext cx="5715000" cy="361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446040" y="1371600"/>
            <a:ext cx="8251920" cy="267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1792440" y="1295280"/>
            <a:ext cx="5559120" cy="370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47640" y="1295280"/>
            <a:ext cx="7848720" cy="360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333760" cy="357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924200" y="1295280"/>
            <a:ext cx="52956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886040" y="1295280"/>
            <a:ext cx="5371920" cy="359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541440" y="1295280"/>
            <a:ext cx="8061120" cy="28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3-06T11:00:07Z</dcterms:modified>
  <cp:revision>288</cp:revision>
  <dc:subject/>
  <dc:title>Slide 1</dc:title>
</cp:coreProperties>
</file>