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E743-7485-4189-B827-B925E876A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8D33-F164-485A-84EE-BA5CA999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F869-46CF-41E3-957A-4D5AE9D5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1D21-9BCE-465C-8250-555EE29F0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0EF5-1366-40C7-B1DB-C283BDFE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3F2A-7A4B-4EEF-A69E-26FA40BF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AA7D-C10A-4C6C-A20E-8491301C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3A64-E797-402B-B14E-4FECC5718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9194-966F-4B9E-8D94-90890A6D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930-9738-4C47-A9A5-9EAB44B34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8E9F-BB60-40E0-B4A3-2D4A75F8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8D89-621B-418B-971E-640B0FA5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E484-49FF-4C6C-A256-760CDC9B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5A9A-58B1-48DD-9B8F-71845411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719C-6497-40B5-A79E-1F35589F4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1C00-10B3-47C2-9E51-7463E8A1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8A33-E917-40EA-AFF9-B102BB59C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EA75-B238-4C1B-BA35-77F68307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8753-66D1-4261-8A17-746A8E1A8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E558-7E25-4E17-945F-1FC6F378F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4AC1-F746-4219-8CEF-9621523C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DF2-3971-4DCA-95E0-1DB0DE81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A7F5-0666-4E28-8430-9E0EE6466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56204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NNSYLVANIA CIT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CONTAINED IN THE TITLE OF BRITAIN'S PRINCE ANDRE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LOCATION OF THE FICTIONAL DUNDER MIFFLIN PAPER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1993 FILM STARRING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ONE OF THE RAILROADS IN MONOPO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95320" y="68580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MIDDLE EASTER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N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1640" y="7398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1982 BILLY JO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THE ANIMATED CHEETAH THAT SERVES AS THE CHEETO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ONE OF THE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THE FAMOUS TOWN 6 MILES SOUTH OF JERUSALEM, ISRA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NNSYLVANIA CITY IS THE NAME OF A 1993 FILM STARRING TOM HANK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URT)  LANC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LAST NAME OF THE PERSON WHO WON BEST ACTOR FOR "ELMER GANT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UKE  OF)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CONTAINED IN THE TITLE OF BRITAIN'S PRINCE ANDR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2560" y="762120"/>
            <a:ext cx="7353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LOCATION OF THE FICTIONAL DUNDER MIFFLIN PAPER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ONE OF THE RAILROADS IN MONOPO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MIDDLE EASTER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1982 BILLY JOE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THE ANIMATED CHEETAH THAT SERVES AS THE CHEETOS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ONE OF THE GREAT L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THE FAMOUS TOWN 6 MILES SOUTH OF JERUSALEM, ISRA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LAST NAME OF THE PERSON WHO WON BEST ACTOR FOR "ELMER GANT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2-03-06T11:03:47Z</dcterms:modified>
  <cp:revision>332</cp:revision>
  <dc:subject/>
  <dc:title>Slide 1</dc:title>
</cp:coreProperties>
</file>