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6B0E-75EB-4D0F-9642-8E93F6E48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FE2B-5B59-4B4E-B526-661A0C66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511-5A98-41DC-99B5-87F0ED13D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0F5E-569D-46CC-A380-63A1D5A0A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EEE8-A2BA-4DBC-A50F-47CB6E034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010F-0350-4777-AC10-0444BF6C1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3B4B-72E0-4ED0-B598-E56F09572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7938-9D4C-4411-8304-4785268C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A717-A164-48B1-A480-533E09114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14FC-322F-425F-A58F-C4337FB06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B352-0214-490E-80B3-CEC424652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EC2E-0D53-4FD6-A3E2-D76CBB5AD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8CD5-C92D-4E5C-906E-C83123821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34AA-621D-4750-836F-9515778B2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0FDF-101F-4779-B636-78CB4E837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99E2-B34C-43D3-ABD9-47F7C4708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7C88-FA37-4D4C-B49C-50FC13AD1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BEE0-ED85-4B05-8ED7-EC932757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4F32-C37D-401E-B947-4879BE987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1CAE-D1A4-4256-962E-A76E5CCE3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2456-73C9-41B4-BA6A-9E0FA607C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8FA31-0CA0-4F16-B454-719EEA3EC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284F-3DDA-4991-8B28-AD8AF11C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562040"/>
            <a:ext cx="716256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NNSYLVANIA CIT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CONTAINED IN THE TITLE OF BRITAIN'S PRINCE ANDRE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LOCATION OF THE FICTIONAL DUNDER MIFFLIN PAPER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0" y="4876920"/>
            <a:ext cx="9144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1993 FILM STARRING TOM HAN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ONE OF THE RAILROADS IN MONOPO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83040"/>
            <a:ext cx="82296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BA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95320" y="685800"/>
            <a:ext cx="7353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MIDDLE EASTERN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54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N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971640" y="7398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1982 BILLY JOEL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38120" y="762120"/>
            <a:ext cx="826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THE ANIMATED CHEETAH THAT SERVES AS THE CHEETOS MASCO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14400" y="7621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ONE OF THE GREAT LAK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HLEH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THE FAMOUS TOWN 6 MILES SOUTH OF JERUSALEM, ISRA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NNSYLVANIA CITY IS THE NAME OF A 1993 FILM STARRING TOM HANK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BURT)  LANC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LAST NAME OF THE PERSON WHO WON BEST ACTOR FOR "ELMER GANT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UKE  OF)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71680" y="762120"/>
            <a:ext cx="80010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CONTAINED IN THE TITLE OF BRITAIN'S PRINCE ANDRE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A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52560" y="762120"/>
            <a:ext cx="73533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LOCATION OF THE FICTIONAL DUNDER MIFFLIN PAPER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ONE OF THE RAILROADS IN MONOPO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MIDDLE EASTERN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14040" y="7621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A 1982 BILLY JOEL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3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THE ANIMATED CHEETAH THAT SERVES AS THE CHEETOS MASCO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ONE OF THE GREAT LAK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NAME OF THE FAMOUS TOWN 6 MILES SOUTH OF JERUSALEM, ISRA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NNSYLVANIA CITY IS THE LAST NAME OF THE PERSON WHO WON BEST ACTOR FOR "ELMER GANT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2-03-06T11:03:47Z</dcterms:modified>
  <cp:revision>332</cp:revision>
  <dc:subject/>
  <dc:title>Slide 1</dc:title>
</cp:coreProperties>
</file>