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12C9-5674-431F-A725-247ADFDA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183-F6A6-4B63-B6D5-A493A5BF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1CC3-4692-4C59-94A9-5AC9B8F6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E9E-82A1-4228-B12B-029E2525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E824-1E26-4F5F-B01D-C240BB838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0C8-F140-475C-A8A7-CFC10D47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2ED-A650-4597-B3A9-BBCC967C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455-79AD-45CF-A726-246AE2CAF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16A-9140-4AC0-9646-72CEB621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317-54B9-4455-9840-2CA63C5E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B75-CC11-4634-ADD2-50E107D2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1AE-20F4-4F2E-98E6-9401C3DC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CFD-7DA7-44C0-84B4-49C9453F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BE1-05A9-444B-AC81-784AC932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CFA9-2EE1-4B9B-8A61-C1AEC074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12D-317F-4BEF-ABBE-D2FAD905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713D-F264-4426-A65F-A7375CD9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85E-F4D9-46F1-B07E-F9A9218A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A438-5AF7-4DE2-A343-739217B3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5EB-0A38-409C-9583-52299E9F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EA7-486F-4E50-A866-1491E62B9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9FC0-7394-4F36-B1CD-49F573C3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56B-A735-4893-AAF2-38C75565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7840" y="761760"/>
            <a:ext cx="69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ASKA HAS A CITY LARGER THAN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8640" y="762120"/>
            <a:ext cx="822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PLOYS MORE PEOPLE IN ALASKA?  THE FISHING INDUSTRY, THE OIL INDUSTRY, OR TH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  (18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1000" y="762120"/>
            <a:ext cx="844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ALASKA PURCHASED BEFORE OR AFTER ABRAHAM LINCOLN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7.2 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09720" y="762120"/>
            <a:ext cx="7324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ID THE U.S. PAY THE RUSSIAN EMPIRE   FOR ALASKA?  $72,000, $720,000, OR $7.2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7920" y="762120"/>
            <a:ext cx="678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COMPRISES WHAT PERCENTAGE OF THE AREA OF THE U.S.?  16%, 26%, OR 36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03240" y="762120"/>
            <a:ext cx="733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MOUNTAIN IS THE HIGHEST PEAK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9120" y="762120"/>
            <a:ext cx="8645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 NEVER BEEN A MEASUREMENT OF 100</a:t>
            </a:r>
            <a:r>
              <a:rPr b="0" lang="en-US" sz="4000" spc="-1" strike="noStrike" baseline="5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 IN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MU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66960" y="762120"/>
            <a:ext cx="72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SPORT OF ALASKA?  HOCKEY, CROSS-COUNTRY SKIING, OR DOG MUS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ALASKA PURCHASED BEFORE OR AFTER ABRAHAM LINCOLN WAS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.5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3880" y="76212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DISTANCE BETWEEN AMERICAN AND RUSSIAN LAND?  2.5, 9.5, OR 55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JUNEA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63520" y="762120"/>
            <a:ext cx="6815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ASKA HAS A CITY LARGER THAN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4520" y="762120"/>
            <a:ext cx="8454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PLOYS MORE PEOPLE IN ALASKA?  THE FISHING INDUSTRY, THE OIL INDUSTRY, OR TH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ID THE U.S. PAY THE RUSSIAN EMPIRE   FOR ALASKA?  $72,000, $720,000, OR $7.2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30360" y="762120"/>
            <a:ext cx="608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5560" y="762120"/>
            <a:ext cx="675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COMPRISES WHAT PERCENTAGE OF THE AREA OF THE U.S.?  16%, 26%, OR 36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1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MOUNTAIN IS THE HIGHEST PEAK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200" y="761760"/>
            <a:ext cx="882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 NEVER BEEN A MEASUREMENT OF 100</a:t>
            </a:r>
            <a:r>
              <a:rPr b="0" lang="en-US" sz="4000" spc="-1" strike="noStrike" baseline="5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 IN ALAS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SPORT OF ALASKA?  HOCKEY, CROSS-COUNTRY SKIING, OR DOG MUS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DISTANCE BETWEEN AMERICAN AND RUSSIAN LAND?  2.5, 9.5, OR 55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5-06T12:45:36Z</dcterms:modified>
  <cp:revision>395</cp:revision>
  <dc:subject/>
  <dc:title>Slide 1</dc:title>
</cp:coreProperties>
</file>