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4DD4-FD88-48F0-882E-9419D5417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D2CB-A0C1-45C6-8B84-DA9D31B09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44E6-990C-49A2-85BB-3E96F38A7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D950-A67D-472D-8F70-A753D00ED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F1B1-4F36-4DF9-BA05-2D4F1A5C7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E0AE-B4A8-453D-BB9F-64FF5656F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F1E7-997B-4D97-9207-BEF198C02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41A6-CA0D-414F-8347-6EC31731E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125D-7992-4C5A-839F-C4D3F2C70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14CC-F823-4130-B2B7-F808DAF01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8518-FF53-42B7-9050-DB7BCC215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3167-12E7-47B6-A8F5-A7BE4C38A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CC7F-7A86-479A-B139-DBE17E6B4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4858-3ABD-4CF8-A97C-A4B2FE519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C22A-BD0C-470A-8DBA-B0AAFFC6E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8E9F-0F1C-4DEA-A471-834B8D591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DF20-7867-485E-B968-60CC113B6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E32E-6FD9-4832-99D4-18F3E630B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FA74-D9D0-4330-B37B-B85F6ED2E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D442-D0D5-461D-B007-1246C8E59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B4F7F-78C8-4D24-9C9A-70F060EE6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3DAF-219A-46BF-840F-E6CEAD7C5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82F15-9516-4CE9-B0BD-0932757E4E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LASK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77840" y="761760"/>
            <a:ext cx="6988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LASKA HAS A CITY LARGER THAN RHODE IS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8640" y="762120"/>
            <a:ext cx="8226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MPLOYS MORE PEOPLE IN ALASKA?  THE FISHING INDUSTRY, THE OIL INDUSTRY, OR THE GOVER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FTER  (186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51000" y="762120"/>
            <a:ext cx="8440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ALASKA PURCHASED BEFORE OR AFTER ABRAHAM LINCOLN WAS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$7.2  MIL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09720" y="762120"/>
            <a:ext cx="73245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UCH DID THE U.S. PAY THE RUSSIAN EMPIRE   FOR ALASKA?  $72,000, $720,000, OR $7.2 M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NE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409760" y="762120"/>
            <a:ext cx="632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ALASK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6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77920" y="762120"/>
            <a:ext cx="678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ASKA COMPRISES WHAT PERCENTAGE OF THE AREA OF THE U.S.?  16%, 26%, OR 36%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03240" y="762120"/>
            <a:ext cx="7337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ASKAN MOUNTAIN IS THE HIGHEST PEAK IN NORTH AME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49120" y="762120"/>
            <a:ext cx="8645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RE HAS NEVER BEEN A MEASUREMENT OF 100</a:t>
            </a:r>
            <a:r>
              <a:rPr b="0" lang="en-US" sz="4000" spc="-1" strike="noStrike" baseline="5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 IN ALASK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G  MUS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66960" y="762120"/>
            <a:ext cx="7210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TE SPORT OF ALASKA?  HOCKEY, CROSS-COUNTRY SKIING, OR DOG MUS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12840" y="762120"/>
            <a:ext cx="8516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ALASKA PURCHASED BEFORE OR AFTER ABRAHAM LINCOLN WAS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.5  M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23880" y="762120"/>
            <a:ext cx="7896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HORTEST DISTANCE BETWEEN AMERICAN AND RUSSIAN LAND?  2.5, 9.5, OR 55 MI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  (JUNEA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63520" y="762120"/>
            <a:ext cx="68151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LASKA HAS A CITY LARGER THAN RHODE IS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OVER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344520" y="762120"/>
            <a:ext cx="8454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MPLOYS MORE PEOPLE IN ALASKA?  THE FISHING INDUSTRY, THE OIL INDUSTRY, OR THE GOVERNM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58960" y="761760"/>
            <a:ext cx="742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UCH DID THE U.S. PAY THE RUSSIAN EMPIRE   FOR ALASKA?  $72,000, $720,000, OR $7.2 M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530360" y="762120"/>
            <a:ext cx="608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ALASK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95560" y="762120"/>
            <a:ext cx="6751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ASKA COMPRISES WHAT PERCENTAGE OF THE AREA OF THE U.S.?  16%, 26%, OR 36%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60480" y="761760"/>
            <a:ext cx="7221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ASKAN MOUNTAIN IS THE HIGHEST PEAK IN NORTH AMER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60200" y="761760"/>
            <a:ext cx="8823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RE HAS NEVER BEEN A MEASUREMENT OF 100</a:t>
            </a:r>
            <a:r>
              <a:rPr b="0" lang="en-US" sz="4000" spc="-1" strike="noStrike" baseline="5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 IN ALASK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TATE SPORT OF ALASKA?  HOCKEY, CROSS-COUNTRY SKIING, OR DOG MUSH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46040" y="761760"/>
            <a:ext cx="8251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HORTEST DISTANCE BETWEEN AMERICAN AND RUSSIAN LAND?  2.5, 9.5, OR 55 MI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2-05-06T12:45:36Z</dcterms:modified>
  <cp:revision>395</cp:revision>
  <dc:subject/>
  <dc:title>Slide 1</dc:title>
</cp:coreProperties>
</file>