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BBE2-1FD4-4FAC-85BF-E2B6077B3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7717-2CAF-4AF2-AAD5-C1DB4B805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ABB6-C4CC-4116-8CFA-6C15C0465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B41B-EF42-4A25-9526-1345339F6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2B1A-D105-4129-BE25-DA9DE7821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361B-97B7-4500-BAA3-C2338F69A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9C80-0FAC-45AF-9749-2100E39C3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DD7C-7AF4-4E31-8861-70814F41D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96E9-7B6B-49EE-9594-8658F920D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8B02-52B0-4AC1-8948-41B487BEC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41F4-3660-4E9D-B6A8-F84427029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2D4B-C247-4B5D-998F-1CC7643EC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3D1D-2A01-4962-A31E-2069A8194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A7DB-083F-4E3C-BAB3-204CBC779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F02F-1EC7-4C72-94C6-28CDB3647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589E-0337-4B04-A53A-56E60CBA4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49F6-C7A7-4411-8102-8FC11B7B5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078C-792F-45B2-ACC7-24608B379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206D-41FD-46E2-B869-759999D96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2591-D228-4FB5-8D04-4DB3045D6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312B-B706-4518-A3A7-BE3C4EB76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C904-5757-4803-9DB5-C913EBE1F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397B-7590-43BD-B82B-2A9F22F57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95320" y="1066680"/>
            <a:ext cx="7353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THESE PLACES CALLED NOW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LENINGRAD BEEN KNOWN AS SINCE 199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38280" y="762120"/>
            <a:ext cx="7867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ZAIRE BEEN KNOWN AS SINCE 199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IJ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95560" y="762120"/>
            <a:ext cx="6752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PEKING BEEN KNOWN AS SINCE 195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RI  LA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23920" y="762120"/>
            <a:ext cx="6896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CEYLON BEEN KNOWN AS SINCE 197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ANM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BURMA BEEN KNOWN AS SINCE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AI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SIAM BEEN KNOWN AS SINCE 193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PERSIA BEEN KNOWN AS SINCE 193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STANB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CONSTANTINOPLE BEEN KNOWN AS SINCE 193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MB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28720" y="762120"/>
            <a:ext cx="7486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BOMBAY BEEN KNOWN AS SINCE 199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6600" y="762120"/>
            <a:ext cx="667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PEKING BEEN KNOWN AS SINCE 195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IMBAB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58960" y="762120"/>
            <a:ext cx="7424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RHODESIA BEEN KNOWN AS SINCE 198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PETERSBU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38120" y="762120"/>
            <a:ext cx="8267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LENINGRAD BEEN KNOWN AS SINCE 199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371600" y="44197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MOCRATIC  REPUBLIC  OF  THE  CO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38280" y="762120"/>
            <a:ext cx="7867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ZAIRE BEEN KNOWN AS SINCE 199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CEYLON BEEN KNOWN AS SINCE 197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90560" y="762120"/>
            <a:ext cx="7562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BURMA BEEN KNOWN AS SINCE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SIAM BEEN KNOWN AS SINCE 193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PERSIA BEEN KNOWN AS SINCE 193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0680" y="761760"/>
            <a:ext cx="8162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CONSTANTINOPLE BEEN KNOWN AS SINCE 193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5200" y="761760"/>
            <a:ext cx="7473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BOMBAY BEEN KNOWN AS SINCE 199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RHODESIA BEEN KNOWN AS SINCE 198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5-06T17:29:05Z</dcterms:modified>
  <cp:revision>358</cp:revision>
  <dc:subject/>
  <dc:title>Slide 1</dc:title>
</cp:coreProperties>
</file>