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E860-784F-4D4B-9725-017671894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6BA7-7E93-4353-9D6F-F186F07B0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3B3EC-BC1E-4DCE-B003-834571CD5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46F8-A774-44E6-998E-B02B6702B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722D-C9C4-4C72-B079-A10668A2D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FB1F-CC1C-40A7-9BB5-77021F58A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5BB9-EBC2-40B1-BECC-09B8D4A33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D2FF-1F49-4E98-ABF1-F230BDA0E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F5EC-DC61-453B-A027-B4F97CC5C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C2B8-ADE4-4418-A780-757AC7DA1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AE2D-ABFB-4194-9C7D-7B4196B94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8807-663C-49AA-90E7-709158EBD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D7D8-469F-4DDF-8B02-11D06F1F2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5C19-157F-4F81-B4C8-EFDD7024A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D842-C83B-48B0-8D11-66EA91D44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4429-0BA5-4EEF-AEDB-C58772839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4B54-1780-4AE8-965B-C32FCD0EC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746F-8492-44D1-B265-578D5119A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9253-2791-4B79-B563-DC7ABEA11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16A0C-2B73-47E0-BF3E-CBCB1E0D3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AA13-14AD-4227-ACAA-6B6B05D65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9E83-A59E-409B-B321-3EE75D427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7D36-320C-4E04-BC59-A6472B9C8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95320" y="1066680"/>
            <a:ext cx="7353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RE THESE PLACES CALLED NOW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LENINGRAD BEEN KNOWN AS SINCE 199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38280" y="762120"/>
            <a:ext cx="7867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ZAIRE BEEN KNOWN AS SINCE 199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IJ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95560" y="762120"/>
            <a:ext cx="6752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PEKING BEEN KNOWN AS SINCE 195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RI  LA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23920" y="762120"/>
            <a:ext cx="6896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CEYLON BEEN KNOWN AS SINCE 19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ANM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BURMA BEEN KNOWN AS SINCE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AI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SIAM BEEN KNOWN AS SINCE 193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PERSIA BEEN KNOWN AS SINCE 193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STANB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CONSTANTINOPLE BEEN KNOWN AS SINCE 193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MB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8720" y="762120"/>
            <a:ext cx="7486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BOMBAY BEEN KNOWN AS SINCE 199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6600" y="762120"/>
            <a:ext cx="667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PEKING BEEN KNOWN AS SINCE 195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IMBAB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58960" y="762120"/>
            <a:ext cx="7424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RHODESIA BEEN KNOWN AS SINCE 198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PETERSBU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38120" y="762120"/>
            <a:ext cx="8267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LENINGRAD BEEN KNOWN AS SINCE 199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371600" y="44197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MOCRATIC  REPUBLIC  OF  THE  CO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38280" y="762120"/>
            <a:ext cx="7867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ZAIRE BEEN KNOWN AS SINCE 199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CEYLON BEEN KNOWN AS SINCE 197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90560" y="762120"/>
            <a:ext cx="7562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BURMA BEEN KNOWN AS SINCE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SIAM BEEN KNOWN AS SINCE 193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PERSIA BEEN KNOWN AS SINCE 193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0680" y="761760"/>
            <a:ext cx="8162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CONSTANTINOPLE BEEN KNOWN AS SINCE 193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5200" y="761760"/>
            <a:ext cx="7473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BOMBAY BEEN KNOWN AS SINCE 199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S RHODESIA BEEN KNOWN AS SINCE 198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5-06T17:29:05Z</dcterms:modified>
  <cp:revision>358</cp:revision>
  <dc:subject/>
  <dc:title>Slide 1</dc:title>
</cp:coreProperties>
</file>