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1583-798E-4C64-BB56-C5A3B3B47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F6CB-2D52-45B8-80FF-D15E6F771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F536-BED5-46C0-9573-096A0D1A0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2DC07-4B34-4506-B247-3719ACF66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7265-9A9C-492D-AF40-6BBC666A2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9A79-2881-4C86-B68D-5E0505A2D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2BABD-A086-4959-909B-A646B3EB6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590C-4369-4C2C-9705-E687904F3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154D-C711-4E5E-8E91-BDF31AAD3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5023-4A57-4009-B061-9F6C05339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D582-18BF-4EBB-9567-F7AABBFEE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C100-5627-402E-9390-A44A95338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29B2-763E-4D17-9B8C-24066D63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AE9C-EEEB-4ACF-8CD7-4CBEC5E73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097F-55AD-4CFF-8FC2-345F5D585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DECF-F898-4DF7-A82A-15EA7A804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A0DA-48D0-4AB4-AD8F-DB0D7F088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A5BD-50E5-4D93-B448-6FC7F0C6B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AA57-0AAD-4F6C-B985-674F759F1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630A-8F24-4C59-B324-485170B46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14E12-AC60-4FF2-94E9-14BE5CA7A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2B42-0D5E-4603-8FC0-6CCE3F72F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095E-E783-48FB-B7DA-86F757CAB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43040" y="1523520"/>
            <a:ext cx="7657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LIFORNIA C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IS THE LAST NAME OF A FICTIONAL CHARACTER NAMED CAR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HAS A WIND NAMED AFTER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04920" y="990720"/>
            <a:ext cx="5062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HAS A CHILE PEPPER NAMED FOR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2776680" cy="474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SHARES ITS NAME WITH A PROVINCE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6212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IS THE NAME OF A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K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USED TO HAVE 3 PRO SPORTS TEAMS, BUT NOW ONLY HAS 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1904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WILL HOST THE 2028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J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SHARES ITS NAME WITH THE CAPITAL OF COSTA 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CR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457280" y="762120"/>
            <a:ext cx="622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ALIFOR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853560"/>
            <a:ext cx="5105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HAS A CHILE PEPPER NAMED FOR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867280" y="533520"/>
            <a:ext cx="2776680" cy="47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IS THE SECOND DENSEST CITY IN THE COUNTRY, AFTER NY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DI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24000" y="762120"/>
            <a:ext cx="8496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IS THE LAST NAME OF A FICTIONAL CHARACTER NAMED CAR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TA  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57160" y="762120"/>
            <a:ext cx="7429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HAS A WIND NAMED AFTER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SHARES ITS NAME WITH A PROVINCE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IS THE NAME OF A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USED TO HAVE 3 PRO SPORTS TEAMS, BUT NOW ONLY HAS 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WILL HOST THE 2028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SHARES ITS NAME WITH THE CAPITAL OF COSTA 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ALIFOR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CITY IS THE SECOND DENSEST CITY IN THE COUNTRY, AFTER NY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3T14:17:40Z</dcterms:created>
  <dc:creator>Jennifer Budzinski</dc:creator>
  <dc:description/>
  <dc:language>en-US</dc:language>
  <cp:lastModifiedBy>Erich Friedman</cp:lastModifiedBy>
  <dcterms:modified xsi:type="dcterms:W3CDTF">2022-05-28T22:01:04Z</dcterms:modified>
  <cp:revision>357</cp:revision>
  <dc:subject/>
  <dc:title>Slide 1</dc:title>
</cp:coreProperties>
</file>