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6960-D403-4EF3-A1E1-EDA5ED822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FAB5-50E1-4065-9E69-022037F93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3F17-9745-4DF7-ACCC-1D683216D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BDDA-51B7-45FC-96C9-1E6C8F6FC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F337-7842-4601-B85D-A23D90A3A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5248-01DF-442E-927D-F95D7BC19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C44E-C74F-4C66-A4DC-4728629C8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AEE8-7AA7-4EF6-952A-F2939D7A5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66D7-9E8F-45C1-9B08-0530D458F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267D-27D6-4269-AC9C-6AFD49983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32B5-1494-43C5-BD08-D3FF4B433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9A14-312C-43D3-97E3-F24984D56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5AAF-D9E1-4951-9713-C807655F1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005A-483D-4920-8BC9-0890604E5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69BC-8982-43BF-B5DF-81112FD3A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68BB-912F-427F-A360-F3FCBD41E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B1D2-A8E6-4D8D-9FB0-19644E684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E634-A769-47DB-9D08-F67D800C8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725E-584D-4E44-8BC9-564A4886F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A24A-1BC7-4538-B3F8-806F27CFF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BF92-4E27-43A3-893D-39B834481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CE96-8D94-4CCE-B2E9-DFFDE8E1D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BFD2-71BB-4A4F-8ACF-5E78221D7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43040" y="1523520"/>
            <a:ext cx="7657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LIFORNIA C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IS THE LAST NAME OF A FICTIONAL CHARACTER NAMED CARM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HAS A WIND NAMED AFTER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S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04920" y="990720"/>
            <a:ext cx="5062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HAS A CHILE PEPPER NAMED FOR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5867280" y="533520"/>
            <a:ext cx="2776680" cy="474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T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SHARES ITS NAME WITH A PROVINCE OF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6212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IS THE NAME OF A FRU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AK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USED TO HAVE 3 PRO SPORTS TEAMS, BUT NOW ONLY HAS 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19040" y="495288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  ANG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WILL HOST THE 2028 SUMM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J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71680" y="762120"/>
            <a:ext cx="800100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SHARES ITS NAME WITH THE CAPITAL OF COSTA 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52280" y="495288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CRA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457280" y="762120"/>
            <a:ext cx="6229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CALIFOR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853560"/>
            <a:ext cx="5105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HAS A CHILE PEPPER NAMED FOR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867280" y="533520"/>
            <a:ext cx="2776680" cy="47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FRANCI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IS THE SECOND DENSEST CITY IN THE COUNTRY, AFTER NY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D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24000" y="762120"/>
            <a:ext cx="8496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IS THE LAST NAME OF A FICTIONAL CHARACTER NAMED CAR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TA  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57160" y="762120"/>
            <a:ext cx="7429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HAS A WIND NAMED AFTER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SHARES ITS NAME WITH A PROVINCE OF CAN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IS THE NAME OF A FRU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USED TO HAVE 3 PRO SPORTS TEAMS, BUT NOW ONLY HAS 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WILL HOST THE 2028 SUMMER OLYMP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SHARES ITS NAME WITH THE CAPITAL OF COSTA 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CALIFOR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IS THE SECOND DENSEST CITY IN THE COUNTRY, AFTER NY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3T14:17:40Z</dcterms:created>
  <dc:creator>Jennifer Budzinski</dc:creator>
  <dc:description/>
  <dc:language>en-US</dc:language>
  <cp:lastModifiedBy>Erich Friedman</cp:lastModifiedBy>
  <dcterms:modified xsi:type="dcterms:W3CDTF">2022-05-28T22:01:04Z</dcterms:modified>
  <cp:revision>357</cp:revision>
  <dc:subject/>
  <dc:title>Slide 1</dc:title>
</cp:coreProperties>
</file>