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170BE-D16A-4340-9BB1-22BB3BB0F3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EC00E-BDFF-488E-B4AB-A7619CA962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0A62D-F8FF-4C43-B6EE-44EEC61576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F1D90-D817-4A8C-9867-C095E7B221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E39FB-855D-4924-BFF7-9C50AAF79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3C3FA-682D-4BC8-B97D-5AC0A25DD0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68D9E-DBAF-472E-8B08-B97058E3FC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396DD-4BB8-4FA9-8FD0-BC3A971E15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6DDBE-EB08-47F3-A94D-C8DB829655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0796B-A13A-4CF3-8C86-947FE2ED56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D1DB8-3371-43DD-B300-2FC0AACDEC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534D7-C0A7-4911-A1F8-D665214C7D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0ECA7-E6F4-4AED-BAE3-5661516674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C132B-D794-47D6-8AEC-C28B760F52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7F71A-2EE3-499E-8EED-F83AE3F734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30AD8-9C6E-458D-9EAA-2D22A344A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99EB6-E993-46C0-BF09-5AC3852DE9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33D98-2E0D-403E-B394-05E8FE5933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2D0B3-0DCA-40BC-ABF6-46F6706CC5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04264-B9C0-420D-8287-61FA78D07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31B69-C094-4B57-9066-2C28247450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D176E-4D5F-43AA-9EA3-9630433832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6F6E4-6AAD-45DF-96E2-564C3743EA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143000" y="152388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TIONAL EXPOR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824040" y="761760"/>
            <a:ext cx="749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OD IS THE LARGEST EXPORT OF GREENLAND AND SEVERAL SMALL ISLAND NATIO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304920" y="762120"/>
            <a:ext cx="85341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OD IS THE LARGEST EXPORT OF CUBA  AND BELIZ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2019240" y="4952880"/>
            <a:ext cx="5105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506520" y="762120"/>
            <a:ext cx="8129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EXPORT OF THE U.S., CANADA, INDIA, RUSSIA, AND THE ENTIRE ARABIAN PENINSUL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MPUTERS  AND  PA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57200" y="7621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ECHNOLOGY IS THE LARGEST EXPORT OF CHINA, THAILAND, THE PHILIPPINES, AND SOUTH KORE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95288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515880" y="762120"/>
            <a:ext cx="81122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ECHNOLOGY IS THE LARGEST EXPORT OF MEXICO, THE U.K., SPAIN, GERMANY, MOROCCO, AND MUCH OF EASTERN EUROP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952880"/>
            <a:ext cx="8458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852480" y="762120"/>
            <a:ext cx="7439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TAL IS THE LARGEST EXPORT OF TURKEY, SWITZERLAND, AND MOST OF SOUTHERN AND WESTERN AFRIC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952880"/>
            <a:ext cx="6858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FF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90440" y="762120"/>
            <a:ext cx="87631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OD IS THE LARGEST EXPORT OF ETHIOPIA, UGANDA, HONDURAS, AND BURUND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388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R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571680" y="762120"/>
            <a:ext cx="8001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TAL IS THE LARGEST EXPORT OF AUSTRALIA, UKRAINE, AND MAURITAN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YBE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919080" y="762120"/>
            <a:ext cx="7305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OD IS THE LARGEST EXPORT OF BRAZIL AND ARGENTIN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33440" y="762120"/>
            <a:ext cx="8277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EXPORT OF THE U.S., CANADA, INDIA, RUSSIA, AND THE ENTIRE ARABIAN PENINSUL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95288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P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98360" y="762120"/>
            <a:ext cx="87472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TAL IS THE LARGEST EXPORT OF MONGOLIA, ZAMBIA, THE DEMOCRATIC REPUBLIC OF THE CONGO, AND MOST OF WESTERN SOUTH AMERIC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876240" y="762120"/>
            <a:ext cx="73915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OD IS THE LARGEST EXPORT OF GREENLAND AND SEVERAL SMALL ISLAND NA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G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247680" y="762120"/>
            <a:ext cx="86486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OD IS THE LARGEST EXPORT OF CUBA  AND BELIZ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87440" y="761760"/>
            <a:ext cx="8167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ECHNOLOGY IS THE LARGEST EXPORT OF CHINA, THAILAND, THE PHILIPPINES, AND SOUTH KORE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23840" y="762120"/>
            <a:ext cx="88963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ECHNOLOGY IS THE LARGEST EXPORT OF MEXICO, THE U.K., SPAIN, GERMANY, MOROCCO, AND MUCH OF EASTERN EUROP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90560" y="762120"/>
            <a:ext cx="7562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TAL IS THE LARGEST EXPORT OF TURKEY, SWITZERLAND, AND MOST OF SOUTHERN  AND WESTERN AFRIC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76120" y="762120"/>
            <a:ext cx="85917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OD IS THE LARGEST EXPORT OF ETHIOPIA, UGANDA, HONDURAS, AND BURUND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440" y="7617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TAL IS THE LARGEST EXPORT OF AUSTRALIA, UKRAINE, AND MAURITANI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971640" y="761760"/>
            <a:ext cx="7200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OD IS THE LARGEST EXPORT OF BRAZIL AND ARGENTIN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92240" y="762120"/>
            <a:ext cx="8758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TAL IS THE LARGEST EXPORT OF MONGOLIA, ZAMBIA, THE DEMOCRATIC REPUBLIC OF THE CONGO, AND MOST OF WESTERN SOUTH AMERIC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1T18:24:11Z</dcterms:created>
  <dc:creator>Jennifer Budzinski</dc:creator>
  <dc:description/>
  <dc:language>en-US</dc:language>
  <cp:lastModifiedBy>Erich Friedman</cp:lastModifiedBy>
  <dcterms:modified xsi:type="dcterms:W3CDTF">2022-06-27T17:39:26Z</dcterms:modified>
  <cp:revision>419</cp:revision>
  <dc:subject/>
  <dc:title>Slide 1</dc:title>
</cp:coreProperties>
</file>