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A4C1-3474-4493-B684-7998DE31B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620B-0630-42B3-91D4-9544FDD65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2C4F-2AAF-4701-9195-091B347CE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B454-A586-4DEC-B51B-C31241272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61B1-DAFD-4AE2-AB87-BB272F2B3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6860-E3B4-4107-B3C1-0AFF03FB4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F95D-E0D3-46E1-8C01-49EB6A2CA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E369-95DB-4467-9243-4E7EE1113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C56C-5A2E-43B8-B659-790DE21CA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7A58-E791-4CC0-9D4C-483D49AC3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B8DF-4C72-45FF-ADE1-DEC67E0B0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EAA0-5D24-4481-B1A8-D2BB44242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573B-E240-41A7-9F39-C02F30D6E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811D-8EF3-4CE2-B645-1DF44B71B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9A25-21F0-4715-9C5B-B6A446028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3DC4-BDCB-4E2B-A4B8-E890D6AC8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7C80-4F50-49F6-BD6D-C89919E04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B5FE-3ABF-4E90-AF5B-DA78C6C3A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0646-E572-44C7-B07F-78CEA8794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D9DF-69BC-464D-99B8-953F366E9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8492-7E08-45F3-A67A-5FC17C664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607E-8449-41CD-8E0F-013A41FFF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EB4C-CB92-4549-9768-4F7A3052D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IONAL EXPO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24040" y="761760"/>
            <a:ext cx="749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THE LARGEST EXPORT OF GREENLAND AND SEVERAL SMALL ISLAND NA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THE LARGEST EXPORT OF CUBA  AND BEL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019240" y="495288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06520" y="762120"/>
            <a:ext cx="8129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EXPORT OF THE U.S., CANADA, INDIA, RUSSIA, AND THE ENTIRE ARABIAN PENINS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PUTERS  AND  P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CHNOLOGY IS THE LARGEST EXPORT OF CHINA, THAILAND, THE PHILIPPINES, AND SOUTH KO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15880" y="762120"/>
            <a:ext cx="811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CHNOLOGY IS THE LARGEST EXPORT OF MEXICO, THE U.K., SPAIN, GERMANY, MOROCCO, AND MUCH OF EASTERN EUR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52480" y="762120"/>
            <a:ext cx="7439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L IS THE LARGEST EXPORT OF TURKEY, SWITZERLAND, AND MOST OF SOUTHERN AND WESTERN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95288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90440" y="762120"/>
            <a:ext cx="8763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THE LARGEST EXPORT OF ETHIOPIA, UGANDA, HONDURAS, AND BURUND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38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L IS THE LARGEST EXPORT OF AUSTRALIA, UKRAINE, AND MAURITA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YB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19080" y="762120"/>
            <a:ext cx="7305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THE LARGEST EXPORT OF BRAZIL AND ARGENT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33440" y="762120"/>
            <a:ext cx="82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EXPORT OF THE U.S., CANADA, INDIA, RUSSIA, AND THE ENTIRE ARABIAN PENINSUL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98360" y="762120"/>
            <a:ext cx="8747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L IS THE LARGEST EXPORT OF MONGOLIA, ZAMBIA, THE DEMOCRATIC REPUBLIC OF THE CONGO, AND MOST OF WESTERN SOUTH AME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THE LARGEST EXPORT OF GREENLAND AND SEVERAL SMALL ISLAND N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47680" y="762120"/>
            <a:ext cx="8648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THE LARGEST EXPORT OF CUBA  AND BEL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87440" y="761760"/>
            <a:ext cx="8167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CHNOLOGY IS THE LARGEST EXPORT OF CHINA, THAILAND, THE PHILIPPINES, AND SOUTH KOR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23840" y="762120"/>
            <a:ext cx="8896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CHNOLOGY IS THE LARGEST EXPORT OF MEXICO, THE U.K., SPAIN, GERMANY, MOROCCO, AND MUCH OF EASTERN EUR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90560" y="762120"/>
            <a:ext cx="756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L IS THE LARGEST EXPORT OF TURKEY, SWITZERLAND, AND MOST OF SOUTHERN  AND WESTERN AF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76120" y="762120"/>
            <a:ext cx="8591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THE LARGEST EXPORT OF ETHIOPIA, UGANDA, HONDURAS, AND BURUND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L IS THE LARGEST EXPORT OF AUSTRALIA, UKRAINE, AND MAURITA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THE LARGEST EXPORT OF BRAZIL AND ARGENTI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92240" y="762120"/>
            <a:ext cx="875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L IS THE LARGEST EXPORT OF MONGOLIA, ZAMBIA, THE DEMOCRATIC REPUBLIC OF THE CONGO, AND MOST OF WESTERN SOUTH AME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6-27T17:39:26Z</dcterms:modified>
  <cp:revision>419</cp:revision>
  <dc:subject/>
  <dc:title>Slide 1</dc:title>
</cp:coreProperties>
</file>