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6F68-3305-4CDA-A104-CDEB0264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E8B2-49FC-4274-85C2-018A4BC3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8AC2-486C-4FDE-886A-A4A45266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B2D9-35EA-4EA4-8526-853C9945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4F6-3903-45AC-89E6-2A49EBCB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B22A-2C68-439D-BCF3-3A4C4FA5A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602F-E510-4550-AE12-59915FD2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11C1-483E-42E0-AC37-3777932B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9EF6-65D3-4D10-9690-224C1DD9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7D13-BEB3-4D4E-B3C2-4130C816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A591-C1EA-42CB-9580-1687F856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23DA-E090-46D6-9871-876A016E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1D6-F351-4E08-AE7D-59C6DE41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7459-2464-44D1-8A42-71D69094A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A9C2-B453-487D-819F-535CC994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F3D2-6885-4C02-9AC0-4A8CD707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4968-E48C-464B-9DFC-26A008F9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0E13-D868-4481-8B2F-393D4B03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783-C355-4C63-AB99-03C0F1CF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5C3A-065E-4AA1-81C7-1F80F38C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96CA-D9D6-4A2B-9803-2753BF4F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266D-C38E-4641-8535-64647C3DC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68C6-5037-4CD7-8EBC-069DA091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43040" y="1523520"/>
            <a:ext cx="76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CHIGAN C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CAPITAL OF MICHIGAN, THE ONLY STATE CAPITAL THAT IS NOT ALSO A COUNTY SE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HOME TO THE UNIVERSITY OF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9640" y="762120"/>
            <a:ext cx="7524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SOMETHING YOU CAN START A FIRE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ALSO THE NAME OF AN ANCIENT GREEK CITY WHOSE RUINS ARE NOW LOCATED IN TUR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LARGEST CITY ON THE U.S.-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14280" y="762120"/>
            <a:ext cx="85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AN ANAGRAM OF "CANN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952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RAP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WAS THE CHILDHOOD HOME OF PRESIDENT FORD, AND IS WHERE HE AND HIS WIFE ARE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HOME TO THE LARGEST MOSQU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(H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82640" y="762120"/>
            <a:ext cx="75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FIRST NAME OF THE 2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SOMETHING YOU CAN START A FIRE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)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LAST NAME OF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7360" y="762120"/>
            <a:ext cx="782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CHIGAN, THE ONLY STATE CAPITAL THAT IS NOT ALSO A COUNTY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 AR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33320" y="762120"/>
            <a:ext cx="7677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HOME TO THE UNIVERSITY OF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2080" y="761760"/>
            <a:ext cx="86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ALSO THE NAME OF AN ANCIENT GREEK CITY WHOSE RUINS ARE NOW LOCATED IN TUR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7800" y="762120"/>
            <a:ext cx="744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LARGEST CITY ON THE U.S.-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855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AN ANAGRAM OF "CANN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WAS THE CHILDHOOD HOME OF PRESIDENT FORD, AND IS WHERE HE AND HIS WIFE ARE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HOME TO THE LARGEST MOSQU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THE FIRST NAME OF THE 2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THE LAST NAME OF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14:17:40Z</dcterms:created>
  <dc:creator>Jennifer Budzinski</dc:creator>
  <dc:description/>
  <dc:language>en-US</dc:language>
  <cp:lastModifiedBy>Erich Friedman</cp:lastModifiedBy>
  <dcterms:modified xsi:type="dcterms:W3CDTF">2022-07-11T14:01:13Z</dcterms:modified>
  <cp:revision>362</cp:revision>
  <dc:subject/>
  <dc:title>Slide 1</dc:title>
</cp:coreProperties>
</file>