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6917-D3DA-495C-91E2-774E49FF5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559B-550C-47EA-A349-395A94422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6FAF-3A6B-4C5F-8D1E-54680001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8B47-FAF5-4991-A768-AF4E93664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B398-759D-4201-B64B-F9B805C81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5545-54A0-439A-92A3-06EB36DE4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D1D2-0D59-4FFF-B583-EE3BA989C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DAD9-2EFA-40B8-B554-DF7425D6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2EE7-55D9-46B9-A283-A33A7F366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A62B-CA6B-4DDB-9D75-48A3C7A1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7FD9-6FBF-432D-8003-F95B3139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9C8B-2B8B-46EF-B72E-27AB82046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C6B9-8719-4A88-AE46-E4C9CD90E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F29D-37FD-4899-9EA6-ADDE8808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6616-EE49-4C6F-A9BD-61362488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5F34-90A6-4B0D-A26A-02E68687E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2DDB-F624-4E50-A10C-BF28B1C99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16C2-B88E-410E-8458-611649AE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D81D-4CA1-4A37-9FDC-70CBFA4CC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8E53-61D1-4B0A-995A-815045A2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453-5F58-437E-B73E-E5444C8B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0E12-B8EF-4DFA-A20D-04275177B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59BD-6E53-4A8C-BD9C-E9673C05D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52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CHIGAN C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CAPITAL OF MICHIGAN, THE ONLY STATE CAPITAL THAT IS NOT ALSO A COUNTY S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UNIVERSITY OF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SOMETHING YOU CAN START A FIRE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ALSO THE NAME OF AN ANCIENT GREEK CITY WHOSE RUINS ARE NOW LOCATED IN TUR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RGEST CITY ON THE U.S.-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14280" y="762120"/>
            <a:ext cx="851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AN ANAGRAM OF "CANN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952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RAP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WAS THE CHILDHOOD HOME OF PRESIDENT FORD, AND IS WHERE HE AND HIS WIFE ARE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LARGEST MOSQU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(HAR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2640" y="762120"/>
            <a:ext cx="75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FIRST NAME OF THE 2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SOMETHING YOU CAN START A FIRE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)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ST NAME OF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7360" y="762120"/>
            <a:ext cx="7829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MICHIGAN, THE ONLY STATE CAPITAL THAT IS NOT ALSO A COUNTY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AR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33320" y="762120"/>
            <a:ext cx="7677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HOME TO THE UNIVERSITY OF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ALSO THE NAME OF AN ANCIENT GREEK CITY WHOSE RUINS ARE NOW LOCATED IN TUR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7800" y="762120"/>
            <a:ext cx="744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IGAN CITY IS THE LARGEST CITY ON THE U.S.-CANAD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855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AN ANAGRAM OF "CANN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WAS THE CHILDHOOD HOME OF PRESIDENT FORD, AND IS WHERE HE AND HIS WIFE ARE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HOME TO THE LARGEST MOSQU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THE FIRST NAME OF THE 2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IG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ITY IS THE LAST NAME OF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4:17:40Z</dcterms:created>
  <dc:creator>Jennifer Budzinski</dc:creator>
  <dc:description/>
  <dc:language>en-US</dc:language>
  <cp:lastModifiedBy>Erich Friedman</cp:lastModifiedBy>
  <dcterms:modified xsi:type="dcterms:W3CDTF">2022-07-11T14:01:13Z</dcterms:modified>
  <cp:revision>362</cp:revision>
  <dc:subject/>
  <dc:title>Slide 1</dc:title>
</cp:coreProperties>
</file>