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E748-8E39-499F-87B7-263787FD2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B212-F32B-41FE-9311-162580156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43A6-F86C-40F0-87C9-7634F49E1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621E-CFA8-4EAA-8834-2E88C0FDF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8CBA-79A7-4E85-A837-CA6BBECD9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6396-A24D-4F1C-B589-6CDF9A19D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7ECD-F352-4D11-AE85-317B72F6E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6575-47C3-4DE0-88FC-24E465F51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5216-5F97-4375-9EA0-79748A53E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DA77-0FBB-4345-9F41-C61291D35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1B77-2470-4BA5-B0B1-D43B2C28F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F143-F006-4E11-A982-C7C8FE6C6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2A23-22DD-4E79-8FC9-0A63BEB40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9462-2BFE-47CA-82BD-59221FA1B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D6C5-20BB-4E95-AA17-2F98BC703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CC08-29F2-48AA-89A1-41A771CA0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FCEE4-10B8-4412-A298-24AE563C8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0A28-E770-4298-BDA8-EBD31D19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A644-0307-41EC-B71A-5C2CD9C07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332-0DFE-409C-8FA7-22285343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3214-285E-4620-BF36-48CB89E23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1B20-2850-4121-B144-517F383B91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E2DC-48F0-432F-8C83-C5275101D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19320" y="1523880"/>
            <a:ext cx="67053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QUAD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ISLANDS FORM THE GREATER ANTIL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COUNTIES OF LONG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343400"/>
            <a:ext cx="71625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ZONA,  NEW  MEXICO,  COLORADO  &amp;  UTAH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6668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TOUCH AT "THE FOUR CORNERS MONU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104840" y="4341960"/>
            <a:ext cx="6934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ITAIN,  AMERICA,  FRANCE  &amp;  THE  SOVIET  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WHAT 4 COUNTRIES DIVIDED UP THE CITY OF BERL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723960" y="4343400"/>
            <a:ext cx="7696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NGLAND,  SCOTLAND,  WALES  &amp;  NORTHERN  IR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MAKE UP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343400"/>
            <a:ext cx="8458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ENTUCKY,  MASSACHUSETTS,  PENNSYLVANIA  &amp;  VIRGI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71600" y="762120"/>
            <a:ext cx="6400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CALL THEMSELVES COMMONWEAL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343400"/>
            <a:ext cx="8305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,  LOS  ANGELES,  CHICAGO  &amp;  HOUST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676520" y="762120"/>
            <a:ext cx="5790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723960" y="4343400"/>
            <a:ext cx="7696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,  SWITZERLAND,  AUSTRIA  &amp;  SLOVE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66680" y="762120"/>
            <a:ext cx="7010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ORDER ITA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81160" y="4343400"/>
            <a:ext cx="6781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ARCTICA,  AFRICA,  AUSTRALIA  &amp;  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NTINENTS BORDER THE INDIAN OC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19320" y="762120"/>
            <a:ext cx="6705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TOUCH AT "THE FOUR CORNERS MONU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838080" y="434340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EZUELA,  VANUATU,  VIETNAM  &amp;  VATICAN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EGIN WITH THE LETTER "V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295280" y="4343400"/>
            <a:ext cx="6705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PANIOLA,  JAMAICA,  CUBA  &amp;  PUERTO  R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66680" y="762120"/>
            <a:ext cx="70106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ISLANDS FORM THE GREATER ANTIL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990720" y="4343400"/>
            <a:ext cx="731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SSAU,  SUFFOLK,  BROOKLYN  &amp;  QUEE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14400" y="7621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COUNTIES OF LONG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WWII, WHAT 4 COUNTRIES DIVIDED UP THE CITY OF BERL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MAKE UP THE UNITED KINGD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U.S. STATES CALL THEMSELVES COMMONWEALT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4 MOST POPULATED CITIES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ORDER ITA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NTINENTS BORDER THE INDIAN OC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COUNTRIES BEGIN WITH THE LETTER "V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8:24:10Z</dcterms:created>
  <dc:creator>Jennifer Budzinski</dc:creator>
  <dc:description/>
  <dc:language>en-US</dc:language>
  <cp:lastModifiedBy>Erich Friedman</cp:lastModifiedBy>
  <dcterms:modified xsi:type="dcterms:W3CDTF">2020-08-30T19:32:23Z</dcterms:modified>
  <cp:revision>352</cp:revision>
  <dc:subject/>
  <dc:title>Slide 1</dc:title>
</cp:coreProperties>
</file>