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9C8-A427-42E6-A91B-BC75C008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760D-2500-405D-BC1E-FBEE6DAF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92D0-6F04-477E-A915-74B6624D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974D-7A65-4EAD-A1A9-2975DD5A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06E-00B7-4D7B-8F2E-F83091D2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5066-E3B7-4539-9FE6-B5E82137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9EAE-5804-41AF-8300-50C66B0A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2D9A-2199-40D7-81E6-5A795EFA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F17-F595-4B4E-8655-AC96074E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DEAF-6FDF-45B3-B3ED-6BD73C47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A1E-C8D1-4008-9E20-EC3EFF5D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E9D6-22D8-4ED5-8C38-12F50AEB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4E7-CA1B-4D48-A789-E1BCD3BC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6E8-0417-4687-89C4-9F4CEA89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2E0-82C0-4687-95A2-485BDEF90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C037-A5FE-481F-A057-AED70C09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B66-82AC-484B-A167-21B62EAE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245-497D-47EB-AAC6-B00D2E19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CFA-18ED-4401-A873-98539E35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9236-E356-4657-A046-86635D7F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CA7-8EC5-4617-B9BE-FCE9BD41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A1BA-3050-4A5C-AB00-B60EBF97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BF7-0FFF-4343-B5B8-3274343D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QUA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ISLANDS FORM THE GREATER ANTIL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COUNTIES OF LONG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,  NEW  MEXICO,  COLORADO  &amp;  UTA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TOUCH AT "THE FOUR CORNERS MONU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04840" y="4341960"/>
            <a:ext cx="6934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AIN,  AMERICA,  FRANCE  &amp;  THE  SOVIET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WHAT 4 COUNTRIES DIVIDED UP THE CITY OF BER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23960" y="4343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,  SCOTLAND,  WALES  &amp;  NORTHERN 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MAKE UP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3434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,  MASSACHUSETTS,  PENNSYLVANIA  &amp;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CALL THEMSELVES COMMONWEAL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,  LOS  ANGELES,  CHICAGO  &amp;  HOUS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3434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,  SWITZERLAND,  AUSTRIA  &amp;  SLOV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ORDE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81160" y="43434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ARCTICA,  AFRICA,  AUSTRALIA  &amp;  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NTINENTS BORDER THE INDIAN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TOUCH AT "THE FOUR CORNERS MONU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8380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ZUELA,  VANUATU,  VIETNAM  &amp;  VATICAN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EGIN WITH THE LETTER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343400"/>
            <a:ext cx="6705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PANIOLA,  JAMAICA,  CUBA  &amp;  PUERTO  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ISLANDS FORM THE GREATER ANTIL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SAU,  SUFFOLK,  BROOKLYN  &amp;  QUE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COUNTIES OF LONG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WHAT 4 COUNTRIES DIVIDED UP THE CITY OF BER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MAKE UP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CALL THEMSELVES COMMONWEAL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ORDER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NTINENTS BORDER THE INDIAN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EGIN WITH THE LETTER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8:24:10Z</dcterms:created>
  <dc:creator>Jennifer Budzinski</dc:creator>
  <dc:description/>
  <dc:language>en-US</dc:language>
  <cp:lastModifiedBy>Erich Friedman</cp:lastModifiedBy>
  <dcterms:modified xsi:type="dcterms:W3CDTF">2020-08-30T19:32:23Z</dcterms:modified>
  <cp:revision>352</cp:revision>
  <dc:subject/>
  <dc:title>Slide 1</dc:title>
</cp:coreProperties>
</file>