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CF82-522C-4164-A441-CDAF8B411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4FAB-0192-4869-99D0-0309ED260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CF64-2432-4147-92A5-2B98E084D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231A-A073-4B07-97C6-145B6EDE7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5190-3354-4853-9C4A-2FB4747D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C62A-F004-4C8D-8421-E9AF299F1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44B3-D3E8-4150-A319-63AD25F8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89A8-0B9F-486D-BF45-E6F94CE46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F745-EAE7-4098-A543-49407F8AE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74D4-955D-4758-8B16-2910CC48B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F774-1011-4188-8FCD-74A5A0248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267D-9018-432D-A04F-548E3B589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CBA2-C091-49AA-B90C-EA1F7B1DF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AD79-4B16-4A6F-B4BE-1B1524CB6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F7EE-5ED3-4017-9492-F5ACA5264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8D80-354D-4599-96D6-856F10AB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F851-D9AE-4517-B2E1-65ABFACA3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7E60-C1EA-490C-B2E8-37F97F517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A68B-DF41-4A6B-8061-61C73A051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E26C-2B1C-448C-9BA7-466FE7BC9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EBED-80CD-422E-BF5F-071BAE3A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C762-8D3E-4A7B-BF6F-1F8F206C3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3B43-05BD-4857-82E2-A6D1EBEAB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AD18-F020-4468-956E-1B4DE3F64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838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8040" y="761760"/>
            <a:ext cx="792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IRST INSTALLED IN MIAMI, BECAUSE ROLLER-BLADERS WERE NOT ALLOWED INS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ARE FLAMINGOS PI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39880" y="762120"/>
            <a:ext cx="746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CODE FOR BREVARD COUNTY, WHICH CONTAINS THE KENNEDY SPACE CE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61840" y="3809880"/>
            <a:ext cx="7420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CE  DE  LEON            (NAMED  FOR  THE  SPANISH  CELEBRATION  OF  EAS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00280" y="762120"/>
            <a:ext cx="7596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MED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0  F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274760" y="762120"/>
            <a:ext cx="6593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VERAGE ELEVATION OF FLORIDA ABOVE SEA LEVEL?    10, 100, OR 1000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09640" y="762120"/>
            <a:ext cx="752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NATIONAL PARKS ARE LOCATED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55720" y="762120"/>
            <a:ext cx="743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FLORIDA BECOME A STATE?        1825, 1845, OR 18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65280" y="762120"/>
            <a:ext cx="781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AS   THE HIGHEST AVERAGE TEMPERATURE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36600" y="762120"/>
            <a:ext cx="847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AW, WHY DOES EVERY PUBLIC BUILDING IN FLORIDA HAVE TO HAVE OUTWARD OPENING DO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LORI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.7  M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84200" y="762120"/>
            <a:ext cx="817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LIONS OF PAIRS OF SUNGLASSES HAVE BEEN LOST AT WALT DISNEY WORLD SINCE IT OPENED IN 1971?  0.17, 1.7, OR 17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M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623880" y="762120"/>
            <a:ext cx="7896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FIRST INSTALLED IN MIAMI, BECAUSE ROLLER-BLADERS WERE NOT ALLOWED INS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EAT  PINK  SHRM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228600" y="762120"/>
            <a:ext cx="8686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ARE FLAMINGOS PI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21  (LIFTOFF.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820800" y="762120"/>
            <a:ext cx="750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CODE FOR BREVARD COUNTY, WHICH CONTAINS THE KENNEDY SPACE CEN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NAMED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43080" y="761760"/>
            <a:ext cx="665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VERAGE ELEVATION OF FLORIDA ABOVE SEA LEVEL?    10, 100, OR 1000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63560" y="762120"/>
            <a:ext cx="761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NATIONAL PARKS ARE LOCATED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03240" y="762120"/>
            <a:ext cx="7337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FLORIDA BECOME A STATE?        1825, 1845, OR 186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RIDA CITY HAS   THE HIGHEST AVERAGE TEMPERATURE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AW, WHY DOES EVERY PUBLIC BUILDING IN FLORIDA HAVE TO HAVE OUTWARD OPENING DO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ILLIONS OF PAIRS OF SUNGLASSES HAVE BEEN LOST AT WALT DISNEY WORLD SINCE IT OPENED IN 1971?  0.17, 1.7, OR 17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8-23T15:43:49Z</dcterms:modified>
  <cp:revision>404</cp:revision>
  <dc:subject/>
  <dc:title>Slide 1</dc:title>
</cp:coreProperties>
</file>