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325B-C92C-4ADB-9B8A-866BD43B7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8B6D-0D1D-41D0-BDB5-688C22D73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717E-7B4B-49BA-83FC-AF9EE6435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EC1C-A520-42EC-8BFC-0701726B6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9CB9-6C2C-4621-A4B0-1005D4745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6D6A-ACC2-43EC-9741-D37157057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5FB6-9F28-4A99-A712-F616B6439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A298-C1A8-4D90-98E9-7BCF25E2F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1EE5-5959-44BC-A2DF-57B6F3112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94BE-B15D-4044-98E1-86C13CFF1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7FB1-E444-4E35-B32C-794AEBC65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759C-4E0D-47DC-8FEE-F0D41FFCD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822B-309E-451A-B14E-E28D850BB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7CE8-12AA-46D0-9031-2485FCA58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7682-D00D-432A-BA27-6B523CD32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6752-3EB1-4010-8C74-AB29A9833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03A5-8112-47A3-BD36-1978BD747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1E3C-9D8A-4E72-BB77-388597B88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653C-8033-442D-A44D-BD85BDB03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F952-279D-496C-93DE-5FDCE185E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BC99-A8FA-4C5A-A4AE-252382D18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F965-8D2E-4426-8DAE-9E04EA00A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D625-EBAD-47C7-BBA8-720F07EC4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431E-4527-4451-8FDC-266568243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838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08040" y="761760"/>
            <a:ext cx="7927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FIRST INSTALLED IN MIAMI, BECAUSE ROLLER-BLADERS WERE NOT ALLOWED INS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ARE FLAMINGOS PIN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839880" y="762120"/>
            <a:ext cx="7464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REA CODE FOR BREVARD COUNTY, WHICH CONTAINS THE KENNEDY SPACE CEN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861840" y="3809880"/>
            <a:ext cx="74203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NCE  DE  LEON            (NAMED  FOR  THE  SPANISH  CELEBRATION  OF  EAST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800280" y="762120"/>
            <a:ext cx="759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NAMED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0  F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274760" y="762120"/>
            <a:ext cx="6593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VERAGE ELEVATION OF FLORIDA ABOVE SEA LEVEL?    10, 100, OR 1000 F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09640" y="762120"/>
            <a:ext cx="752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NATIONAL PARKS ARE LOCATED IN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8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55720" y="762120"/>
            <a:ext cx="743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FLORIDA BECOME A STATE?        1825, 1845, OR 186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Y  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665280" y="762120"/>
            <a:ext cx="7813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RIDA CITY HAS   THE HIGHEST AVERAGE TEMPERATURE OF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RRIC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336600" y="762120"/>
            <a:ext cx="8470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LAW, WHY DOES EVERY PUBLIC BUILDING IN FLORIDA HAVE TO HAVE OUTWARD OPENING DO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ORI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.7  MIL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484200" y="762120"/>
            <a:ext cx="8175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ILLIONS OF PAIRS OF SUNGLASSES HAVE BEEN LOST AT WALT DISNEY WORLD SINCE IT OPENED IN 1971?  0.17, 1.7, OR 17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TM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623880" y="762120"/>
            <a:ext cx="7896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FIRST INSTALLED IN MIAMI, BECAUSE ROLLER-BLADERS WERE NOT ALLOWED INSI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EAT  PINK  SHRM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228600" y="762120"/>
            <a:ext cx="8686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ARE FLAMINGOS PIN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21  (LIFTOFF..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820800" y="762120"/>
            <a:ext cx="750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REA CODE FOR BREVARD COUNTY, WHICH CONTAINS THE KENNEDY SPACE CEN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NAMED FLORI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43080" y="761760"/>
            <a:ext cx="6656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VERAGE ELEVATION OF FLORIDA ABOVE SEA LEVEL?    10, 100, OR 1000 FE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63560" y="762120"/>
            <a:ext cx="761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NATIONAL PARKS ARE LOCATED IN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03240" y="762120"/>
            <a:ext cx="7337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FLORIDA BECOME A STATE?        1825, 1845, OR 186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33240" y="761760"/>
            <a:ext cx="7877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RIDA CITY HAS   THE HIGHEST AVERAGE TEMPERATURE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63600" y="761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LAW, WHY DOES EVERY PUBLIC BUILDING IN FLORIDA HAVE TO HAVE OUTWARD OPENING DOO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ILLIONS OF PAIRS OF SUNGLASSES HAVE BEEN LOST AT WALT DISNEY WORLD SINCE IT OPENED IN 1971?  0.17, 1.7, OR 17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2-08-23T15:43:49Z</dcterms:modified>
  <cp:revision>404</cp:revision>
  <dc:subject/>
  <dc:title>Slide 1</dc:title>
</cp:coreProperties>
</file>