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E747-A281-4540-92C2-398241BB7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C1F7-BF6B-4ADE-A7A2-EEE9F4319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8954-E0D9-4E5C-9BEB-152D473A4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860C-EC1C-460B-970E-4BE7510FE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EBDB-3117-4BC1-99CA-BEEFB02D8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DAE0-660B-41FA-9071-7AEB9CE91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1F64-3909-4D4A-B406-97EADA17E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F87D-024E-45B5-8094-B970BD139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DAAA-1AE7-4DDC-A2CE-5782E9577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5C2A-D535-4A73-89B4-426FB7193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AF7F-9395-47D9-8735-9F8ECE414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6380-DE5D-4BD0-B738-D0EB625A2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E428-EFF9-49FC-9820-BA6AF108D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F22DB-4693-446F-BA34-24486406B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0F33-21ED-44BA-8BC8-B97A0219E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1C8D-990E-4D0C-BB42-D7C812722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6240-3455-4912-BB98-999086446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D75F-6267-4AE4-9D4E-C632B3FC8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81B0-EDD3-42F7-BB1B-7D68495C2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203E-FCB4-48FD-8C40-0C23EBBFD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D645-6FB6-4C49-8631-F265B3FED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D166-BB81-492E-AC73-A33B7BAC3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4569-2312-447D-9924-E019B9184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SISSIPPI RI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STEAMBOAT WAS NAMED AFTER WHAT CITY ON THE MISSISSIPPI RI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DOES IT TAKE A DROP OF WATER TO FLOW THE ENTIRE MISSISSIPPI RIVER?  1, 2, OR 3 MONT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.S.,  SPAIN,  AND  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71600" y="762120"/>
            <a:ext cx="6400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HAVE CLAIMED THE MISSISSIPPI RI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LOW RATE OF THE MISSISSIPPI RIVER? 60,000, 600,000,  OR 6 MILLION FT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SE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DOES THE MISSISSIPPI RIVER BEG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'  MAN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FOR THE MISSISSIPPI RIVER IS ALSO THE TITLE OF A SONG FROM THE 1927 MUSICAL "SHOW BO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ILES PER GALLON DO MISSISSIPPI RIVER BARGES GET?    5, 50, OR 5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LO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NEARBY WHERE THE MISSOURI RIVER FEEDS INTO THE MISSISSIPPI RI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MISSISSIPPI RIVER CLOSEST TO 1000, 2000, OR 3000 MILES 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HAVE CLAIMED THE MISSISSIPPI RI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LLIN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, THERE WAS A TOWN ALONG THE MISSISSIPPI LARGER THAN LONDON.  IN WHAT STATE WAS IT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ORL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STEAMBOAT WAS NAMED AFTER WHAT CITY ON THE MISSISSIPPI RI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DOES IT TAKE A DROP OF WATER TO FLOW THE ENTIRE MISSISSIPPI RIVER?  1, 2, OR 3 MONT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LOW RATE OF THE MISSISSIPPI RIVER? 60,000, 600,000,  OR 6 MILLION FT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SE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DOES THE MISSISSIPPI RIVER BEG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FOR THE MISSISSIPPI RIVER IS ALSO THE TITLE OF A SONG FROM THE 1927 MUSICAL "SHOW BO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ILES PER GALLON DO MISSISSIPPI RIVER BARGES GET?    5, 50, OR 5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NEARBY WHERE THE MISSOURI RIVER FEEDS INTO THE MISSISSIPPI RI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MISSISSIPPI RIVER CLOSEST TO 1000, 2000, OR 3000 MILES 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, THERE WAS A TOWN ALONG THE MISSISSIPPI LARGER THAN LONDON.  IN WHAT STATE WAS IT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4T20:10:03Z</dcterms:created>
  <dc:creator>Jennifer Budzinski</dc:creator>
  <dc:description/>
  <dc:language>en-US</dc:language>
  <cp:lastModifiedBy>Erich Friedman</cp:lastModifiedBy>
  <dcterms:modified xsi:type="dcterms:W3CDTF">2020-08-30T19:34:23Z</dcterms:modified>
  <cp:revision>349</cp:revision>
  <dc:subject/>
  <dc:title>Slide 1</dc:title>
</cp:coreProperties>
</file>