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3AC0-364C-434F-A4AD-BDE063CFD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5B58-7D05-4C47-8141-3DE64EF2C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E6CD-7C8C-4E96-B756-CF923D8AD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4C42-1037-4F73-9B19-628DC39B7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1DE5-0BEE-4F4E-953D-EC3499FA0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339D-2E1F-4CED-9F01-28BC6E16B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B9A3-6465-4968-BC30-DB054C19C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B16C-531D-4699-A249-17DD3F99E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45D8-61FF-4ED8-B7EA-AA4ECBEC6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E1AE-18AC-49E0-B48E-CFA5BD8C6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FAEE-8D63-4626-A251-B76883266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2F0B-FC2F-476E-A344-7193909C1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9023-9A52-4B82-B299-F638631CE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2979-6ACB-47FA-BD0D-4738A7387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F5DA-E429-44F0-B5E5-79E58DE39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DDBC-AEC2-40ED-B3AE-AFC88FE1A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5DEC-E6B7-4D50-ABFD-3F38B1944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F29E-F17B-448B-8F04-1786CBCE3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55A7-EC2B-41B8-95C2-FF139D9F7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DDFC-073E-4571-AAFA-9C5A2A812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9133-5A3D-4EE9-BC41-9B0940667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4666-619F-4903-A55F-1B3A4A606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4EDA-1C51-42F8-A4B4-12D348901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SSISSIPPI RI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STEAMBOAT WAS NAMED AFTER WHAT CITY ON THE MISSISSIPPI RI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LONG DOES IT TAKE A DROP OF WATER TO FLOW THE ENTIRE MISSISSIPPI RIVER?  1, 2, OR 3 MONTH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.S.,  SPAIN,  AND  F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371600" y="762120"/>
            <a:ext cx="6400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COUNTRIES HAVE CLAIMED THE MISSISSIPPI RI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00,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04840" y="762120"/>
            <a:ext cx="693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LOW RATE OF THE MISSISSIPPI RIVER? 60,000, 600,000,  OR 6 MILLION FT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/SE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NES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TATE DOES THE MISSISSIPPI RIVER BEG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'  MAN  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04920" y="76212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CKNAME FOR THE MISSISSIPPI RIVER IS ALSO THE TITLE OF A SONG FROM THE 1927 MUSICAL "SHOW BOA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1904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81160" y="762120"/>
            <a:ext cx="67816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ILES PER GALLON DO MISSISSIPPI RIVER BARGES GET?    5, 50, OR 5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.  LOU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66680" y="762120"/>
            <a:ext cx="70106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NEARBY WHERE THE MISSOURI RIVER FEEDS INTO THE MISSISSIPPI RI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90720" y="762120"/>
            <a:ext cx="7162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THE MISSISSIPPI RIVER CLOSEST TO 1000, 2000, OR 3000 MILES L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COUNTRIES HAVE CLAIMED THE MISSISSIPPI RI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LLINO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1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, THERE WAS A TOWN ALONG THE MISSISSIPPI LARGER THAN LONDON.  IN WHAT STATE WAS IT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ORL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STEAMBOAT WAS NAMED AFTER WHAT CITY ON THE MISSISSIPPI RI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62120" y="762120"/>
            <a:ext cx="76197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LONG DOES IT TAKE A DROP OF WATER TO FLOW THE ENTIRE MISSISSIPPI RIVER?  1, 2, OR 3 MONTH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LOW RATE OF THE MISSISSIPPI RIVER? 60,000, 600,000,  OR 6 MILLION FT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/SE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TATE DOES THE MISSISSIPPI RIVER BEG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CKNAME FOR THE MISSISSIPPI RIVER IS ALSO THE TITLE OF A SONG FROM THE 1927 MUSICAL "SHOW BOA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219320" y="761760"/>
            <a:ext cx="6705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ILES PER GALLON DO MISSISSIPPI RIVER BARGES GET?    5, 50, OR 5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NEARBY WHERE THE MISSOURI RIVER FEEDS INTO THE MISSISSIPPI RI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THE MISSISSIPPI RIVER CLOSEST TO 1000, 2000, OR 3000 MILES L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1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, THERE WAS A TOWN ALONG THE MISSISSIPPI LARGER THAN LONDON.  IN WHAT STATE WAS IT LOC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4T20:10:03Z</dcterms:created>
  <dc:creator>Jennifer Budzinski</dc:creator>
  <dc:description/>
  <dc:language>en-US</dc:language>
  <cp:lastModifiedBy>Erich Friedman</cp:lastModifiedBy>
  <dcterms:modified xsi:type="dcterms:W3CDTF">2020-08-30T19:34:23Z</dcterms:modified>
  <cp:revision>349</cp:revision>
  <dc:subject/>
  <dc:title>Slide 1</dc:title>
</cp:coreProperties>
</file>