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CCB-86AF-4B20-BD06-779AB1272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A8A-D820-4D3F-A7C1-12B1ADFE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654F-5B49-461D-BA7D-20496667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1D0-885F-4A5E-9E51-539C72F7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11B-8FC3-4882-909D-ACE25556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278B-6914-4EB7-87E5-4121B552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342F-FC5C-4DBD-9613-84855A3E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073-EF4B-4348-8309-873D0048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2E0-2091-4C69-B68C-D400E2F2C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08C6-0AA4-4852-A8F2-3290351D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325-6324-4162-80DB-6ACA8C0A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885-1D5D-4B5C-AAC1-EE5CE6F1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4525-068E-452E-83D4-5121DBB4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6F0-08FA-4B4F-8C43-786345D58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3BDC-B48E-409A-9194-C9801CA1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8006-92BC-44D5-A2A3-10401F5E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1535-963B-4AAE-A50A-9DF26E7F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256-473B-4D64-97F6-53FB22D7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2060-657A-41CF-806A-F8FD02AE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831-B000-476F-A4E9-0EBB5261B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A5F-C5CF-472D-B29B-FD0AC52A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A808-CD7F-43BE-844B-D55B54D7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DD6-24AE-49B3-B6A8-99F1DF27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SSIPPI RI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,  SPAIN,  AND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'  MA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10:03Z</dcterms:created>
  <dc:creator>Jennifer Budzinski</dc:creator>
  <dc:description/>
  <dc:language>en-US</dc:language>
  <cp:lastModifiedBy>Erich Friedman</cp:lastModifiedBy>
  <dcterms:modified xsi:type="dcterms:W3CDTF">2020-08-30T19:34:23Z</dcterms:modified>
  <cp:revision>349</cp:revision>
  <dc:subject/>
  <dc:title>Slide 1</dc:title>
</cp:coreProperties>
</file>