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0424-CD7B-49F7-AB33-20F4A5C32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250A-B9BC-4C99-A60B-62960C42B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CCED-64CE-4924-9B32-1AB67CADE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E128-F846-480B-BEA7-089FC875D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47D2-F02F-40B5-A934-F2E89D2AC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307B-26C1-4123-83BF-DE391117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3042-2485-48D5-A01D-E62FCCD97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8F3D-91DC-4B85-8345-20BBFB9F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748D-A424-4CAC-8ABF-4953757BB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550A-D39D-4819-AEA1-922272F96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3530-78FE-4DEB-8F1D-6594A1C5F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C33B-A3C3-42FC-A58F-B5F9B9206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2A74-D8F4-4680-BC40-BBF9048AE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3A92-3F5E-46F9-B01D-F11371E9E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8F7F-4661-409C-8419-F934173C6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E447-F158-4497-BA76-2665606CB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4676-58DC-4F4A-9B83-DE705BE51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B99E-5CDB-4DE1-B399-352271FFD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7F5C-6B65-496F-92DF-9E52EA1A4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E202-E707-49D3-9A51-AB9397364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F38-047F-4F80-BADD-0834B9562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253E-06DC-4AC1-BF51-F1EE5CB8A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A8A6-7FEB-4374-97FB-4BE04402D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THERLANDS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THANKS B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THE NETHERLANDS IS BELOW SEA LEVEL?  11%, 26%, OR 41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SE PAINTERS WA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ORN IN THE NETHERLANDS?  REMBRANDT, VERMEER, RUBENS, OR VAN GO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  EAR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SE BANDS   IS DUTCH?  GOLDEN EARRING, ABBA, AC/DC, OR SOUL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  AND  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OUNTRIES BORDER THE NETHER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MARKETS EXIST IN THE DUTCH CITIES OF ALKMAAR, EDAM AND GOUDA?  CHEESE, WOODEN SHOES, TULIPS, OR HER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988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LION PEOPLE LIVE IN THE NETHERLANDS?  7, 17, OR 2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ERICAN WORD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IGINALLY DUTCH?  MONEY, COOKIE, DOLLAR, OR WAFF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DO THE DUTCH WEAR ON DAYS OF NATIONAL PR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ROVINCES DOES THE NETHERLANDS HAVE?  6, 9, OR 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SE BANDS   IS DUTCH?  GOLDEN EARRING, ABBA, AC/DC, OR SOULS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PROCESS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WA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VENTED BY THE DUTCH?  CD-PLAYERS, BLUETOOTH, WIFI, OR MICROPROCESS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838080" y="48769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85840" y="762120"/>
            <a:ext cx="8572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THE NETHERLANDS IS BELOW SEA LEVEL?  11%, 26%, OR 41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87692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SE PAINTERS WA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ORN IN THE NETHERLANDS?  REMBRANDT, VERMEER, RUBENS, OR VAN GO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OUNTRIES BORDER THE NETHER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MARKETS EXIST IN THE DUTCH CITIES OF ALKMAAR, EDAM AND GOUDA?  CHEESE, WOODEN SHOES, TULIPS, OR HER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LION PEOPLE LIVE IN THE NETHERLANDS?  7, 17, OR 2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ERICAN WORD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IGINALLY DUTCH?  MONEY, COOKIE, DOLLAR, OR WAFF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DO THE DUTCH WEAR ON DAYS OF NATIONAL PR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ROVINCES DOES THE NETHERLANDS HAVE?  6, 9, OR 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WA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VENTED BY THE DUTCH?  CD-PLAYERS, BLUETOOTH, WIFI, OR MICROPROCESS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0T19:35:28Z</dcterms:modified>
  <cp:revision>433</cp:revision>
  <dc:subject/>
  <dc:title>Slide 1</dc:title>
</cp:coreProperties>
</file>