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A6F1-356F-42B3-83CB-4B0214C9D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627E-AD0C-4D84-8B43-347B886F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59A6-7393-43DE-AD21-52D3F4EA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D6E0-0C34-45DA-9E52-C85E1EAD1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62AF-6419-4C28-B730-4C8EBD5D6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9292-3F75-4895-B180-306FE590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3ACF-4373-4AC7-83AF-C5DAECCA2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94E3-8C79-4D2B-8FCC-28D3E304D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E378-E622-4C20-BF36-2850EA27B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494C-301F-4BAC-ABA9-F73B2A9DC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84D1-0E95-49BA-B368-51EC46442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7548-7CB2-4994-B599-CC97D6785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39F3-4DC9-4A25-AEA1-675E0296A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B6A9-2447-4624-9739-447212EE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1470-240A-4581-ABE1-861F653B8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01CC-8B8F-40F6-AB89-821F1DA43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D90B-3307-4FCF-A951-1E6DC2ED6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8396-2027-40DA-BAA2-8F59BB471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0E9B-1D98-44D2-B693-7F2DAB8B1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8B86-8C00-48F3-A2A4-772EECB1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EEAA-FA0C-453D-A01B-C633C72C9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BB60-1E3F-4E4F-A94E-63D1A7C0B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9640C-0F7A-4F23-9227-9C54BA7E0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NETHERLANDS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THANKS B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THE NETHERLANDS IS BELOW SEA LEVEL?  11%, 26%, OR 41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SE PAINTERS WA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ORN IN THE NETHERLANDS?  REMBRANDT, VERMEER, RUBENS, OR VAN GO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EAR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SE BANDS   IS DUTCH?  GOLDEN EARRING, ABBA, AC/DC, OR SOUL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  AND  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OUNTRIES BORDER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MARKETS EXIST IN THE DUTCH CITIES OF ALKMAAR, EDAM AND GOUDA?  CHEESE, WOODEN SHOES, TULIPS, OR HER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9888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LION PEOPLE LIVE IN THE NETHERLANDS?  7, 17, OR 2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ERICAN WORD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IGINALLY DUTCH?  MONEY, COOKIE, DOLLAR, OR WAFF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DO THE DUTCH WEAR ON DAYS OF NATIONAL PR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ROVINCES DOES THE NETHERLANDS HAVE?  6, 9, OR 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SE BANDS   IS DUTCH?  GOLDEN EARRING, ABBA, AC/DC, OR SOULS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PROCES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WA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VENTED BY THE DUTCH?  CD-PLAYERS, BLUETOOTH, WIFI, OR MICROPROCESS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838080" y="48769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85840" y="762120"/>
            <a:ext cx="8572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THE NETHERLANDS IS BELOW SEA LEVEL?  11%, 26%, OR 41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87692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SE PAINTERS WA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ORN IN THE NETHERLANDS?  REMBRANDT, VERMEER, RUBENS, OR VAN GO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OUNTRIES BORDER THE NETHER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MARKETS EXIST IN THE DUTCH CITIES OF ALKMAAR, EDAM AND GOUDA?  CHEESE, WOODEN SHOES, TULIPS, OR HERR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LION PEOPLE LIVE IN THE NETHERLANDS?  7, 17, OR 2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MERICAN WORD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RIGINALLY DUTCH?  MONEY, COOKIE, DOLLAR, OR WAFF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DO THE DUTCH WEAR ON DAYS OF NATIONAL PR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ROVINCES DOES THE NETHERLANDS HAVE?  6, 9, OR 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WA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VENTED BY THE DUTCH?  CD-PLAYERS, BLUETOOTH, WIFI, OR MICROPROCESS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0T19:35:28Z</dcterms:modified>
  <cp:revision>433</cp:revision>
  <dc:subject/>
  <dc:title>Slide 1</dc:title>
</cp:coreProperties>
</file>