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9CD2-8611-4528-8FBD-98467285F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3BEA-9CB4-4F92-8FD5-4F3219394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0619-4A05-44EB-ACB9-3B6934294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9B11-7992-4926-9789-DCFD113AA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998C-0B1F-4F2F-961E-E90D07F84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444B-ED48-443B-BF7F-65B47C222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55CE-DA44-4796-8890-5A92E7B29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2D94-FC43-4520-804A-D2E38188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7788-E0CA-4BFF-B943-9687370BA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B9E8-B560-4E95-9461-4B15C75AD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4861-C0ED-4034-9F6D-2B7CCE3B5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6FF9-A9F6-4370-8306-5DB266476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D628-7B4D-462C-B633-EDF26802C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6EFA-0C28-42D1-8092-3F5C3F838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AD53-EFD1-4834-89EE-A14E055E1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0AAA-74A6-48B1-9381-964AEEF2B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F39F-D075-493D-93CD-860832273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1E5E-A89A-4999-B402-03A2F5D50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07E6-76DE-4DC4-8E49-C2EC4AD74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3A9A-14EE-4F15-80BE-774864DF9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0447-8F51-42C9-B167-5BD6B339C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A753-B185-4EBB-A4D0-3383DA3B8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D9A1-D859-4E2C-BCAA-88E97A2AD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066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NA              (THANKS BARBAR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96360" y="761760"/>
            <a:ext cx="8348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CHINA'S BUSIEST SHOPPING DAY OF THE YEAR?  FEBRUARY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UGUST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NOVEMBER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76280" y="762120"/>
            <a:ext cx="819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CHINA'S BIGGEST TRADING PARTNER?  THE UNITED STATES, JAPAN, OR HONG K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90400" y="762120"/>
            <a:ext cx="796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CHINESE CHARACTERS?  HANGUL, GRAPHEMES, OR LOGOGR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78040" y="762120"/>
            <a:ext cx="7387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HINESE DYNASTY WAS IN POWER WHEN SILK ROAD TRADE ESSENTIALLY ENDED IN THE MID-1400’S?  SONG, HAN, OR 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67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00000" y="752400"/>
            <a:ext cx="73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MAINLAND CHINESE DRIVE ON THE LEFT OR RIGHT SIDE OF THE RO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  FR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-152280" y="990720"/>
            <a:ext cx="4267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HINESE FR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3959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I  JIN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08160" y="762120"/>
            <a:ext cx="6727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ESIDENT OF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C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66720" y="762120"/>
            <a:ext cx="7810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CIAL MEDIA  APP IS BY FAR THE MOST POPULAR IN CHINA?  FACEBOOK, WECHAT, OR WHATSAP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D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71520" y="762120"/>
            <a:ext cx="8400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INESE INVENTED GUNPOWDER ORIGINALLY FOR WHAT PURPOSE?  FIREWORKS, MINING, OR MEDIC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CHINESE CHARACTERS?  HANGUL, GRAPHEMES, OR LOGOGR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RARE EARTH MINERALS COMES FROM CHINA?  1/3, 1/2, OR 2/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EMBER  1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0680" y="762120"/>
            <a:ext cx="8162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CHINA'S BUSIEST SHOPPING DAY OF THE YEAR?  FEBRUARY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UGUST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NOVEMBER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14440" y="762120"/>
            <a:ext cx="8115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CHINA'S BIGGEST TRADING PARTNER?  THE UNITED STATES, JAPAN, OR HONG K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HINESE DYNASTY WAS IN POWER WHEN SILK ROAD TRADE ESSENTIALLY ENDED IN THE MID-1400’S?  SONG, HAN, OR 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1560" y="762120"/>
            <a:ext cx="7400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MAINLAND CHINESE DRIVE ON THE LEFT OR RIGHT SIDE OF THE RO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-76320" y="990720"/>
            <a:ext cx="41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HINESE FRU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395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ESIDENT OF CH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47560" y="761760"/>
            <a:ext cx="804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CIAL MEDIA  APP IS BY FAR THE MOST POPULAR IN CHINA?  FACEBOOK, WECHAT, OR WHATSAP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INESE INVENTED GUNPOWDER ORIGINALLY FOR WHAT PURPOSE?  FIREWORKS, MINING, OR MEDIC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RARE EARTH MINERALS COMES FROM CHINA?  1/3, 1/2, OR 2/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30T19:36:44Z</dcterms:modified>
  <cp:revision>374</cp:revision>
  <dc:subject/>
  <dc:title>Slide 1</dc:title>
</cp:coreProperties>
</file>