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2D20-0A86-4FA2-8599-328D45B1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D17E-B17A-45DE-8CF3-4CB7444CA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4132-9634-4543-8191-D6DD32266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9FCC-561A-4505-95C4-A03D3913A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EBA0-3505-4285-9985-36522ACF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039B-6CCE-41DD-AC00-AE0707B4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18E-5FB9-459D-AB09-33C331A5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AA1D-C6DE-4221-937A-AFA2F54D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1422-8C6F-4694-99D8-797DC4057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59B1-6810-4CA3-A18A-B8F876BFB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DE75-C4FE-479B-9130-D38BDEF4D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00DE-2BC9-4372-8A48-218799247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141-1E26-4E04-8370-B86D9857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5B69-3EFF-4248-A0C0-D524C81D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9AB-D654-443F-A248-50D53617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234A-CBF3-46D9-B351-D6642EFD0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55F6-2103-4208-B04B-44229C42D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92F-0269-4470-9881-F8CB89CF2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162F-FA2A-42B1-BE0A-3F71024DA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3BCD-9690-4600-A3DB-DAFCB614F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96AD-7BEE-45A4-9CA0-130D35610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DB7E-8D16-4C76-8B55-89C3E6A81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6CD4-16CB-4857-B646-A7208964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NA              (THANKS BARBAR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6360" y="761760"/>
            <a:ext cx="8348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78040" y="762120"/>
            <a:ext cx="7387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67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900000" y="75240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ON  FRU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-152280" y="990720"/>
            <a:ext cx="42670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I  JIN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08160" y="762120"/>
            <a:ext cx="6727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C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71520" y="762120"/>
            <a:ext cx="840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CHINESE CHARACTERS?  HANGUL, GRAPHEMES, OR LOGOG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/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1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0680" y="762120"/>
            <a:ext cx="8162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CHINA'S BUSIEST SHOPPING DAY OF THE YEAR?  FEBRUARY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UGUST 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OR NOVEMBER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14440" y="762120"/>
            <a:ext cx="8115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CHINA'S BIGGEST TRADING PARTNER?  THE UNITED STATES, JAPAN, OR HONG K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HINESE DYNASTY WAS IN POWER WHEN SILK ROAD TRADE ESSENTIALLY ENDED IN THE MID-1400’S?  SONG, HAN, OR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1560" y="762120"/>
            <a:ext cx="740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AINLAND CHINESE DRIVE ON THE LEFT OR RIGHT SIDE OF THE RO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-76320" y="990720"/>
            <a:ext cx="4191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HINESE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343400" y="990720"/>
            <a:ext cx="4395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PRESIDENT OF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CIAL MEDIA  APP IS BY FAR THE MOST POPULAR IN CHINA?  FACEBOOK, WECHAT, OR WHATSAP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INESE INVENTED GUNPOWDER ORIGINALLY FOR WHAT PURPOSE?  FIREWORKS, MINING, OR MEDIC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CTION OF RARE EARTH MINERALS COMES FROM CHINA?  1/3, 1/2, OR 2/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30T19:36:44Z</dcterms:modified>
  <cp:revision>374</cp:revision>
  <dc:subject/>
  <dc:title>Slide 1</dc:title>
</cp:coreProperties>
</file>