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4D7A-C282-46EC-AF6E-C134616C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131-9CE4-45D1-B7B0-8F3A5E14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DB2-48A5-4B6B-B641-0DF1DB3E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E5C4-D634-403A-9939-46EEEEA2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9DB-9881-4B87-AC37-1F24A6AB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85E-FB8B-4FC7-8028-566365B8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3830-7092-401C-B4EF-32A9F896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A9D-A038-4B0A-A1D9-EDB8CD47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3D7-1AE9-4821-9431-E09B8E31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3B8-D9C0-4D5D-A011-0EC4413C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4AA-73C1-4831-9F92-91E65820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47BE-9F4D-44C6-B659-3F43A272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D31-14F0-4E4F-A8C2-856C2D06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02A-A86F-4DD1-9C8E-48712529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B572-1046-4247-BA89-40BDB3B3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327-C150-45C9-B054-E147AB87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9E07-8EF0-46B1-8F71-F76632F4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16C-6095-45C1-BE5B-894F7458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9C55-7F30-42C6-B08C-483CDFD0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47A-BAA5-4962-B6C2-0F530C33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CE4-EEBD-47DE-BB9D-7554F064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69C-D69A-48BD-AFE1-1FEBDAFC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5E2-1736-4A6A-9049-B4A3FEB7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              (THANKS BARBAR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6360" y="761760"/>
            <a:ext cx="834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8040" y="762120"/>
            <a:ext cx="738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6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00000" y="75240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  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-152280" y="990720"/>
            <a:ext cx="4267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I  JIN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08160" y="762120"/>
            <a:ext cx="672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1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0680" y="762120"/>
            <a:ext cx="8162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1560" y="762120"/>
            <a:ext cx="740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76320" y="99072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30T19:36:44Z</dcterms:modified>
  <cp:revision>374</cp:revision>
  <dc:subject/>
  <dc:title>Slide 1</dc:title>
</cp:coreProperties>
</file>