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F02C-0A6D-4BF8-9713-9A582B581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D54B-C140-40FA-A189-4CCB4BB9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99C4-A84E-4AED-81EB-276EC9977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9A72-D742-454C-A5E8-602986B1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1D4D-12DD-4157-9216-6400D616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246F-A878-43CD-9CDF-97B63BEE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828-1666-47F3-A065-F9C32A129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F465-A055-41F6-9B71-553C56FC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1E82-938D-4D87-BC0F-F703FD1C9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E1BA-57B1-4C97-BE77-27E7E7580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0CB-44E1-4B7D-A091-14D8D951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5D1B-3A6F-4F58-AC31-E0A93227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AA36-A3F5-463E-B7C5-21C35BC9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E4A2-2F83-4C37-920E-2608A78E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D100-949E-4792-9949-5B3FB2E95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11AA-1857-4063-8F64-6F80DCA8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345-A55A-445A-A277-FB9FCCEDC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64F0-66C8-48E8-A087-020CEEE7F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A63-8488-45F5-8B2B-CCBAB258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81C1-29D9-4029-A800-3987B3C2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E43D-A78A-4AF3-9788-C5D844A91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9D82-B722-4703-B9E2-E5F7B2F1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38FD-A955-4D03-A158-4A0B6A8DC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TRIPL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A RIGHT TO BEAR ARMS IN THEIR CON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STATES CONTAIN PART OF YELLOWSTONE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98480" y="487692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TONIA,  LATVIA  &amp;  LITHU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70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BALTIC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CROIX,  ST. JOHN  &amp;  ST.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U.S. VIRGIN IS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AY,  SWEDEN  &amp;  DEN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SCANDINAVIAN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00240" y="4343400"/>
            <a:ext cx="6743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SALVADOR,  NICARAGUA  &amp;  GUATEMA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BORDER HONDUR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34340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KOREA,  SOUTH SUDAN &amp;  SOUTH AFR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CONTAIN THE WORD "SOUTH" IN THEI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,  JORDAN  &amp;  JAMA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3560"/>
            <a:ext cx="731520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BEGIN WITH THE LETTER "J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62040" y="43434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OTHO,  SAN MARINO  &amp;   VATICAN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17480"/>
            <a:ext cx="80769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ARE COMPLETELY SURROUNDED BY ANOTHER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BALTIC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ND,  MONACO  &amp;  INDO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FLAGS THAT ARE HALF RED RECTANGLE AND HALF WHITE RECT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33440" y="4343400"/>
            <a:ext cx="6477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STATES,  MEXICO  &amp;  GUATEM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A RIGHT TO BEAR ARMS IN THEIR CON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YOMING,  IDAHO  &amp;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STATES CONTAIN PART OF YELLOWSTONE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U.S. VIRGIN IS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SCANDINAVIAN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BORDER HONDUR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CONTAIN THE WORD "SOUTH" IN THEI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BEGIN WITH THE LETTER "J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ARE COMPLETELY SURROUNDED BY ANOTHER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FLAGS THAT ARE HALF RED RECTANGLE AND HALF WHITE RECT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00:59:53Z</dcterms:created>
  <dc:creator>Jennifer Budzinski</dc:creator>
  <dc:description/>
  <dc:language>en-US</dc:language>
  <cp:lastModifiedBy>Erich Friedman</cp:lastModifiedBy>
  <dcterms:modified xsi:type="dcterms:W3CDTF">2020-08-30T19:39:30Z</dcterms:modified>
  <cp:revision>330</cp:revision>
  <dc:subject/>
  <dc:title>Slide 1</dc:title>
</cp:coreProperties>
</file>