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1941-6CE1-4083-B4D6-7734E5094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C06E-0F17-457A-837C-49CCE663B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350D-5A07-4FF9-8991-036ECC0F2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7D760-2D56-407A-83BE-8188978EC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4D28-40B0-4CD9-ADC5-9C08971FF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5A5D-1FEE-4092-A819-BF46963F7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EC257-6D14-4E97-B19E-254415D33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F47F1-E3D8-4D77-B83B-F84A58E5A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401D-5A41-4AB9-9554-F99A8CEAF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0572-961B-467D-8E77-82A7698C44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BE62-3E19-410F-BB58-EA5490C982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04715-8BA7-4D09-A11F-244B021A8A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4B74-7E18-4247-BA2B-3B3823BD9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2D4A-DEB1-45E4-9D7E-05EE11D4B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339B-3419-40F0-9FEB-08FCB21FB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1E46-707E-47C0-965C-60F0F885A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119EF-4387-4281-9DE7-0C6E73C8A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87A8-39CB-4438-ADC5-96AE991543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CB425-CA96-4E95-9C88-86EFC5DDD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8D9E3-C350-4A04-8408-5E606C1E27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71D65-CE07-4983-A6F8-BAEAC5F64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A05F-C10D-4B1F-A7DC-338C80512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CC01-3198-4000-BD6D-4F13CA6B2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716256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OGRAPHY TRIPLES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COUNTRIES HAVE A RIGHT TO BEAR ARMS IN THEIR CONSTITU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143000" y="762120"/>
            <a:ext cx="6858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STATES CONTAIN PART OF YELLOWSTONE NATIONAL PA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798480" y="4876920"/>
            <a:ext cx="7543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STONIA,  LATVIA  &amp;  LITHUAN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027080" y="762120"/>
            <a:ext cx="7086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THREE BALTIC STAT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343080" y="4876920"/>
            <a:ext cx="84582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. CROIX,  ST. JOHN  &amp;  ST. THO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143000" y="762120"/>
            <a:ext cx="685800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THREE U.S. VIRGIN ISLA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NORWAY,  SWEDEN  &amp;  DENMA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 SCANDINAVIAN COUNT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1200240" y="4343400"/>
            <a:ext cx="67435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L SALVADOR,  NICARAGUA  &amp;  GUATEMAL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104840" y="762120"/>
            <a:ext cx="69343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COUNTRIES BORDER HONDUR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343400"/>
            <a:ext cx="73915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OUTH KOREA,  SOUTH SUDAN &amp;  SOUTH AFRIC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914400" y="762120"/>
            <a:ext cx="73152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COUNTRIES CONTAIN THE WORD "SOUTH" IN THEIR NAM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PAN,  JORDAN  &amp;  JAMA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914400" y="763560"/>
            <a:ext cx="7315200" cy="25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COUNTRIES BEGIN WITH THE LETTER "J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562040" y="4343400"/>
            <a:ext cx="60199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SOTHO,  SAN MARINO  &amp;   VATICAN C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533520" y="717480"/>
            <a:ext cx="807696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COUNTRIES ARE COMPLETELY SURROUNDED BY ANOTHER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28520" y="762120"/>
            <a:ext cx="7086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THREE BALTIC STATE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POLAND,  MONACO  &amp;  INDONES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800280" y="762120"/>
            <a:ext cx="75438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COUNTRIES HAVE FLAGS THAT ARE HALF RED RECTANGLE AND HALF WHITE RECTANG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1333440" y="4343400"/>
            <a:ext cx="6477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UNITED  STATES,  MEXICO  &amp;  GUATEM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22840" indent="-222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28880" y="762120"/>
            <a:ext cx="70866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COUNTRIES HAVE A RIGHT TO BEAR ARMS IN THEIR CONSTITU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YOMING,  IDAHO  &amp;  MONT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143000" y="762120"/>
            <a:ext cx="6858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STATES CONTAIN PART OF YELLOWSTONE NATIONAL PA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1333440" y="761760"/>
            <a:ext cx="64771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THREE U.S. VIRGIN ISLA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1028880" y="762120"/>
            <a:ext cx="7086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RE THE 3 SCANDINAVIAN COUNT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990720" y="762120"/>
            <a:ext cx="71625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COUNTRIES BORDER HONDURA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799920" y="76212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COUNTRIES CONTAIN THE WORD "SOUTH" IN THEIR NAM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952560" y="761760"/>
            <a:ext cx="7238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COUNTRIES BEGIN WITH THE LETTER "J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COUNTRIES ARE COMPLETELY SURROUNDED BY ANOTHER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3 COUNTRIES HAVE FLAGS THAT ARE HALF RED RECTANGLE AND HALF WHITE RECTANGL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12T00:59:53Z</dcterms:created>
  <dc:creator>Jennifer Budzinski</dc:creator>
  <dc:description/>
  <dc:language>en-US</dc:language>
  <cp:lastModifiedBy>Erich Friedman</cp:lastModifiedBy>
  <dcterms:modified xsi:type="dcterms:W3CDTF">2020-08-30T19:39:30Z</dcterms:modified>
  <cp:revision>330</cp:revision>
  <dc:subject/>
  <dc:title>Slide 1</dc:title>
</cp:coreProperties>
</file>