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360-B30A-4511-95FC-72ECEDF10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B9A-38A0-4CA6-B9A4-2A798841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FBEB-3831-4FC8-8F75-AC8269E00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F2A7-7CA3-424E-85D5-03DDCC15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EE92-C44E-4DE8-BE8B-8E67DB89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B6A1-7668-4970-8A68-A3406C2E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05E-DD33-45A1-A8C9-A1A380F1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48A-7775-4ADF-BFA4-80436C95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760C-50A7-4A04-B6AC-A94E0E050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14C4-B169-4420-B4F7-0CBDCE35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2D9-F8F8-4056-8FC1-015ACC5B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41F-277E-4B56-A9FE-082B3722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B8E2-3471-4A6F-A62E-8655ACCF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92C3-A225-4A4A-B4EA-3CFC2A58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B449-5F33-4F67-BAAE-C261A362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947-7C39-434D-B9D9-166050609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338-D96C-40DE-BC6F-58445F329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4164-EC52-45DE-B5A8-A844E175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5DA5-5F9F-4B8F-A08D-7BBCB0F1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ECA6-D6C3-4631-A8BB-FBA29915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B576-AE81-49B6-9733-A257DD678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A817-FB20-474F-BAB6-2501BCE7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D30E-5D58-4905-B1D7-6201CA8F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HINGTON, D.C. (THANKS ERI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0000" y="762120"/>
            <a:ext cx="734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2520" y="762120"/>
            <a:ext cx="877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5760" y="4849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ELL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0160" y="762120"/>
            <a:ext cx="74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QUINCY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19280" y="762120"/>
            <a:ext cx="590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,  JOHN  ERICSSON, GEORGE  MASON &amp;  JOHN  PAU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9600" y="762120"/>
            <a:ext cx="852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1760" y="762120"/>
            <a:ext cx="708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ENSE  (THE  PENTAG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2000" y="76176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54200" y="762120"/>
            <a:ext cx="76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30T19:40:18Z</dcterms:modified>
  <cp:revision>360</cp:revision>
  <dc:subject/>
  <dc:title>Slide 1</dc:title>
</cp:coreProperties>
</file>