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B4C12-C7B7-42DC-94D5-5E990F3A2F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9F28F-26CF-4190-8482-F94301C42E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4FE9C-4BB3-43BF-9BEF-593B1C14BD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BE2C3-D9CB-40E8-8DA3-66EBFFFDFC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AD751-1A13-487B-A671-C0FB2517CC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3BEF6-AC94-43D6-BB13-77F5D89A9F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1B39A-A6A8-4D0A-BA09-2B3EECC5E2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74182-7CD6-437C-A1E5-8DD9D47030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C64CE-0D67-4697-ADF7-E7F57D4788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D1C80-6380-4179-B97D-C5F13B7BB6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B1816-88CD-492A-9D06-B4295CD277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6C4BD-E7C2-43EB-BACC-3DE436155C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78E94-0594-4289-8C34-0A9766C4CF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6F271-43E7-4C5B-9693-43DDD4171A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FAC81-AAB3-4A16-A1C6-913AFF74C4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EDA54-A008-4578-984A-9F404D3422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61A0D-C46C-422A-9482-55EB807FBB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4DA8F-A909-40A2-942B-20CFD25BB5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8E185-F9D6-404B-B512-5069A83E54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39998-4A85-40D3-BA8D-07D5A9198D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C8E79-F9D4-4428-BEED-D5C9D8035D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3BF37-3E91-4667-88EB-DF39D33A9D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C0A97-5643-4C21-A5DC-A4E1413CD1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99920" y="10666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ASHINGTON, D.C. (THANKS ERIN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A DESERT STORM WAR MEMORIAL WILL SOON BE BUILT IN WASHINGTON, D.C.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380880" y="762120"/>
            <a:ext cx="84391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CABINET DEPARTMENT WHOSE HEADQUARTERS IS NOT LOCATED IN D.C.?  COMMERCE, INTERIOR, OR DEFEN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065240" y="4876920"/>
            <a:ext cx="70102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96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900000" y="762120"/>
            <a:ext cx="73422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ASHINGTON, D.C. RESIDENTS COULD NOT VOTE IN PRESIDENTIAL ELECTIONS UNTIL WHEN?  1924, 1952, OR 1964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9276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OODROW  WIL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82520" y="762120"/>
            <a:ext cx="8778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ONLY U.S. PRESIDENT BURIED IN WASHINGTON, D.C.?  WOODROW WILSON, JAMES BUCHANAN, OR GROVER CLEVELAND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5760" y="4849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UKE  ELLING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830160" y="762120"/>
            <a:ext cx="7481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AMOUS JAZZ     ARTIST WAS A NATIVE OF WASHINGTON, D.C.?  MILES DAVIS, ELLA FITZGERALD, OR DUKE ELLINGT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  QUINCY  AD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433440" y="762120"/>
            <a:ext cx="8277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PRESIDENT DIED INSIDE THE U.S. CAPITOL BUILD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OHN QUINCY ADAMS, ZACHARY TAYLOR, OR WILLIAM HOWARD TAF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ASHINGTON  MONU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619280" y="762120"/>
            <a:ext cx="59054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  TALLEST BUILDING IN WASHINGTON, D.C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399960" y="762120"/>
            <a:ext cx="83440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SIDENTS OF D.C. CONSUME MORE OF WHICH BEVERAGE THAN ANY OF THE OTHER 50 STATES DO, PER CAPITA?  COFFEE, BEER, OR WI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952560" y="3809880"/>
            <a:ext cx="723888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TIN  LUTHER  KING,  JOHN  ERICSSON, GEORGE  MASON &amp;  JOHN  PAUL  J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309600" y="762120"/>
            <a:ext cx="852480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AME 1 OF THE 4 NON-PRESIDENTS WITH A MEMORIAL ON THE NATIONAL MAL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971640" y="762120"/>
            <a:ext cx="7200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ASHINGTON, D.C. RESIDENTS COULD NOT VOTE IN PRESIDENTIAL ELECTIONS UNTIL WHEN?  1924, 1952, OR 1964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90536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031760" y="762120"/>
            <a:ext cx="70804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ASHINGTON, D.C. HAS STREETS NAMED FOR EVERY LETTER OF THE ALPHABET EXCEPT WHICH ONE?  J, Q, OR Z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838080" y="762120"/>
            <a:ext cx="746784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A DESERT STORM WAR MEMORIAL WILL SOON BE BUILT IN WASHINGTON, D.C.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EFENSE  (THE  PENTAGO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361800" y="762120"/>
            <a:ext cx="84204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CABINET DEPARTMENT WHOSE HEADQUARTERS IS NOT LOCATED IN D.C.?  COMMERCE, INTERIOR, OR DEFEN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62000" y="761760"/>
            <a:ext cx="8820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ONLY U.S. PRESIDENT BURIED IN WASHINGTON, D.C.?  WOODROW WILSON, JAMES BUCHANAN, OR GROVER CLEVELAN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754200" y="762120"/>
            <a:ext cx="7634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AMOUS JAZZ     ARTIST WAS A NATIVE OF WASHINGTON, D.C.?  MILES DAVIS, ELLA FITZGERALD, OR DUKE ELLINGT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71600" y="762120"/>
            <a:ext cx="82008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PRESIDENT DIED INSIDE THE U.S. CAPITOL BUILDI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OHN QUINCY ADAMS, ZACHARY TAYLOR, OR WILLIAM HOWARD TAF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581120" y="761760"/>
            <a:ext cx="59817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  TALLEST BUILDING IN WASHINGTON, D.C.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552600" y="761760"/>
            <a:ext cx="8038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SIDENTS OF D.C. CONSUME MORE OF WHICH BEVERAGE THAN ANY OF THE OTHER 50 STATES DO, PER CAPITA?  COFFEE, BEER, OR WIN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295200" y="761760"/>
            <a:ext cx="8553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AME 1 OF THE 4 NON-PRESIDENTS WITH A MEMORIAL ON THE NATIONAL MAL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019160" y="761760"/>
            <a:ext cx="71056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ASHINGTON, D.C. HAS STREETS NAMED FOR EVERY LETTER OF THE ALPHABET EXCEPT WHICH ONE?  J, Q, OR Z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0T17:42:29Z</dcterms:created>
  <dc:creator>Jennifer Budzinski</dc:creator>
  <dc:description/>
  <dc:language>en-US</dc:language>
  <cp:lastModifiedBy>Erich Friedman</cp:lastModifiedBy>
  <dcterms:modified xsi:type="dcterms:W3CDTF">2020-08-30T19:40:18Z</dcterms:modified>
  <cp:revision>360</cp:revision>
  <dc:subject/>
  <dc:title>Slide 1</dc:title>
</cp:coreProperties>
</file>