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8F58-C871-427E-A599-CA9EC841B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A2D8-0469-4D67-A568-4245E0D9E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ED3-29B2-4DA9-8E21-0BB9BD8B8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876-2AAF-4440-B189-845F85ACA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5780-C61E-422B-BEE0-D0F3B02A7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A038-AB8C-42A4-B921-AC1AD3130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43FA-20C1-4553-9E26-889E639BA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9689-41CD-40F4-BB65-FFCBB4EB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AFCC-29F4-4244-9438-1DAFE0EAF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4F25-501D-4E24-9065-A48F0EEF9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C642-AA6F-4CDE-9FC5-439543EE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5F33-4299-44E1-B04A-9DC1EE6BA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C5A6-EFE1-4813-90B0-864B931BC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3518-D147-44A1-B5C2-1E24A9902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C2CB-A11F-4E0A-B593-CE9012CE0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8C7D-9F09-45F1-B619-F31A5610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AD9F-959E-4EE9-A756-5632C52C8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3021-9FBB-4A08-86C8-57E5C73DF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FCE3-FB6E-4F9A-8540-DD000D4C4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0802-72C4-42EC-9CD9-463EED475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0066-92E2-455F-8D79-504E7313B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A8F7-AFCF-4BAF-AFAD-33233CDDB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C223-7FB8-4832-808D-F0A480E0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SHINGTON, D.C. (THANKS ERIN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ESERT STORM WAR MEMORIAL WILL SOON BE BUILT IN WASHINGTON, D.C.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ABINET DEPARTMENT WHOSE HEADQUARTERS IS NOT LOCATED IN D.C.?  COMMERCE, INTERIOR, OR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5240" y="4876920"/>
            <a:ext cx="70102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00000" y="762120"/>
            <a:ext cx="734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RESIDENTS COULD NOT VOTE IN PRESIDENTIAL ELECTIONS UNTIL WHEN?  1924, 1952, OR 196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ROW  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82520" y="762120"/>
            <a:ext cx="8778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BURIED IN WASHINGTON, D.C.?  WOODROW WILSON, JAMES BUCHANAN, OR GROVER CLEVELAN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5760" y="4849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KE  ELL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0160" y="762120"/>
            <a:ext cx="74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JAZZ     ARTIST WAS A NATIVE OF WASHINGTON, D.C.?  MILES DAVIS, ELLA FITZGERALD, O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QUINCY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3440" y="762120"/>
            <a:ext cx="82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DIED INSIDE THE U.S. CAPITOL BUIL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QUINCY ADAMS, ZACHARY TAYLOR, OR WILLIAM HOWARD TA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MON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19280" y="762120"/>
            <a:ext cx="59054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TALLEST BUILDING IN WASHINGTON,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99960" y="762120"/>
            <a:ext cx="8344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D.C. CONSUME MORE OF WHICH BEVERAGE THAN ANY OF THE OTHER 50 STATES DO, PER CAPITA?  COFFEE, BEER, OR W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52560" y="3809880"/>
            <a:ext cx="72388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,  JOHN  ERICSSON, GEORGE  MASON &amp;  JOHN  PAUL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9600" y="762120"/>
            <a:ext cx="8524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 OF THE 4 NON-PRESIDENTS WITH A MEMORIAL ON THE NATIONAL M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2120"/>
            <a:ext cx="7200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RESIDENTS COULD NOT VOTE IN PRESIDENTIAL ELECTIONS UNTIL WHEN?  1924, 1952, OR 196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05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31760" y="762120"/>
            <a:ext cx="708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HAS STREETS NAMED FOR EVERY LETTER OF THE ALPHABET EXCEPT WHICH ONE?  J, Q, OR 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DESERT STORM WAR MEMORIAL WILL SOON BE BUILT IN WASHINGTON, D.C.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ENSE  (THE  PENTAG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61800" y="762120"/>
            <a:ext cx="842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CABINET DEPARTMENT WHOSE HEADQUARTERS IS NOT LOCATED IN D.C.?  COMMERCE, INTERIOR, OR DEFE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62000" y="761760"/>
            <a:ext cx="8820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U.S. PRESIDENT BURIED IN WASHINGTON, D.C.?  WOODROW WILSON, JAMES BUCHANAN, OR GROVER CLEVE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54200" y="762120"/>
            <a:ext cx="76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JAZZ     ARTIST WAS A NATIVE OF WASHINGTON, D.C.?  MILES DAVIS, ELLA FITZGERALD, OR DUKE ELLING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71600" y="762120"/>
            <a:ext cx="82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DIED INSIDE THE U.S. CAPITOL BUILD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QUINCY ADAMS, ZACHARY TAYLOR, OR WILLIAM HOWARD TA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81120" y="761760"/>
            <a:ext cx="5981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  TALLEST BUILDING IN WASHINGTON,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52600" y="761760"/>
            <a:ext cx="8038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IDENTS OF D.C. CONSUME MORE OF WHICH BEVERAGE THAN ANY OF THE OTHER 50 STATES DO, PER CAPITA?  COFFEE, BEER, OR W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1 OF THE 4 NON-PRESIDENTS WITH A MEMORIAL ON THE NATIONAL M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19160" y="761760"/>
            <a:ext cx="710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HINGTON, D.C. HAS STREETS NAMED FOR EVERY LETTER OF THE ALPHABET EXCEPT WHICH ONE?  J, Q, OR Z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30T19:40:18Z</dcterms:modified>
  <cp:revision>360</cp:revision>
  <dc:subject/>
  <dc:title>Slide 1</dc:title>
</cp:coreProperties>
</file>