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781B-8FC9-417D-8F25-333538B11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43D1-5971-410D-827D-B96E000BC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93A3-7DC6-438A-9703-32D3C52CE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8746-0893-4B58-BD33-42DD0C5FD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149E-8908-44B9-B933-2AA078626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EFEF-DA86-4564-90A9-48253972F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40F4-1DFC-4E36-8A2D-60BCBD033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6497-998C-410A-AB83-0838F5B36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D9A6-A978-4F2F-9578-A52939E66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33E8-9D06-4FC5-832E-3E6FF37D5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B536-6016-42F0-9C7E-985A78440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C4E9-028D-43D6-A306-35F6FA778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EDB9-4F9B-4487-B105-B010DCA9D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4955-E2C4-43C1-BB77-DC1AE3E31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0498-E4C2-4006-BCBF-613F4FEE3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E116-A5B3-4961-B7B2-CEC50AFCE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11F4-D84B-424E-883E-4FED4D694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8EDA-C374-424B-B2E8-0C84E1AC5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424F-1781-4F7F-BF1A-47B3445DB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26C9-7CFE-4EDD-8173-8BEE8C968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C7E2-D6D8-4146-8792-E2F47F99D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9CEE-FBCB-41A8-9D81-355193741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4A28-474E-4165-8288-672D82731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67000" y="1523880"/>
            <a:ext cx="6210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QUE U.S. ST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ALLOWS LEGAL BETTING ON SINGLE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BORDERS 2 OTHER STATES THAT BEGIN WITH THE SAME LETTER AS IT DO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95320" y="762120"/>
            <a:ext cx="7353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PRODUCES COFF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H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 A NON-RECTANGULAR STATE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657600" cy="23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909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JER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0320"/>
            <a:ext cx="7315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OUT A STATE SONG, MUCH TO THE CHAGRIN OF BRUCE SPRINGST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TU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HOSE POSTAL ABBREVIATION IS THE LAST TWO LETTERS OF IT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066680" y="487692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 NO NATURAL LAK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24000" y="762120"/>
            <a:ext cx="8496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 A SPANISH STATE MOTTO, "ORO Y PLATA", WHICH TRANSLATES AS "GOLD AND SIL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E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57480" y="762120"/>
            <a:ext cx="66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HAS A TWO-SIDED STATE FLAG, WITH A BEAVER ON THE B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PRODUCES COFF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M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DOES NOT HAVE A MCDONALDS RESTAUR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V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ALLOWS LEGAL BETTING ON SINGLE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6044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LLIN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BORDERS 2 OTHER STATES THAT BEGIN WITH THE SAME LETTER AS IT DO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 A NON-RECTANGULAR STATE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65760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OUT A STATE SONG, MUCH TO THE CHAGRIN OF BRUCE SPRINGST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HOSE POSTAL ABBREVIATION IS THE LAST TWO LETTERS OF ITS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 NO NATURAL LAK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 A SPANISH STATE MOTTO, "ORO Y PLATA", WHICH TRANSLATES AS "GOLD AND SIL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HAS A TWO-SIDED STATE FLAG, WITH A BEAVER ON THE B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DOES NOT HAVE A MCDONALDS RESTAUR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6T13:22:34Z</dcterms:created>
  <dc:creator>Jennifer Budzinski</dc:creator>
  <dc:description/>
  <dc:language>en-US</dc:language>
  <cp:lastModifiedBy>Erich Friedman</cp:lastModifiedBy>
  <dcterms:modified xsi:type="dcterms:W3CDTF">2020-08-30T19:40:42Z</dcterms:modified>
  <cp:revision>350</cp:revision>
  <dc:subject/>
  <dc:title>Slide 1</dc:title>
</cp:coreProperties>
</file>