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EA42-23E3-4D80-969B-54550715A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5DAF-5BD8-4D78-B845-43C4D150F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892A-6591-4C8A-9E17-9C0FB6D8C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C638-42A1-4747-8FF9-ECB82148B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10CE-256B-4269-B9D3-4B6232A62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3A93-251F-4718-BC3A-41B0A58ED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E9E0-E0CF-48D4-86A0-6A143E6B3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3D94-506D-47CD-8684-F80E37D13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3A8A-A699-4F4A-B951-525D821E6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2B7A-0CFC-4E1C-B830-5A9E35AF3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AB14-00E7-48E3-92AB-0AFA2BC2C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1064-721A-4E0E-AAFE-07E5D8FEA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598D-5C08-461C-8713-9895905BB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4B6D-0E6B-4A25-BCE1-DEF1AD8D6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47C1-A5E4-45A0-8361-AB02A2B35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2657-F660-4D34-B4FA-8D3ABD7F5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1DA2-9A9B-43EC-8CEE-54F2626BD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7ED8-FBE8-43A6-9853-50738437A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A5FC-DDBD-4DC2-B9F0-9003A1713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9B70-7FFA-4B05-8C2D-87CA09AE4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1D41-8CAF-4093-9560-6F03D6483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6408-3157-482C-A876-8C3ED37DF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F26E-942D-4099-A430-04B636207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67000" y="1523880"/>
            <a:ext cx="6210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QUE U.S. ST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ALLOWS LEGAL BETTING ON SINGLE G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BORDERS 2 OTHER STATES THAT BEGIN WITH THE SAME LETTER AS IT DO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95320" y="762120"/>
            <a:ext cx="7353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PRODUCES COFF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H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00280" y="76212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WITH A NON-RECTANGULAR STATE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3657600" cy="23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909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JER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0320"/>
            <a:ext cx="7315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WITHOUT A STATE SONG, MUCH TO THE CHAGRIN OF BRUCE SPRINGST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TUC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WHOSE POSTAL ABBREVIATION IS THE LAST TWO LETTERS OF ITS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066680" y="4876920"/>
            <a:ext cx="701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WITH NO NATURAL LAK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T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24000" y="762120"/>
            <a:ext cx="8496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WITH A SPANISH STATE MOTTO, "ORO Y PLATA", WHICH TRANSLATES AS "GOLD AND SIL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E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57480" y="762120"/>
            <a:ext cx="6629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HAS A TWO-SIDED STATE FLAG, WITH A BEAVER ON THE BA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PRODUCES COFFE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RM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DOES NOT HAVE A MCDONALDS RESTAUR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V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ALLOWS LEGAL BETTING ON SINGLE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6044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LLIN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BORDERS 2 OTHER STATES THAT BEGIN WITH THE SAME LETTER AS IT DO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WITH A NON-RECTANGULAR STATE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3657600" cy="23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WITHOUT A STATE SONG, MUCH TO THE CHAGRIN OF BRUCE SPRINGST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WHOSE POSTAL ABBREVIATION IS THE LAST TWO LETTERS OF ITS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WITH NO NATURAL LAK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WITH A SPANISH STATE MOTTO, "ORO Y PLATA", WHICH TRANSLATES AS "GOLD AND SILV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HAS A TWO-SIDED STATE FLAG, WITH A BEAVER ON THE BA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DOES NOT HAVE A MCDONALDS RESTAUR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6T13:22:34Z</dcterms:created>
  <dc:creator>Jennifer Budzinski</dc:creator>
  <dc:description/>
  <dc:language>en-US</dc:language>
  <cp:lastModifiedBy>Erich Friedman</cp:lastModifiedBy>
  <dcterms:modified xsi:type="dcterms:W3CDTF">2020-08-30T19:40:42Z</dcterms:modified>
  <cp:revision>350</cp:revision>
  <dc:subject/>
  <dc:title>Slide 1</dc:title>
</cp:coreProperties>
</file>