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003C-6A14-4B32-BEFD-83928B8FF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7CCF-47BB-4524-B1A6-CC2A7C9F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B274-0FD5-44D8-9EF4-C55E1E188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8AA6-3DC8-4C48-BFBD-3651EAF7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78F66-2A66-4E86-9330-DBC469F54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B696-AAC8-4C8A-AA1A-406FC426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D65E-0752-4D9A-AA7B-437E42A02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F59D-EC2C-4E24-8743-5458378A5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14C7-79BD-42C7-A65D-847F69822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E10E-451C-4C4A-9832-6A2FB142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6D32-F6F6-4F0D-A28F-0E202D1F3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71A4-CB2C-4658-900C-EB8A32691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9F03-9346-46D2-9724-71BC5518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BE87-7991-4F91-B5B2-7FFEA32BB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63F2-CB8F-499D-A80E-A324EA5FA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3867-BFC3-436C-BD1F-20DA63639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BC8E-B3B1-4D32-8C6F-D8164A10E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B9A9-8A32-4E7F-8151-FFD9DA46D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CC60-2D23-4083-AF98-3F29CED40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2496-8659-46CF-9668-9949C03F7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90E6-3A13-4A1C-A6BD-756B7FE91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04C7-FE25-4177-A5D9-8DC0C5332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F073-C075-4F7A-9CEC-5E2583C05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67000" y="1523880"/>
            <a:ext cx="6210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QUE U.S. ST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ALLOWS LEGAL BETTING ON SINGLE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BORDERS 2 OTHER STATES THAT BEGIN WITH THE SAME LETTER AS IT D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95320" y="762120"/>
            <a:ext cx="7353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PRODUCES COFF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NON-RECTANGULAR STATE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33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0320"/>
            <a:ext cx="7315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OUT A STATE SONG, MUCH TO THE CHAGRIN OF BRUCE SPRINGST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HOSE POSTAL ABBREVIATION IS THE LAST TWO LETTERS OF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066680" y="4876920"/>
            <a:ext cx="7010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NO NATURAL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24000" y="762120"/>
            <a:ext cx="849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SPANISH STATE MOTTO, "ORO Y PLATA", WHICH TRANSLATES AS "GOLD AND SIL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E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TWO-SIDED STATE FLAG, WITH A BEAVER ON THE B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PRODUCES COFF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HAVE A MCDONALDS RESTAUR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ALLOWS LEGAL BETTING ON SINGLE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604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BORDERS 2 OTHER STATES THAT BEGIN WITH THE SAME LETTER AS IT DO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NON-RECTANGULAR STATE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365760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OUT A STATE SONG, MUCH TO THE CHAGRIN OF BRUCE SPRINGST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HOSE POSTAL ABBREVIATION IS THE LAST TWO LETTERS OF IT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NO NATURAL L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WITH A SPANISH STATE MOTTO, "ORO Y PLATA", WHICH TRANSLATES AS "GOLD AND SIL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HAS A TWO-SIDED STATE FLAG, WITH A BEAVER ON THE B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DOES NOT HAVE A MCDONALDS RESTAUR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6T13:22:34Z</dcterms:created>
  <dc:creator>Jennifer Budzinski</dc:creator>
  <dc:description/>
  <dc:language>en-US</dc:language>
  <cp:lastModifiedBy>Erich Friedman</cp:lastModifiedBy>
  <dcterms:modified xsi:type="dcterms:W3CDTF">2020-08-30T19:40:42Z</dcterms:modified>
  <cp:revision>350</cp:revision>
  <dc:subject/>
  <dc:title>Slide 1</dc:title>
</cp:coreProperties>
</file>