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F34B-3284-49F0-A07C-630C41726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8774-FE2D-4DA5-A8D8-C7AEBF76D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D68A-2297-4427-8D40-722B27260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DB67-8C76-4BF2-9BC2-1EA530C1A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378B-0429-4C7E-964F-5B166B2CF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5834-6B5E-4700-91BF-277A53299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8C48-351E-4E13-A2FA-90A0C2DE5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A3A1-146F-4BFF-AB47-02C75AC7E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7EDB-378C-4444-9F32-9457ECBDA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C1B9-966E-49FB-9BFD-A01639ECC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F970-D04E-4787-BB14-39D7FBE7F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E206-36E0-4C1B-832B-6635409C2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E803-54D4-4EED-9114-AA4AE7D83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E7D7-FD4A-4BCC-BD49-FC467C713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23DA-6688-4F51-9B37-F96BD8792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17DF-D1D2-41F6-91A7-9047BE269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E03E-EDC2-4E2F-A4FF-50DFAF262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450E-3D39-4056-8788-5C350BA1C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52D6-1ABF-4261-B2BD-31AB3E341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BEA4-1DFF-438D-BA9C-621CD2FD7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6308-2312-4555-972F-0AC761B93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80EE-8D9E-4039-BBD2-AE074BF20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9972-5CE9-4809-9D1F-3F33039C0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BB5C-4E3A-4290-9B59-97AD56422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VICE PRESIDENT  DIED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VP TO LIVE IN AN OFFICIAL VP RESIDENCE, 1980-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ARON  BU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VICE PRESIDENT OF THE U.S. WHO DID NOT BECOM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G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90720" y="762120"/>
            <a:ext cx="71625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VICE PRESIDENT WON A GRAMMY AWAR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RBANKS  or  DA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THE CITY IN TEXAS OR THE CITY IN ALASKA THAT WERE NAMED AFTER VPs WHO NEVER BECAM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RYMAND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04920" y="76356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ECOND VP TO DIE IN OFFICE WAS ELBRIDGE GERRY.  WHAT POLITICAL PRACTICE IS NAMED AFTE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447920" y="4343400"/>
            <a:ext cx="624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ALHOUN  or  MARTIN  VAN  BU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OF THE TWO MEN WHO SERVED AS VP UNDER PRESIDENT ANDREW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LAI  STEVE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ROVER CLEVELAND'S VP, AND THE GRANDFATHER OF THE PRESIDENTIAL CANDIDATE WHO LOST TO EISENHOWER IN BOTH 1952 AND 195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04920" y="49528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GARNER  or  HENRY  WALLACE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ONE OF THE TWO MEN WHO WAS VICE PRESIDENT UNDER FDR BEFORE TRUMAN HELD THAT PO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VICE PRESIDENT OF THE U.S. WHO DID NOT BECOM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072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VICE PRESIDENTS INHERITED THE PRESIDENCY WHEN THE PRESIDENT DIED OR LEFT OFFICE?  3, 6, OR 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ALD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VICE PRESIDENT  DIED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ER  MOND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VP TO LIVE IN AN OFFICIAL VP RESIDENCE, 1980-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the winners a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38080" y="762120"/>
            <a:ext cx="7467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VICE PRESIDENT WON A GRAMMY AWAR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THE CITY IN TEXAS OR THE CITY IN ALASKA THAT WERE NAMED AFTER VPs WHO NEVER BECAM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ECOND VP TO DIE IN OFFICE WAS ELBRIDGE GERRY.  WHAT POLITICAL PRACTICE     IS NAMED AFTER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OF THE TWO MEN WHO SERVED AS VP UNDER PRESIDENT ANDREW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ROVER CLEVELAND'S VP, AND THE GRANDFATHER OF THE PRESIDENTIAL CANDIDATE WHO LOST TO EISENHOWER IN BOTH 1952 AND 195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ONE OF THE TWO MEN WHO WAS VICE PRESIDENT UNDER FDR BEFORE TRUMAN HELD THAT PO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VICE PRESIDENTS INHERITED THE PRESIDENCY WHEN THE PRESIDENT DIED OR LEFT OFFICE?  3, 6, OR 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1T13:39:55Z</dcterms:created>
  <dc:creator>Jennifer Budzinski</dc:creator>
  <dc:description/>
  <dc:language>en-US</dc:language>
  <cp:lastModifiedBy>Erich Friedman</cp:lastModifiedBy>
  <dcterms:modified xsi:type="dcterms:W3CDTF">2020-09-04T12:12:05Z</dcterms:modified>
  <cp:revision>269</cp:revision>
  <dc:subject/>
  <dc:title>Slide 1</dc:title>
</cp:coreProperties>
</file>