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F090-F414-4998-857C-AA2D8487A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BA32-3320-4500-B281-819D79A9D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0E51-25EE-4FC8-A585-CFCB6E549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A37D0-A154-4349-8EA6-BFFC8EDC1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BB0B-18F6-4F8F-A9FC-576C04CCE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BBA7-EDD1-4EEB-9117-F1E218A62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AF5D-71CD-4948-B65C-1B074739C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C1E0-5EEA-4985-AC11-B46B4752C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1164-5AF2-46B2-AB8B-8F6BC78E3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9DD7-060C-405F-B6FB-399E497689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23CB-0D34-4159-AF07-C51EB2F8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C5CD-E750-40EE-B4A5-6401F1B31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FE82-60BF-41A7-B940-A4DA543E2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7CE2-45BE-4AEA-964B-3B2EF22E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1412-484B-4620-A9F5-F9EAE6A20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0D8A4-F3AE-45A0-A6D2-D6AF897B0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9C4B9-8FD3-41FF-8F04-3A81A8670F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A93D-62A5-4B41-AC22-A20E5C75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70D-F785-49D9-A47A-55E7F0D46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CC1A-EF3F-4CE4-9C38-EE1483B9C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2A50-0D64-4ACE-81B9-12963F09C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EEEA-6BA7-457D-A7AA-7DAEA36E6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4ADF-EF1B-4920-9BD4-E2671F748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90A4-4EFC-448B-BF63-DFFEB2004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440" y="10666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EP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ARON  BUR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80880" y="762120"/>
            <a:ext cx="83822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  G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990720" y="762120"/>
            <a:ext cx="71625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IRBANKS  or  DA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RYMAN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04920" y="76356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IS NAMED AFTER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447920" y="4343400"/>
            <a:ext cx="624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CALHOUN  or  MARTIN  VAN  BU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LAI  STEVE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90440" y="762120"/>
            <a:ext cx="8763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GARNER  or  HENRY  WALLACE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57200" y="762120"/>
            <a:ext cx="82296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ICE PRESIDENT OF THE U.S. WHO DID NOT BECOME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072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LD F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X-VICE PRESIDENT  DIED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ER  MO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VP TO LIVE IN AN OFFICIAL VP RESIDENCE, 1980-198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nd the winners ar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762120"/>
            <a:ext cx="7467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VICE PRESIDENT WON A GRAMMY AWA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THE CITY IN TEXAS OR THE CITY IN ALASKA THAT WERE NAMED AFTER VPs WHO NEVER BECAME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SECOND VP TO DIE IN OFFICE WAS ELBRIDGE GERRY.  WHAT POLITICAL PRACTICE     IS NAMED AFTER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EITHER OF THE TWO MEN WHO SERVED AS VP UNDER PRESIDENT ANDREW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76212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GROVER CLEVELAND'S VP, AND THE GRANDFATHER OF THE PRESIDENTIAL CANDIDATE WHO LOST TO EISENHOWER IN BOTH 1952 AND 195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ME ONE OF THE TWO MEN WHO WAS VICE PRESIDENT UNDER FDR BEFORE TRUMAN HELD THAT PO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2396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VICE PRESIDENTS INHERITED THE PRESIDENCY WHEN THE PRESIDENT DIED OR LEFT OFFICE?  3, 6, OR 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1T13:39:55Z</dcterms:created>
  <dc:creator>Jennifer Budzinski</dc:creator>
  <dc:description/>
  <dc:language>en-US</dc:language>
  <cp:lastModifiedBy>Erich Friedman</cp:lastModifiedBy>
  <dcterms:modified xsi:type="dcterms:W3CDTF">2020-09-04T12:12:05Z</dcterms:modified>
  <cp:revision>269</cp:revision>
  <dc:subject/>
  <dc:title>Slide 1</dc:title>
</cp:coreProperties>
</file>