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1165-B20E-4A90-8970-8B7EDDF6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1E4F-5DC8-42FA-A9EB-CA0D9234F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6C43-9002-4F64-A3B0-31A4D658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199F-6A50-4407-B5CF-B88672B9B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AF49-AC64-46F9-9EDA-6948162F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C5B3-B890-40A2-B159-4B31BAFF9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ACA0-EFC6-4E1C-9B54-AB78CF2D7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398A-9168-4ED7-8FA3-619C827A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0E8D-3AA5-4D35-AC3C-616A6790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DF26-D93E-4FBA-9339-E0E264F9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2AF3-34B5-4554-A804-AEC2A53C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30E1-8AC0-4628-A547-7C65DF095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3668-0239-490B-9DE7-438C60198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E216-9539-404D-928A-C20D731E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CD1D-DF86-4639-B588-9EB861680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F05A-A1E1-420A-98BD-E04AA674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879C-D1FB-4600-B0E0-AB35F8EE6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358A-44D8-4035-B674-2806EB9FC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3E06-5F11-492D-BFB4-A4E594450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A31C-0C2B-4003-BB17-C0935579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BFD0-4EEB-4050-85A3-8D3D654A2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85AF-9F37-4AD7-B6EF-B77052C8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14C3-F642-4D11-9C05-0363B04C2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1F8C-0159-4466-BF48-E6B4BA0A8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VICE PRESIDENT  DIED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P TO LIVE IN AN OFFICIAL VP RESIDENCE, 1980-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BU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 WHO DID NOT BECO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0720" y="762120"/>
            <a:ext cx="7162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CE PRESIDENT WON A GRAMMY AWA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RBANKS  or  D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THE CITY IN TEXAS OR THE CITY IN ALASKA THAT WERE NAMED AFTER VPs WHO NEVER BECA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RYMAN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04920" y="76356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VP TO DIE IN OFFICE WAS ELBRIDGE GERRY.  WHAT POLITICAL PRACTICE IS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447920" y="4343400"/>
            <a:ext cx="624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LHOUN  or  MARTIN  VAN  B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EN WHO SERVED AS VP UNDER PRESIDENT ANDREW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LAI  STEVE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OVER CLEVELAND'S VP, AND THE GRANDFATHER OF THE PRESIDENTIAL CANDIDATE WHO LOST TO EISENHOWER IN BOTH 1952 AND 195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GARNER  or  HENRY  WALLACE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ONE OF THE TWO MEN WHO WAS VICE PRESIDENT UNDER FDR BEFORE TRUMAN HELD THAT P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 WHO DID NOT BECO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072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ICE PRESIDENTS INHERITED THE PRESIDENCY WHEN THE PRESIDENT DIED OR LEFT OFFICE?  3, 6, OR 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LD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VICE PRESIDENT  DIED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MO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P TO LIVE IN AN OFFICIAL VP RESIDENCE, 1980-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the winners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CE PRESIDENT WON A GRAMMY AWA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THE CITY IN TEXAS OR THE CITY IN ALASKA THAT WERE NAMED AFTER VPs WHO NEVER BECA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VP TO DIE IN OFFICE WAS ELBRIDGE GERRY.  WHAT POLITICAL PRACTICE     IS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EN WHO SERVED AS VP UNDER PRESIDENT ANDREW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OVER CLEVELAND'S VP, AND THE GRANDFATHER OF THE PRESIDENTIAL CANDIDATE WHO LOST TO EISENHOWER IN BOTH 1952 AND 195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ONE OF THE TWO MEN WHO WAS VICE PRESIDENT UNDER FDR BEFORE TRUMAN HELD THAT PO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ICE PRESIDENTS INHERITED THE PRESIDENCY WHEN THE PRESIDENT DIED OR LEFT OFFICE?  3, 6, OR 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1T13:39:55Z</dcterms:created>
  <dc:creator>Jennifer Budzinski</dc:creator>
  <dc:description/>
  <dc:language>en-US</dc:language>
  <cp:lastModifiedBy>Erich Friedman</cp:lastModifiedBy>
  <dcterms:modified xsi:type="dcterms:W3CDTF">2020-09-04T12:12:05Z</dcterms:modified>
  <cp:revision>269</cp:revision>
  <dc:subject/>
  <dc:title>Slide 1</dc:title>
</cp:coreProperties>
</file>