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C44-ED6C-4E04-8FCE-5F8B2037A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97E-74B9-4FC7-8ED5-ECD6A626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FE7A-70E8-4A40-B0DD-744D4513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757C-A878-464A-86B7-1A2843BD7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2863-2AD9-46E9-8137-38519D6DB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F0B-F732-4286-BD9D-B21CF5C89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0D6-A58E-44BA-AC5F-AED241E7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CD5D-DBE9-4111-8064-147F882B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DAEA-07B2-4AF6-AA8F-63D5376CA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285-F8D6-4CCA-AC91-541851EF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A09-ED96-4EB2-B119-D8FA096E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DC41-17B0-43FE-923C-7276B85A1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BFC0-39D5-44F0-A02B-874628B20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367-8BEA-46DC-A0F9-D8B94C6FD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8832-0D86-4557-BA39-82FF24C1E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9072-EA96-40BB-B769-650E7BFB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9D91-E55C-4E3E-A6F3-8C7BB328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F0F1-7034-46AF-A59A-12012D3A2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80D6-DAF8-4725-A033-B0B97CF2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B8A-A477-4FF8-97A4-CDB90BAA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C42-2D3B-40C6-BEF0-022C9910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8C1-B1E8-450E-925B-4713015E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848B-7D28-4749-8730-6CB3C318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52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USUAL BABY N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DID NICOLE KIDMAN AND KEITH URBAN NAME THEIR YOUNG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ING CARD   DID JESSICA SIMPSON NAME HER SON AFT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DID GWYNETH PALTROW NAME HER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DID ASHLEE SIMPSON NAME HER OLD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DID GEORGE LUCAS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STATE DID CASEY AFFLECK NAME HIS OLDEST SON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&amp; BEVERAGE DID JOSH HOLLOWAY NAME HIS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7796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DID PORN STAR JENNA JAMESON NAME HER YOUNGEST SON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E DID JASON BATEMAN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 DID GWYNETH PALTROW NAME HER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ID KIM KARDASHIAN AND KANYE WEST NAME THEIR OLD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480" y="762120"/>
            <a:ext cx="891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DID NICOLE KIDMAN AND KEITH URBAN NAME THEIR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ING CARD  DID JESSICA SIMPSON NAME HER SON AFT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DID ASHLEE SIMPSON NAME HER OLD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DID GEORGE LUCAS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STATE DID CASEY AFFLECK NAME HIS OLDEST SON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&amp; BEVERAGE DID JOSH HOLLOWAY NAME HIS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DID PORN STAR JENNA JAMESON NAME HER YOUNGEST SON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E DID JASON BATEMAN NAME HIS YOUNG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ID KIM KARDASHIAN AND KANYE WEST NAME THEIR OLD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7T20:01:14Z</dcterms:created>
  <dc:creator>Jennifer Budzinski</dc:creator>
  <dc:description/>
  <dc:language>en-US</dc:language>
  <cp:lastModifiedBy>Erich Friedman</cp:lastModifiedBy>
  <dcterms:modified xsi:type="dcterms:W3CDTF">2020-09-04T17:16:20Z</dcterms:modified>
  <cp:revision>346</cp:revision>
  <dc:subject/>
  <dc:title>Slide 1</dc:title>
</cp:coreProperties>
</file>