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4449-9235-4A8B-B53B-B074EFB74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9DB6-475C-40A7-B045-3B445010D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D929-D76D-4EF2-A293-0F5B975D3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7C8B-4755-4159-BF4B-56E50A67D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751E-ED2E-464D-B31F-2A201E064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E65D-5D33-4FFD-96F6-C48D47088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9B34-7085-416A-829F-8EADF1DB4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C21F-009D-4A4C-BBF9-B86F58E72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8F76-9392-4352-81D2-34DFA40CD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9F2D-1603-4B54-9F80-7BE682E6C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30D0-389B-49A6-9C01-6793B2A95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D856-CD05-467F-9A57-0148B57EF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26B0-CB89-4597-9864-B7B916BA6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E484-AD77-49AF-86B9-46F045F18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AD54-5C8E-42BF-8888-E91ADC85E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B78F-DAAE-41CF-8E20-A612E7B7A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4ACE-555E-476B-84BC-648FAD7C8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4768-96B8-41FA-8D0B-1E0476197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7A92-D42D-40D8-90BB-2928B3BBA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78EA-20E7-402A-A921-1C96EE3F8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2542-CD14-42AE-8B2D-F6BE860C8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706C-1412-4D21-AF83-BBCC25591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3F28-8C46-48AA-BA1E-E892FFA29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520"/>
            <a:ext cx="6858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USUAL BABY NA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Y OF THE WEEK DID NICOLE KIDMAN AND KEITH URBAN NAME THEIR YOUNGEST DAUGHTER AF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257480" y="762120"/>
            <a:ext cx="6629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YING CARD   DID JESSICA SIMPSON NAME HER SON AFTER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19040" y="762120"/>
            <a:ext cx="8305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UTER COMPANY DID GWYNETH PALTROW NAME HER DAUGHTER AF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N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OROUGH OF NYC DID ASHLEE SIMPSON NAME HER OLDEST DAUGHTER AF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VER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UNTAIN DID GEORGE LUCAS NAME HIS YOUNGEST DAUGHTER AF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DWESTERN STATE DID CASEY AFFLECK NAME HIS OLDEST SON AF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&amp; BEVERAGE DID JOSH HOLLOWAY NAME HIS DAUGHTER AF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UR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7796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CK GROUP DID PORN STAR JENNA JAMESON NAME HER YOUNGEST SON AF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EE DID JASON BATEMAN NAME HIS YOUNGEST DAUGHTER AF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UTER COMPANY  DID GWYNETH PALTROW NAME HER DAUGHTER AF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ION DID KIM KARDASHIAN AND KANYE WEST NAME THEIR OLDEST DAUGHTER AF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480" y="762120"/>
            <a:ext cx="8915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Y OF THE WEEK DID NICOLE KIDMAN AND KEITH URBAN NAME THEIR YOUNGEST DAUGHTER AF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257480" y="762120"/>
            <a:ext cx="6629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YING CARD  DID JESSICA SIMPSON NAME HER SON AFTER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OROUGH OF NYC DID ASHLEE SIMPSON NAME HER OLDEST DAUGHTER AF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90400" y="762120"/>
            <a:ext cx="796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UNTAIN DID GEORGE LUCAS NAME HIS YOUNGEST DAUGHTER AF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DWESTERN STATE DID CASEY AFFLECK NAME HIS OLDEST SON AF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&amp; BEVERAGE DID JOSH HOLLOWAY NAME HIS DAUGHTER AF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CK GROUP DID PORN STAR JENNA JAMESON NAME HER YOUNGEST SON AF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EE DID JASON BATEMAN NAME HIS YOUNGEST DAUGHTER AF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ION DID KIM KARDASHIAN AND KANYE WEST NAME THEIR OLDEST DAUGHTER AF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7T20:01:14Z</dcterms:created>
  <dc:creator>Jennifer Budzinski</dc:creator>
  <dc:description/>
  <dc:language>en-US</dc:language>
  <cp:lastModifiedBy>Erich Friedman</cp:lastModifiedBy>
  <dcterms:modified xsi:type="dcterms:W3CDTF">2020-09-04T17:16:20Z</dcterms:modified>
  <cp:revision>346</cp:revision>
  <dc:subject/>
  <dc:title>Slide 1</dc:title>
</cp:coreProperties>
</file>