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C467-6F44-46FB-A70F-6CE18C986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829D-3851-498D-BA45-1311ED2A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5D4-9496-4CAC-A7B1-D0CEF537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718-855F-4677-9E07-4CA0BA6C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29B-35A5-4F23-8655-F51B58F1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FCD-0867-4894-9CB1-9AA0978D8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D2A-0103-455F-A1CB-36E61622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4CB-A68A-4D1E-BF44-3AC8E53F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00ED-8602-45FD-AC2B-BAED8B42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531-2ACF-4FFA-A99D-800861C3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3E96-4A55-4C95-9F8E-11732348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E20-2AE0-49FD-8536-AB3B011B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61C-DEFD-4EA3-BA5F-CCBD3614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FA0-B946-4C25-ACD9-507683A5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0EA8-4B98-4B2B-B8C4-CDA83518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DB01-566F-4EC4-8A55-D8E73CED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7A92-E1FE-47B9-99B7-E8472B7B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9481-A6F8-4339-99C7-533E6E3D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B44-55D6-4544-A8DB-565F9B725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4F5-AEB3-4C3B-939D-84876C0A8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1AA0-9BE5-4100-827E-98D0A09A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27A-EB28-47EC-A304-06C8914E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2E90-D750-4CFD-B3E6-F2BC87D2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5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USUAL BABY N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GWYNETH PALTROW NAME HER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7796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 DID GWYNETH PALTROW NAME HER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480" y="762120"/>
            <a:ext cx="891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7T20:01:14Z</dcterms:created>
  <dc:creator>Jennifer Budzinski</dc:creator>
  <dc:description/>
  <dc:language>en-US</dc:language>
  <cp:lastModifiedBy>Erich Friedman</cp:lastModifiedBy>
  <dcterms:modified xsi:type="dcterms:W3CDTF">2020-09-04T17:16:20Z</dcterms:modified>
  <cp:revision>346</cp:revision>
  <dc:subject/>
  <dc:title>Slide 1</dc:title>
</cp:coreProperties>
</file>