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69394-FDF1-4FCF-A67D-5332001CA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93B3-4F35-4AE2-9095-B33ED3414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8D94-BF63-46A7-BC23-3E46BC1B2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01569-3AEF-46D4-874E-35D322679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DD2C-8F26-49DC-B415-FAFA1CC3B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7C98-1EF4-4540-84F3-3DB4F6C95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ACA3-C64C-480D-BCC2-9885EEF7B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C18A-4BD5-4372-9892-2D72D433F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A62E-DDD5-4DA2-90E0-1EE31441A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D254-35E0-4DC3-AAF4-8E775BE10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5AA1-E825-455E-A099-D3F7ED2ED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1528-7401-4251-846D-593A53FB5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30AC-A9DF-41B7-8A1B-1D180C950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E292-EAAC-4234-8BCA-00B943C01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7AA2-20BF-49EB-A679-8BFBBF9E2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405A-EE10-43F7-B1E3-F8E36141B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BAA3-26D4-4BA6-9EF6-EAAA339BD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1077-14D1-4709-8212-E6E8C4836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2839-67A1-4438-A345-908D01AC6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BBD3-9300-41A1-92B7-86A32F3D3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253A7-6997-4009-A1EE-62FD54E7D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8A84-5911-4EBD-A2AA-78D836CE7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0206-5CB0-49AA-8F14-2FF6A21DB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EMALE LEA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theresa may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mary, queen of scot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867280" cy="36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A  ME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golda meir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VICT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queen victoria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19920" cy="372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RA  GAND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indira gandhi.png"/>
          <p:cNvPicPr/>
          <p:nvPr/>
        </p:nvPicPr>
        <p:blipFill>
          <a:blip r:embed="rId1"/>
          <a:stretch/>
        </p:blipFill>
        <p:spPr>
          <a:xfrm>
            <a:off x="1600200" y="1295280"/>
            <a:ext cx="603396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ET  THATC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margaret thatcher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E  ANTOINET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marie antoinette.png"/>
          <p:cNvPicPr/>
          <p:nvPr/>
        </p:nvPicPr>
        <p:blipFill>
          <a:blip r:embed="rId1"/>
          <a:stretch/>
        </p:blipFill>
        <p:spPr>
          <a:xfrm>
            <a:off x="1676520" y="1295280"/>
            <a:ext cx="5827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NAZIR  BHU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benazir bhutto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LMA  ROUSSE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dilma rouseeff.jpg"/>
          <p:cNvPicPr/>
          <p:nvPr/>
        </p:nvPicPr>
        <p:blipFill>
          <a:blip r:embed="rId1"/>
          <a:stretch/>
        </p:blipFill>
        <p:spPr>
          <a:xfrm>
            <a:off x="1676520" y="1295280"/>
            <a:ext cx="5924520" cy="370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golda meir.pn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THERINE  THE  GR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catherine the great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RESA  M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theresa may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008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02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,  QUEEN  OF  SCO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mary, queen of scots.png"/>
          <p:cNvPicPr/>
          <p:nvPr/>
        </p:nvPicPr>
        <p:blipFill>
          <a:blip r:embed="rId1"/>
          <a:stretch/>
        </p:blipFill>
        <p:spPr>
          <a:xfrm>
            <a:off x="1676520" y="1295280"/>
            <a:ext cx="5867280" cy="363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queen victoria.jpg"/>
          <p:cNvPicPr/>
          <p:nvPr/>
        </p:nvPicPr>
        <p:blipFill>
          <a:blip r:embed="rId1"/>
          <a:stretch/>
        </p:blipFill>
        <p:spPr>
          <a:xfrm>
            <a:off x="1523880" y="1295280"/>
            <a:ext cx="601992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indira gandhi.png"/>
          <p:cNvPicPr/>
          <p:nvPr/>
        </p:nvPicPr>
        <p:blipFill>
          <a:blip r:embed="rId1"/>
          <a:stretch/>
        </p:blipFill>
        <p:spPr>
          <a:xfrm>
            <a:off x="1600200" y="1295280"/>
            <a:ext cx="603396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margaret thatcher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marie antoinette.png"/>
          <p:cNvPicPr/>
          <p:nvPr/>
        </p:nvPicPr>
        <p:blipFill>
          <a:blip r:embed="rId1"/>
          <a:stretch/>
        </p:blipFill>
        <p:spPr>
          <a:xfrm>
            <a:off x="1676520" y="1295280"/>
            <a:ext cx="5827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benazir bhutto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36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dilma rouseeff.jpg"/>
          <p:cNvPicPr/>
          <p:nvPr/>
        </p:nvPicPr>
        <p:blipFill>
          <a:blip r:embed="rId1"/>
          <a:stretch/>
        </p:blipFill>
        <p:spPr>
          <a:xfrm>
            <a:off x="1676520" y="1295280"/>
            <a:ext cx="5924520" cy="370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catherine the great.jpg"/>
          <p:cNvPicPr/>
          <p:nvPr/>
        </p:nvPicPr>
        <p:blipFill>
          <a:blip r:embed="rId1"/>
          <a:stretch/>
        </p:blipFill>
        <p:spPr>
          <a:xfrm>
            <a:off x="1600200" y="1295280"/>
            <a:ext cx="59119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4T17:17:11Z</dcterms:modified>
  <cp:revision>291</cp:revision>
  <dc:subject/>
  <dc:title>Slide 1</dc:title>
</cp:coreProperties>
</file>