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13F9-02B5-44B0-A824-0D3B85ABE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55DE-C741-4618-92BD-E3B55508E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F0F4-93A7-4262-8A65-00A8A070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6B3C-8801-4439-8353-C41050124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3F76-B4FD-4EF6-8171-4822148F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228B-3478-4784-859B-E08116312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0E21-850F-4833-9E28-07BD8088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7CE7-07DD-479B-84FC-5C99DE812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BD6E-8D32-4684-B796-97623FC66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30E4-FB69-426E-9756-703D416A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93EA-CD4A-4C16-ADC1-57CFD754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1AEC-DD6B-4C67-9AD7-B26892F3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01C5-F0D3-4341-B646-0FAED465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F341-CCD2-4986-BEB7-0DEE91B2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031-739B-4B2C-A1E8-96B4EBD07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131A-CD76-42DC-A712-E3E973872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82A6-E5B8-46B3-82B5-F4B508164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333-0C78-4DF3-A4E5-1CDBD9892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628C-C4E1-4395-9345-3BBD3182D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0F11-1B64-4EFC-A246-856847237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96AC-5866-4723-828D-FF594D5F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9F29-CD64-4BA4-8351-F6EEB463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ED83-31CA-4131-BB16-C9EA8719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EMALE LEA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heresa ma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mary, queen of scot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6728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A  ME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golda meir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VIC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queen victoria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37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R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indira gandhi.pn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TH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margaret thatch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ANTOIN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marie antoinett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27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AZIR  BHU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enazir bhutt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LMA  ROUSSE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ilma rouseef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24520" cy="37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golda meir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HERINE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atherine the grea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heresa ma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02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,  QUEEN  OF  SC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mary, queen of scot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6728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queen victoria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indira gandhi.pn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margaret thatch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rie antoinett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2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enazir bhutt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ilma rouseef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24520" cy="37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atherine the grea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17:17:11Z</dcterms:modified>
  <cp:revision>291</cp:revision>
  <dc:subject/>
  <dc:title>Slide 1</dc:title>
</cp:coreProperties>
</file>