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BEE7-D399-4756-8E6F-C43D7983D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9D33-CA00-42AC-A2D9-3C7E546F3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30A-0374-4DD4-A479-D9214957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2E78-EDB9-4092-80F1-C0F0CEB4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2AF0-DCA0-4A2C-8678-234AE337E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C1E1-4CA3-44B0-863B-F9F1BC176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D2DE-AFB4-43B6-AF31-2F5D3919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75BF-8C78-4973-817B-0DE3BC305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CEB8-B8B7-404F-B44A-D01D86C17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2373-3F89-42A6-8BB0-587E22F5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D5B3-B101-4430-801A-1E3136751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A6EC-6F41-4385-955B-FBF60B93A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B965-C496-4046-9125-31D24D89D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87E-FB87-47D2-93F3-C4665AC10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89EC-D200-4A3D-87BB-5D5CD49CC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B39-65E2-41C3-95CB-5826B13BE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4587-8E2B-47DA-81CA-311243917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5414-1095-49ED-B49E-490805347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9496-88DA-4195-9962-3ACC734E8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C2FD-27FD-4F83-B96D-1D788CE9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D9A2-13A1-4AE2-968A-E3F096688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BB44-395E-45F0-AA55-CDE02E52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596F-F402-443D-9D6A-3B824C75D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EMALE LEA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heresa ma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mary, queen of scot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6728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A  ME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golda meir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VIC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queen victoria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37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R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indira gandhi.pn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TH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margaret thatch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ANTOIN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marie antoinett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27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AZIR  BHU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enazir bhutt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LMA  ROUSSE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ilma rouseef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24520" cy="37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golda meir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HERINE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atherine the grea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heresa ma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02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,  QUEEN  OF  SC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mary, queen of scot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6728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queen victoria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indira gandhi.pn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margaret thatch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rie antoinett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2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enazir bhutt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ilma rouseef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24520" cy="37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atherine the grea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17:17:11Z</dcterms:modified>
  <cp:revision>291</cp:revision>
  <dc:subject/>
  <dc:title>Slide 1</dc:title>
</cp:coreProperties>
</file>