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0FC0-221A-4431-A2AD-287F68074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89FF-4A1A-41CE-8219-FF764B95D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9207-6EC6-4D9B-BC50-25B794E7B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38DA-084A-4B6E-A74D-D3187C1B6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8D28-FFD3-4AC8-94DA-AA7F036DF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4731-66BB-42E9-8CA0-A91B161EF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8512-E3D2-4550-A5AC-10264F9E7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CF4D-380E-4BEE-935F-787D14FD2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0326-D4AA-49EC-9E54-BFE7F3364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E174-2BCC-45A3-8201-8004E0BA8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FA13-A63A-4B47-82C6-1585858BC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696E-F8F0-465F-A472-A1608EFD4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2EB7-F56A-4862-940A-800871E9D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9D67-B8C9-42EA-BF2C-455FC86CD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E151-EA49-4508-9CEC-8259DA81A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CCB9-4033-4997-8DA0-2E8BAD013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935F-0813-464A-88C4-90EF3C8D4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1FB7-6B23-4EE6-940C-938EAF2C0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1A7A-BB5B-49E7-BF20-7C598DBE5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39D3-0C79-4FBB-9CF8-C77AA2A80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EE8F-4B83-4421-B8D1-6A75C90F0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70A7-5872-47F6-9AB9-7484FD556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D25E-D64C-48F9-AA85-BFBCB8374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SE BIRTHDAYS ARE THESE GOOGLE DOODLES CELEBRA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1092240" y="1447920"/>
            <a:ext cx="695952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UTHER  KING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876240" y="1371600"/>
            <a:ext cx="7391520" cy="29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I  ARN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509840" y="1270080"/>
            <a:ext cx="612432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LIA  EAR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1371600" y="1386000"/>
            <a:ext cx="6400800" cy="31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ET  TUB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735120" y="1371600"/>
            <a:ext cx="7673760" cy="27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  WO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866880" y="1371600"/>
            <a:ext cx="74102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93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M  ST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720720" y="1295280"/>
            <a:ext cx="770256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  GAU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876240" y="1371600"/>
            <a:ext cx="7391520" cy="29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NE  DIET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723960" y="1371600"/>
            <a:ext cx="7696080" cy="30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  BRA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I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092240" y="1447920"/>
            <a:ext cx="6959520" cy="33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1509840" y="1270080"/>
            <a:ext cx="612432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371600" y="1386000"/>
            <a:ext cx="640080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735120" y="1371600"/>
            <a:ext cx="7673760" cy="27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866880" y="1371600"/>
            <a:ext cx="74102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720720" y="1295280"/>
            <a:ext cx="770256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723960" y="1371600"/>
            <a:ext cx="7696080" cy="306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03:22:04Z</dcterms:created>
  <dc:creator>Jennifer Budzinski</dc:creator>
  <dc:description/>
  <dc:language>en-US</dc:language>
  <cp:lastModifiedBy>Erich Friedman</cp:lastModifiedBy>
  <dcterms:modified xsi:type="dcterms:W3CDTF">2020-09-04T20:42:37Z</dcterms:modified>
  <cp:revision>292</cp:revision>
  <dc:subject/>
  <dc:title>Slide 1</dc:title>
</cp:coreProperties>
</file>