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8.png" ContentType="image/png"/>
  <Override PartName="/ppt/media/image9.jpeg" ContentType="image/jpeg"/>
  <Override PartName="/ppt/media/image10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263F-3638-49FD-B789-45BA71C9B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88B1-5A3E-4255-8841-FBB888248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C0FB-6AD2-4DC0-A53C-168A70254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381C-C2F2-4221-9548-5A955F787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F1C2-D9C5-4491-AEBE-2B5DB56A3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9678-D0B4-4A4F-BAB0-8399EB680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52D3-72F7-404B-BA2D-9B80BEAD8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D3C7-5CC9-4771-B0DB-C3A3FADDE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53B1-7011-486E-B675-23A1088BB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3840-30B1-46BC-96AF-22C8BB728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BFD8-9743-46D4-9334-69087F3D8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A9B4-3023-4303-9DDC-194EA8F59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F8A0-8217-43F3-99F7-740F66864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AA37-4446-4D9C-AE82-52F267CD7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D3CA-7EBF-4D4B-AB6A-10909B3B1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5A20-50D1-426A-BC06-26FB15E14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98B6-8B1D-476F-BD94-549D26401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1CB9-93B7-4D5D-B58C-47C5C3C77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5718-73EA-4DAD-815B-64E4F91CE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421F-5ED8-451F-BAF6-27538AF2F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B0FC-6DA3-4AA4-8496-C873D5233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CEC8-F534-4982-BC47-42FAFE463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9E89-195F-48A1-B4A5-F758C4E7A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09480" y="14475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SE BIRTHDAYS ARE THESE GOOGLE DOODLES CELEBRAT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1092240" y="1447920"/>
            <a:ext cx="6959520" cy="33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LUTHER  KING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876240" y="1371600"/>
            <a:ext cx="7391520" cy="295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SI  ARN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1509840" y="1270080"/>
            <a:ext cx="612432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LIA  EAR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tretch/>
        </p:blipFill>
        <p:spPr>
          <a:xfrm>
            <a:off x="1371600" y="1386000"/>
            <a:ext cx="6400800" cy="31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IET  TUB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735120" y="1371600"/>
            <a:ext cx="7673760" cy="277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RGINIA  WOO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"/>
          <p:cNvPicPr/>
          <p:nvPr/>
        </p:nvPicPr>
        <p:blipFill>
          <a:blip r:embed="rId1"/>
          <a:stretch/>
        </p:blipFill>
        <p:spPr>
          <a:xfrm>
            <a:off x="866880" y="1371600"/>
            <a:ext cx="741024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93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M  STO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720720" y="1295280"/>
            <a:ext cx="7702560" cy="358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ANN  GAU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61976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876240" y="1371600"/>
            <a:ext cx="7391520" cy="29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ENE  DIETR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723960" y="1371600"/>
            <a:ext cx="7696080" cy="30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  BRAI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IR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092240" y="1447920"/>
            <a:ext cx="6959520" cy="33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3" descr=""/>
          <p:cNvPicPr/>
          <p:nvPr/>
        </p:nvPicPr>
        <p:blipFill>
          <a:blip r:embed="rId1"/>
          <a:stretch/>
        </p:blipFill>
        <p:spPr>
          <a:xfrm>
            <a:off x="1509840" y="1270080"/>
            <a:ext cx="6124320" cy="36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4" descr=""/>
          <p:cNvPicPr/>
          <p:nvPr/>
        </p:nvPicPr>
        <p:blipFill>
          <a:blip r:embed="rId1"/>
          <a:stretch/>
        </p:blipFill>
        <p:spPr>
          <a:xfrm>
            <a:off x="1371600" y="1386000"/>
            <a:ext cx="6400800" cy="31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tretch/>
        </p:blipFill>
        <p:spPr>
          <a:xfrm>
            <a:off x="735120" y="1371600"/>
            <a:ext cx="7673760" cy="27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866880" y="1371600"/>
            <a:ext cx="741024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720720" y="1295280"/>
            <a:ext cx="7702560" cy="35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61976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tretch/>
        </p:blipFill>
        <p:spPr>
          <a:xfrm>
            <a:off x="723960" y="1371600"/>
            <a:ext cx="7696080" cy="3062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1T03:22:04Z</dcterms:created>
  <dc:creator>Jennifer Budzinski</dc:creator>
  <dc:description/>
  <dc:language>en-US</dc:language>
  <cp:lastModifiedBy>Erich Friedman</cp:lastModifiedBy>
  <dcterms:modified xsi:type="dcterms:W3CDTF">2020-09-04T20:42:37Z</dcterms:modified>
  <cp:revision>292</cp:revision>
  <dc:subject/>
  <dc:title>Slide 1</dc:title>
</cp:coreProperties>
</file>