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8.png" ContentType="image/png"/>
  <Override PartName="/ppt/media/image9.jpeg" ContentType="image/jpeg"/>
  <Override PartName="/ppt/media/image10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8CB4-FFB8-4A93-A7C6-F30E6E0D4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C052-2E7D-4931-B55D-36938354D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348E-75C5-4439-AE1E-C861651AF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4042-B425-4252-B8DB-B4726FF56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D473-50A0-4F47-B1AF-2BC61E34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4F1E-7606-4A64-9C5A-A8E4F514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5F6F-5627-41C1-AE61-4555418DD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9ED16-26CD-45C0-937A-ED46FE744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01E4-E98F-432B-AEBE-EFBB98525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8102-4601-462E-80E1-52FC793D8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5793-7D86-4806-B733-740794C14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0973-A789-41C7-8B0E-A066340F3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5B39-FEBB-40E5-A5DB-68B8B79E5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DBAF-E4B6-4C50-8D1F-C1CE0BF1A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F390-416F-47B7-A35F-CF29940B8F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809C-1359-47F9-9A74-16B789973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C213-07E0-4BAD-84FA-AA5BAD86C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0B7D-FF99-4458-816C-A71FBFE6D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22A7-DA21-40DB-8B97-09A8B1EEE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C3B8-C3F6-4620-ADC8-0412B0156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5D6B-8D6E-470E-AA45-293DB88F6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C161-C98A-40E2-915B-05CD62847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A0AA-8A98-417A-B951-FC37D5D30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64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"/>
          <p:cNvPicPr/>
          <p:nvPr/>
        </p:nvPicPr>
        <p:blipFill>
          <a:blip r:embed="rId1"/>
          <a:stretch/>
        </p:blipFill>
        <p:spPr>
          <a:xfrm>
            <a:off x="1092240" y="1447920"/>
            <a:ext cx="6959520" cy="339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LUTHER  KING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ESI  ARN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509840" y="1270080"/>
            <a:ext cx="6124320" cy="3606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LIA  EAR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tretch/>
        </p:blipFill>
        <p:spPr>
          <a:xfrm>
            <a:off x="1371600" y="1386000"/>
            <a:ext cx="6400800" cy="31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RRIET  TUB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735120" y="1371600"/>
            <a:ext cx="7673760" cy="277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IRGINIA  WO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4" descr=""/>
          <p:cNvPicPr/>
          <p:nvPr/>
        </p:nvPicPr>
        <p:blipFill>
          <a:blip r:embed="rId1"/>
          <a:stretch/>
        </p:blipFill>
        <p:spPr>
          <a:xfrm>
            <a:off x="866880" y="1371600"/>
            <a:ext cx="741024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93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AM  STO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720720" y="1295280"/>
            <a:ext cx="7702560" cy="358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ANN  GAU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876240" y="1371600"/>
            <a:ext cx="7391520" cy="29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NE  DIET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30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S  BRA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619760" cy="264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I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092240" y="1447920"/>
            <a:ext cx="6959520" cy="339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1"/>
          <a:stretch/>
        </p:blipFill>
        <p:spPr>
          <a:xfrm>
            <a:off x="1509840" y="1270080"/>
            <a:ext cx="6124320" cy="360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371600" y="1386000"/>
            <a:ext cx="6400800" cy="31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tretch/>
        </p:blipFill>
        <p:spPr>
          <a:xfrm>
            <a:off x="735120" y="1371600"/>
            <a:ext cx="767376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866880" y="1371600"/>
            <a:ext cx="741024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3" descr=""/>
          <p:cNvPicPr/>
          <p:nvPr/>
        </p:nvPicPr>
        <p:blipFill>
          <a:blip r:embed="rId1"/>
          <a:stretch/>
        </p:blipFill>
        <p:spPr>
          <a:xfrm>
            <a:off x="720720" y="1295280"/>
            <a:ext cx="7702560" cy="358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tretch/>
        </p:blipFill>
        <p:spPr>
          <a:xfrm>
            <a:off x="723960" y="1371600"/>
            <a:ext cx="7696080" cy="3062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31T03:22:04Z</dcterms:created>
  <dc:creator>Jennifer Budzinski</dc:creator>
  <dc:description/>
  <dc:language>en-US</dc:language>
  <cp:lastModifiedBy>Erich Friedman</cp:lastModifiedBy>
  <dcterms:modified xsi:type="dcterms:W3CDTF">2020-09-04T20:42:37Z</dcterms:modified>
  <cp:revision>292</cp:revision>
  <dc:subject/>
  <dc:title>Slide 1</dc:title>
</cp:coreProperties>
</file>