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7FB3-8072-4CAD-899D-643D9FC49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0DBA-585D-4259-8CD9-B7837661D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51A6-20B9-4726-8B37-2F531F7AD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0AA2-865A-4140-8320-FD4A9671D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E39D-A97C-4C95-ACED-0944860FA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F1DE-9AEB-4FB8-947F-CD0BD7490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024D-1720-4067-B641-3E9F30962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B103-735F-4461-958E-3082667AC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889F2-AF52-4F2A-A0CF-2CC622554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3A89-0304-48D9-AFBB-A5899B323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08EC-5871-4F28-BC34-D64D2CA47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6E91-E83A-4706-B325-662EBE860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B9C3-6958-4632-94B4-CCA3832EF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0200-6B65-497A-9160-3A65A48DC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8EE8-EE22-4567-A60C-86C1AF03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E7E8-6A05-4464-9443-7A65B29DA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5E0E-FAE4-474B-BD13-074C46C7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190F-DE1E-493D-A5EE-48AECFD3F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3ADE-C6EC-4976-A2C5-2D881AA2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07B5-A3B9-4DE7-AC81-8C1E1A6AE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C29F-D17F-4BA3-9B5F-50DE16111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F84E-1C39-43AB-844D-0E5B64091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FAC7-5D57-4306-9EDE-61B9B99AD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74760" y="1333440"/>
            <a:ext cx="838188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404640" y="1409760"/>
            <a:ext cx="8334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044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  ANGEL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1514520" y="1371600"/>
            <a:ext cx="6114960" cy="342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DWIG  VAN  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352520" y="1295280"/>
            <a:ext cx="643896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UDU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KAF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  M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1461960" y="1371600"/>
            <a:ext cx="6220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O  CLE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571680" y="1371600"/>
            <a:ext cx="80010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514520" y="1371600"/>
            <a:ext cx="611496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  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709560" y="1447920"/>
            <a:ext cx="7724880" cy="29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IN  SCHRÖD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374760" y="1333440"/>
            <a:ext cx="83818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URICE  SEN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404640" y="1409760"/>
            <a:ext cx="83347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1352520" y="1295280"/>
            <a:ext cx="643896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tretch/>
        </p:blipFill>
        <p:spPr>
          <a:xfrm>
            <a:off x="1461960" y="1371600"/>
            <a:ext cx="6220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571680" y="1371600"/>
            <a:ext cx="8001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709560" y="1447920"/>
            <a:ext cx="7724880" cy="295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22:04Z</dcterms:created>
  <dc:creator>Jennifer Budzinski</dc:creator>
  <dc:description/>
  <dc:language>en-US</dc:language>
  <cp:lastModifiedBy>Erich Friedman</cp:lastModifiedBy>
  <dcterms:modified xsi:type="dcterms:W3CDTF">2020-09-04T21:55:58Z</dcterms:modified>
  <cp:revision>293</cp:revision>
  <dc:subject/>
  <dc:title>Slide 1</dc:title>
</cp:coreProperties>
</file>