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79E-C248-4CFB-BBCA-743F18E7C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8769-D228-46CC-AD3E-A3FB9208A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AA80-5CFB-4896-8930-551FC5A1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3D35-6BDF-4BD3-A5AE-6ECE862F0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969D-AEAD-4AAA-8261-4522D3FBB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FF9-7623-4EFB-8B03-C178D090D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8F09-5FD8-409E-88E5-00B585271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0A4-5120-402C-A8E4-F7B52FC5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DB1B-950B-46DA-A1EE-CE9FAE65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000D-2E92-4719-9742-171E2AA7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BDB3-B6E7-4C0F-AF9E-39499226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E7A-4122-490C-B8F3-711854E8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7F6F-202D-4CEE-82CF-432A901DD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4FBD-4F4C-4319-AA03-5C25AFF9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A2FD-DAC9-4FA8-BE9E-BA9891E24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6A25-BF6A-4F52-ACF9-489154EAC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FE2B-D093-40C2-909A-A93032B08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1B56-AE53-4245-A078-A05C9390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3EF4-8E7D-42DF-9F52-4F82BAF7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8A03-85AA-494A-85E2-46CDABCD1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CAAD-A8AB-42C9-A0CA-7790DFB18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EA7D-E4C2-4AC1-968B-13E181C43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5D13-EB48-497B-8520-E5C62AB32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74760" y="1333440"/>
            <a:ext cx="83818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04640" y="1409760"/>
            <a:ext cx="8334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044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  ANGEL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1514520" y="1371600"/>
            <a:ext cx="6114960" cy="34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DWIG  VAN  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352520" y="1295280"/>
            <a:ext cx="643896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UDU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KAF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  M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461960" y="1371600"/>
            <a:ext cx="6220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O  CLE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571680" y="1371600"/>
            <a:ext cx="80010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514520" y="1371600"/>
            <a:ext cx="611496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  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709560" y="1447920"/>
            <a:ext cx="7724880" cy="29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IN  SCHRÖD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374760" y="1333440"/>
            <a:ext cx="83818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URICE  SEN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404640" y="1409760"/>
            <a:ext cx="83347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1352520" y="1295280"/>
            <a:ext cx="643896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1461960" y="1371600"/>
            <a:ext cx="6220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571680" y="1371600"/>
            <a:ext cx="8001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709560" y="1447920"/>
            <a:ext cx="7724880" cy="295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22:04Z</dcterms:created>
  <dc:creator>Jennifer Budzinski</dc:creator>
  <dc:description/>
  <dc:language>en-US</dc:language>
  <cp:lastModifiedBy>Erich Friedman</cp:lastModifiedBy>
  <dcterms:modified xsi:type="dcterms:W3CDTF">2020-09-04T21:55:58Z</dcterms:modified>
  <cp:revision>293</cp:revision>
  <dc:subject/>
  <dc:title>Slide 1</dc:title>
</cp:coreProperties>
</file>