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C2CE-4F86-4BFD-917C-3FD76D8F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8A91-11D0-4314-8168-86A0F7E7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FB62-EA05-40E5-B9DE-6F6CB54F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84FB-F2C7-49A0-BCCF-7F5B5B99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0833-874E-4BE2-8D88-F3B53A033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AC8-76E5-4D39-B386-06AF153D8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F0C-86F3-4E3A-BC80-B358AB90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E97B-6B6E-46F2-889C-670709CE9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6EE-939D-4962-9226-76CBE341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D0CD-E467-4D2D-87E2-907F1198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92E6-536B-4D24-8F42-9F9D44E93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C36-D94B-4396-93D3-6CBA9A18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56B-09B0-4B3D-90D7-6FE2487AD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95E9-A459-481F-BA23-5D3F3AB24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BA6-F30D-4410-9091-7A695050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6B6-5882-4E53-AB6A-52610300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40C4-1045-48FC-9400-C35111420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98C-AFF7-426C-98CE-95EE936F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4AF-90BD-4C3A-9FC2-64083181A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EAD2-6953-413E-8AFF-2C4C83D2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C5E-0252-4499-B1C2-C763A05A2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6931-0F94-473E-81BF-153EDC649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D7E-C8A1-4B0B-AD23-F94614C81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74760" y="1333440"/>
            <a:ext cx="8381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04640" y="1409760"/>
            <a:ext cx="833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044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1514520" y="1371600"/>
            <a:ext cx="6114960" cy="34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DWIG  VAN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352520" y="1295280"/>
            <a:ext cx="643896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UDU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  M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461960" y="1371600"/>
            <a:ext cx="6220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CLE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514520" y="1371600"/>
            <a:ext cx="611496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709560" y="1447920"/>
            <a:ext cx="7724880" cy="29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IN  SCHRÖD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74760" y="1333440"/>
            <a:ext cx="83818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URICE  SEN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404640" y="1409760"/>
            <a:ext cx="83347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1352520" y="1295280"/>
            <a:ext cx="643896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1461960" y="1371600"/>
            <a:ext cx="6220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709560" y="1447920"/>
            <a:ext cx="7724880" cy="29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1:55:58Z</dcterms:modified>
  <cp:revision>293</cp:revision>
  <dc:subject/>
  <dc:title>Slide 1</dc:title>
</cp:coreProperties>
</file>