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60FB-FA6E-49F1-B0CB-097B25443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87AB-67AC-4DB3-A61B-62248ABB7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81B8-0D62-42AB-ACB1-136CAD196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1C8C-9E24-4199-9A1D-947A899A3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3E02-FE9C-4D33-A90A-F2D4BF412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D6E0-CCD2-41D6-B38C-5A9E5FA6D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F8B6-0973-42D5-86F5-407F6599F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F110-EB02-40C1-B7DE-5B3ABBB7B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6A99-7CAB-4727-BAA8-B2B742BB6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67AB-788B-410F-8EFA-19D0EB81E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BDDB-D997-4A59-A9D4-55BB6D954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D373-802D-44FF-AD62-EA2259213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C586-E019-42A1-8A1B-2DD0ED289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58F9-C59D-4AA5-AC7E-E6BDB9AAD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4D52-9B85-4CF2-9556-031DF6A77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141B-581E-415C-A533-6C736863C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068A-2BC5-4343-8D44-B6E61F5B9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1A90-B962-42E1-9899-161AA98C4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B3BF-E561-4BF4-903A-0A9CBBF31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0DAE-BEE6-450C-8762-EDB148EDF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D176-3E7C-4773-AD65-88C01C4BC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6BA2-46B4-406F-9FAB-42CEAF9A4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EF0B-E0EA-4096-9969-F0E85BF5E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UNTRIES       DO THESE WORLD LEADERS REPRES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546960" cy="36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1879560" y="1295280"/>
            <a:ext cx="5384880" cy="35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5803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7376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976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5023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73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KO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705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81680" cy="366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936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68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546960" cy="368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879560" y="1295280"/>
            <a:ext cx="5384880" cy="359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5803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976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5023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81680" cy="36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68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4T22:09:38Z</dcterms:modified>
  <cp:revision>289</cp:revision>
  <dc:subject/>
  <dc:title>Slide 1</dc:title>
</cp:coreProperties>
</file>