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424A-765A-4052-8D22-940A15156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8997-2226-47CA-9703-BF4889E42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97A4-CA25-46B9-BE0E-511253371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5A9F-D20F-4456-8EA2-B5F80A894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473C-B1AA-4248-A827-673445EC7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9074-890F-4454-87B6-5C198404A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A6E36-F741-4F02-BEF9-71509D0D1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144E-AFE1-469C-A1A7-B4146D6A3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1A8D-E4B6-4DFE-969E-7AFE0CE6D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8B00-145D-4489-8281-17A928339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C838-C386-4A4B-A309-C63A66137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8BD2-5F9A-4906-AEF5-7D1440E8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5A13-E2A3-46DC-9880-53B6E5A99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0830-342D-473B-8320-B39BF889D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A819-77CB-4D2E-9D84-1C3F60C06C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11A6-DCF2-4EB6-A2B9-75651DC4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6DE6-54F2-42AA-B348-905B185FA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12CE-87D0-413D-9C57-1C389E8DD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9854-0BEB-458A-B33D-9BA1B2071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2449-BF26-4CDB-AEBF-F156C8E98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58478-FE6B-4138-82D5-476AE4957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6B7E-9F70-4B23-B405-DF6F09A18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0A4E1-C692-4D15-A1FA-EF554429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37160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UNTRIES       DO THESE WORLD LEADERS REPRESENT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7376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A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737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KOR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05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93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546960" cy="368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A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879560" y="1295280"/>
            <a:ext cx="5384880" cy="359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580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976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5023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8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22:09:38Z</dcterms:modified>
  <cp:revision>289</cp:revision>
  <dc:subject/>
  <dc:title>Slide 1</dc:title>
</cp:coreProperties>
</file>