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C7642-1B42-4259-923A-158DF74D23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EEBDC-C908-4837-B9C1-41E00BDBE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BD428-F70C-4A5E-B83A-FBEFDE5B4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BFCBA-4ED7-415D-BB9B-A0F293484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EDEED-3F28-4E39-979D-7E9D5EFB4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17087-9DF0-4362-AFF9-99CB32AB7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F89C8-F0FF-49C3-876C-50E5E2F1F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2C416-AA4C-4E4A-8247-53FCB7DCE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B2FDA-6FFC-4B8F-AF96-02BEFBA23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725E6-0473-4407-89BA-C8A7098D1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27556-1221-4DBA-92AC-EAEAE94AC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B8017-5E8E-4AA3-9C1A-73BE60807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C7211-865F-4605-AD57-791634A78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40B54-29E7-49C3-9DA3-AE69583A4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40199-3C91-401E-B8CE-C4B8AD7FC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F1AED-9CCE-4A84-AC34-F08631DCE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D1536-AEA5-4158-9002-2BECCF2C5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7C8DC-9638-4970-82D3-34ACC355C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081B7-BA9C-4A20-A6DA-CACD0B640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ED4E-9447-4B38-9285-4471C2F1A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56B9B-8203-441E-8FDF-EF90BAAEB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0308A-8A1B-48FF-BD11-5CB9CB0CB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0AD40-0C55-48AE-BA60-3C17B2880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990720" y="1371600"/>
            <a:ext cx="71625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COUNTRIES       DO THESE WORLD LEADERS REPRESEN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546960" cy="368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3" descr=""/>
          <p:cNvPicPr/>
          <p:nvPr/>
        </p:nvPicPr>
        <p:blipFill>
          <a:blip r:embed="rId1"/>
          <a:stretch/>
        </p:blipFill>
        <p:spPr>
          <a:xfrm>
            <a:off x="1879560" y="1295280"/>
            <a:ext cx="5384880" cy="359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54864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D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"/>
          <p:cNvPicPr/>
          <p:nvPr/>
        </p:nvPicPr>
        <p:blipFill>
          <a:blip r:embed="rId1"/>
          <a:stretch/>
        </p:blipFill>
        <p:spPr>
          <a:xfrm>
            <a:off x="1752480" y="1295280"/>
            <a:ext cx="558036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7376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49764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Y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50232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7376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RTH  KOR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400800" cy="360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9705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RM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6781680" cy="366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54864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54864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43080" y="495936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E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"/>
          <p:cNvPicPr/>
          <p:nvPr/>
        </p:nvPicPr>
        <p:blipFill>
          <a:blip r:embed="rId1"/>
          <a:stretch/>
        </p:blipFill>
        <p:spPr>
          <a:xfrm>
            <a:off x="1752480" y="1295280"/>
            <a:ext cx="566892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P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546960" cy="368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TA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2" descr=""/>
          <p:cNvPicPr/>
          <p:nvPr/>
        </p:nvPicPr>
        <p:blipFill>
          <a:blip r:embed="rId1"/>
          <a:stretch/>
        </p:blipFill>
        <p:spPr>
          <a:xfrm>
            <a:off x="1879560" y="1295280"/>
            <a:ext cx="5384880" cy="359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1"/>
          <a:stretch/>
        </p:blipFill>
        <p:spPr>
          <a:xfrm>
            <a:off x="1752480" y="1295280"/>
            <a:ext cx="558036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49764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50232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400800" cy="360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6781680" cy="366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54864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1752480" y="1295280"/>
            <a:ext cx="5668920" cy="3657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9-04T22:09:38Z</dcterms:modified>
  <cp:revision>289</cp:revision>
  <dc:subject/>
  <dc:title>Slide 1</dc:title>
</cp:coreProperties>
</file>