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D65C-8926-451D-8469-E12C75250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738D-0E43-4614-8768-0277E846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A9BE-3432-4B46-BDF4-B6ED28563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51D5-D232-4B65-AB63-125CFCFF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9FB3-6576-4081-9CE9-D7B769CB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536D-2350-4374-B736-099CEF472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C5D1-6347-43C0-AB83-D4A2A2DED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3E3D-DC4F-4FB7-A1D3-AE55B239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C385-39D8-47CA-9B5C-53698998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E448-E5D8-4D3B-B6EF-C23D31ABE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A72E-D543-42F0-99D3-B5D17971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6A4-2764-4827-8998-FA40B9B4E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161B-BA94-43E1-AAB0-F1F9D216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71CA-9C9F-4533-B085-466E6920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14F7-3606-489D-B13F-B624FE307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07F-73AB-4D7A-9ADA-B74779BE2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7898-2C81-41DA-80CA-E863E277A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E58B-8E30-4703-9B67-A26570F9D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71D3-C244-461F-B75A-0586640C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ABE5-7D21-4044-8B81-5EAADBA44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839-BF70-449D-9381-7CFFDD9A5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A23A-04A8-4AC6-B639-D72FC963F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100-B1A4-4421-B79B-7374C3ED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EOPLE MAGAZINE'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SEXIEST MAN ALIVE"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reen Shot 2018-05-30 at 10.14.3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892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creen Shot 2018-05-30 at 10.14.45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79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DEP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5-30 at 10.06.24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3068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RCE  BROS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5-30 at 10.06.4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7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creen Shot 2018-05-30 at 10.07.0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6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  DA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een Shot 2018-05-30 at 10.10.24 PM.png"/>
          <p:cNvPicPr/>
          <p:nvPr/>
        </p:nvPicPr>
        <p:blipFill>
          <a:blip r:embed="rId1"/>
          <a:stretch/>
        </p:blipFill>
        <p:spPr>
          <a:xfrm>
            <a:off x="327672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creen Shot 2018-05-30 at 10.10.4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5-30 at 10.10.52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27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E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creen Shot 2018-05-30 at 10.12.52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42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5-30 at 10.06.24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3068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G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creen Shot 2018-05-30 at 10.13.0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27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  P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8-05-30 at 10.14.3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89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5-30 at 10.14.45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795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5-30 at 10.06.4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7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creen Shot 2018-05-30 at 10.07.0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43200" cy="36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een Shot 2018-05-30 at 10.10.24 PM.png"/>
          <p:cNvPicPr/>
          <p:nvPr/>
        </p:nvPicPr>
        <p:blipFill>
          <a:blip r:embed="rId1"/>
          <a:stretch/>
        </p:blipFill>
        <p:spPr>
          <a:xfrm>
            <a:off x="3276720" y="1219320"/>
            <a:ext cx="2651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creen Shot 2018-05-30 at 10.10.41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81952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5-30 at 10.10.52 PM.png"/>
          <p:cNvPicPr/>
          <p:nvPr/>
        </p:nvPicPr>
        <p:blipFill>
          <a:blip r:embed="rId1"/>
          <a:stretch/>
        </p:blipFill>
        <p:spPr>
          <a:xfrm>
            <a:off x="3200400" y="1219320"/>
            <a:ext cx="2727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creen Shot 2018-05-30 at 10.12.52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4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creen Shot 2018-05-30 at 10.13.08 PM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227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2:07:35Z</dcterms:created>
  <dc:creator>Jennifer Budzinski</dc:creator>
  <dc:description/>
  <dc:language>en-US</dc:language>
  <cp:lastModifiedBy>Erich Friedman</cp:lastModifiedBy>
  <dcterms:modified xsi:type="dcterms:W3CDTF">2020-09-05T09:03:57Z</dcterms:modified>
  <cp:revision>290</cp:revision>
  <dc:subject/>
  <dc:title>Slide 1</dc:title>
</cp:coreProperties>
</file>