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0460-B199-4D2E-90AC-B162CE1B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71E-36DC-4619-A286-F76BA017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C6B1-5ED3-4A20-A48D-7A19EA53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58C-0BAA-4563-8175-EC33F4685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7B4-40A4-4AEF-9CE7-9ECA44D6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A780-4038-4188-8B78-2CFDB97E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DC3-2180-4023-9492-2BF9B6B7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9F5-5C05-4349-99E3-286E1C2F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959F-496C-4A70-80E6-F2A1B3AE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4B2-CDC0-4070-99F3-C992431E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AE30-631A-4250-BE77-2154603A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264-68D2-4F3D-881E-EC2C34B0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0150-7033-40C3-AFB9-67931CCF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3843-BC47-4FCA-9FC5-A3727BBF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1D2-70C5-4673-A250-B95921DF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7DF-BEE2-4488-AB89-AD69E5A6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4A17-A591-4BAD-82C5-0D096F1F4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04D5-C055-48B2-9979-44AEC3C0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2A0-65A2-43B2-9C72-E9CAEEC9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DB5-6AF4-4735-9D61-C1BFEF49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5A15-BFAA-4C02-96A9-DA39B001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EFCF-D03A-467B-9AA4-4781B635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15D-ADB0-4EF5-9376-8E576872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EOPLE MAGAZINE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SEXIEST MAN ALIVE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reen Shot 2018-05-30 at 10.14.3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892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creen Shot 2018-05-30 at 10.14.45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79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DE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5-30 at 10.06.24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3068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5-30 at 10.06.4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7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creen Shot 2018-05-30 at 10.07.0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6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een Shot 2018-05-30 at 10.10.24 PM.png"/>
          <p:cNvPicPr/>
          <p:nvPr/>
        </p:nvPicPr>
        <p:blipFill>
          <a:blip r:embed="rId1"/>
          <a:stretch/>
        </p:blipFill>
        <p:spPr>
          <a:xfrm>
            <a:off x="327672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creen Shot 2018-05-30 at 10.10.4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5-30 at 10.10.52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27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E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creen Shot 2018-05-30 at 10.12.52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4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5-30 at 10.06.24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3068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G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creen Shot 2018-05-30 at 10.13.0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27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8-05-30 at 10.14.3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89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5-30 at 10.14.45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795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5-30 at 10.06.4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7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creen Shot 2018-05-30 at 10.07.0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6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een Shot 2018-05-30 at 10.10.24 PM.png"/>
          <p:cNvPicPr/>
          <p:nvPr/>
        </p:nvPicPr>
        <p:blipFill>
          <a:blip r:embed="rId1"/>
          <a:stretch/>
        </p:blipFill>
        <p:spPr>
          <a:xfrm>
            <a:off x="327672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creen Shot 2018-05-30 at 10.10.4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5-30 at 10.10.52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27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creen Shot 2018-05-30 at 10.12.52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4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creen Shot 2018-05-30 at 10.13.0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2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2:07:35Z</dcterms:created>
  <dc:creator>Jennifer Budzinski</dc:creator>
  <dc:description/>
  <dc:language>en-US</dc:language>
  <cp:lastModifiedBy>Erich Friedman</cp:lastModifiedBy>
  <dcterms:modified xsi:type="dcterms:W3CDTF">2020-09-05T09:03:57Z</dcterms:modified>
  <cp:revision>290</cp:revision>
  <dc:subject/>
  <dc:title>Slide 1</dc:title>
</cp:coreProperties>
</file>