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389E-E164-4EAD-8B96-4B3A19072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C4A4-3AE3-4C21-9AF2-F09F81FC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2A72-B586-44A2-B2D0-DBF34BCA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4920-6CF5-405E-8A07-EC16FDF7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648A-1EB6-46D9-95D5-62C53DC28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94B9-EA07-48F6-903F-866AE550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23F4-8985-4897-8342-39F9A17C2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F0CB-5E3F-4532-898A-7E36E8F74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71F2-AD34-41AD-B4B6-1D41108E7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232F-1138-485F-BA2D-BD0D7B3D9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A72A-90DC-43DA-A9D4-2BDCF3B8D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052E-9C18-40B5-867A-F65DF173E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8559-24AF-47C7-ACE1-C2B8E3F2F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A93-B0D4-4B33-9770-0168BD469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8F64-BEC6-4A6B-B883-C505D910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753-A9E2-4A15-920E-AA7CF77B2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79F3-5E92-4C04-8F82-7256D6DB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BCDC-FF11-45D8-861F-8956A4BD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1354-709F-4735-9FF7-230446DFE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E5B-C14D-48B7-BDE9-F28F9539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23D8-9A59-4916-AD79-0EA4488CF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83C3-583C-4336-8DEF-03FCBCE36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3B4-F16D-419D-B827-059D12035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OUS EPIT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ATESMAN'S EPITAPH IS         "I AM READY TO MEET MY MAKER.  WHETHER MY MAKER IS PREPARED FOR THE GREAT ORDEAL OF MEETING ME IS ANOTHER MAT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QUEROR'S EPITAPH IS "A TOMB NOW SUFFICES HIM FOR WHOM THE WORLD WAS NOT ENOU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REE AT LAST.  FREE AT LAST.  THANK GOD ALMIGHTY I'M FREE AT L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'S EPITAPH IS "THE BEST IS YET TO C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ICE ACTOR'S EPITAPH IS "THAT'S ALL FOLK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'S EPITAPH IS "WORKERS OF THE LANDS UN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PLAYER'S EPITAPH IS "61/61 AGAINST ALL OD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IST'S EPITAPH IS "GOD SAID 'LET ___ BE!' AND ALL WAS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AITHFUL TO THE CAUSE OF PROHIBITION – SHE HATH DONE WHAT SHE COU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REE AT LAST.  FREE AT LAST.  THANK GOD ALMIGHTY I'M FREE AT LA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AR  ALLAN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4144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QUOTH THE RAVEN, NEVERMO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ATESMAN'S EPITAPH IS         "I AM READY TO MEET MY MAKER.  WHETHER MY MAKER IS PREPARED FOR THE GREAT ORDEAL OF MEETING ME IS ANOTHER MAT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QUEROR'S EPITAPH IS "A TOMB NOW SUFFICES HIM FOR WHOM THE WORLD WAS NOT ENOU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'S EPITAPH IS "THE BEST IS YET TO C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ICE ACTOR'S EPITAPH IS "THAT'S ALL FOLK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'S EPITAPH IS "WORKERS OF THE LANDS UN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2396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PLAYER'S EPITAPH IS "61/61 AGAINST ALL OD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IST'S EPITAPH IS "GOD SAID 'LET ___ BE!' AND ALL WAS 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AITHFUL TO THE CAUSE OF PROHIBITION – SHE HATH DONE WHAT SHE COU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QUOTH THE RAVEN, NEVERMO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6T19:09:31Z</dcterms:created>
  <dc:creator>Jennifer Budzinski</dc:creator>
  <dc:description/>
  <dc:language>en-US</dc:language>
  <cp:lastModifiedBy>Erich Friedman</cp:lastModifiedBy>
  <dcterms:modified xsi:type="dcterms:W3CDTF">2020-09-05T13:59:29Z</dcterms:modified>
  <cp:revision>335</cp:revision>
  <dc:subject/>
  <dc:title>Slide 1</dc:title>
</cp:coreProperties>
</file>