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2F69-B59E-4E58-9C5A-1B9B99416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4F40-0CA6-4791-AC51-F8824DA50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6E86-3F00-40D6-88AB-26285E3D3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D087A-4AE1-40AE-82D4-3D0106604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9B74-C7CA-4041-AC11-36B2D7A03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3EF0-1AE2-46DF-955B-E2E090F24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9FA0-E0F4-48BD-9661-8D8A6A7C1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D2DF-6592-43D2-A81E-5D0305DB5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8BE1-2129-4A30-A07A-F19420428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66D5-8BC3-4568-A700-06C6202F7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7B43-EF39-4198-8475-17DFBBF67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0619-729E-48DE-8FDB-0B25D4803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4979-F09E-4618-8D35-4A91E3544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F5D7-470E-4474-958C-537E8B67A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C9FE-2F3B-45F7-9E9E-27213AA53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DC47-F1FE-415A-A683-92790ECB5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AE11-47B3-4FAD-932D-66A7D2BD4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C4AD-8561-47CD-9C86-061238549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0F56-FF6D-4DDB-BDAD-E7993BCF1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F6E7-BFBA-412C-B515-47783F91F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CE11-0F30-415D-A354-EEF950F9C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7F57-DE6B-43EB-824B-BCD0D9FCF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9A64-1EFA-436C-91EE-AD1F31ED6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OUS EPITAPH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200" y="761760"/>
            <a:ext cx="887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ATESMAN'S EPITAPH IS         "I AM READY TO MEET MY MAKER.  WHETHER MY MAKER IS PREPARED FOR THE GREAT ORDEAL OF MEETING ME IS ANOTHER MATTER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QUEROR'S EPITAPH IS "A TOMB NOW SUFFICES HIM FOR WHOM THE WORLD WAS NOT ENOUG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UTHER  KING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FREE AT LAST.  FREE AT LAST.  THANK GOD ALMIGHTY I'M FREE AT LA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SINAT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'S EPITAPH IS "THE BEST IS YET TO C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BLA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OICE ACTOR'S EPITAPH IS "THAT'S ALL FOLKS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L  M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UTIONARY'S EPITAPH IS "WORKERS OF THE LANDS UNI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M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PLAYER'S EPITAPH IS "61/61 AGAINST ALL OD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AAC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IST'S EPITAPH IS "GOD SAID 'LET ___ BE!' AND ALL WAS 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IE  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FAITHFUL TO THE CAUSE OF PROHIBITION – SHE HATH DONE WHAT SHE COU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FREE AT LAST.  FREE AT LAST.  THANK GOD ALMIGHTY I'M FREE AT LA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GAR  ALLAN  P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4144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QUOTH THE RAVEN, NEVERMO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TON  CHURC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TATESMAN'S EPITAPH IS         "I AM READY TO MEET MY MAKER.  WHETHER MY MAKER IS PREPARED FOR THE GREAT ORDEAL OF MEETING ME IS ANOTHER MATTER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THE 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QUEROR'S EPITAPH IS "A TOMB NOW SUFFICES HIM FOR WHOM THE WORLD WAS NOT ENOUG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'S EPITAPH IS "THE BEST IS YET TO C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OICE ACTOR'S EPITAPH IS "THAT'S ALL FOLKS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UTIONARY'S EPITAPH IS "WORKERS OF THE LANDS UNI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23960"/>
            <a:ext cx="7086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PLAYER'S EPITAPH IS "61/61 AGAINST ALL OD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YSICIST'S EPITAPH IS "GOD SAID 'LET ___ BE!' AND ALL WAS L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FAITHFUL TO THE CAUSE OF PROHIBITION – SHE HATH DONE WHAT SHE COU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EPITAPH IS "QUOTH THE RAVEN, NEVERMO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6T19:09:31Z</dcterms:created>
  <dc:creator>Jennifer Budzinski</dc:creator>
  <dc:description/>
  <dc:language>en-US</dc:language>
  <cp:lastModifiedBy>Erich Friedman</cp:lastModifiedBy>
  <dcterms:modified xsi:type="dcterms:W3CDTF">2020-09-05T13:59:29Z</dcterms:modified>
  <cp:revision>335</cp:revision>
  <dc:subject/>
  <dc:title>Slide 1</dc:title>
</cp:coreProperties>
</file>