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9076-88D8-44B5-A301-D6B40407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F84-38EF-463A-969B-07EFEEB2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B04C-F553-48D2-B08F-64EEC16D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F5FD-1305-4569-AFD6-10F2FCB8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166B-E739-4657-8249-30CEB3F2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B893-023C-405D-B060-D9F98EEE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2C3-CCF7-4A4B-BB82-43ECBAB2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D4A-7FE3-4264-B4A9-FF2ACCA3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088-5170-483B-B702-96583050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10F3-E09A-4186-B934-A84BC8C4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4ED8-473B-4EB4-BD0C-272436B0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9E3-BC9F-4B24-B89C-32B93BFD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75B-793D-4829-988A-6831E02A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127D-AA7C-48AB-9471-332BE8D1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ACFD-C8D8-4249-8D05-F9A312C4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369-E28F-4DD5-A1C5-918ED2B6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E3C-569E-48FC-9035-5872968B0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B841-8041-4BF1-B5E6-170EA12C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157-9B1B-497B-BC8C-E277B4A8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C37F-6342-4060-9428-7D816E56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B5EE-D340-4936-B65F-9682A6C1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6D1-883E-4660-9C5B-00FE2364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67B-7735-4C7B-8204-A14A689AF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EPIT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144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2396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9:09:31Z</dcterms:created>
  <dc:creator>Jennifer Budzinski</dc:creator>
  <dc:description/>
  <dc:language>en-US</dc:language>
  <cp:lastModifiedBy>Erich Friedman</cp:lastModifiedBy>
  <dcterms:modified xsi:type="dcterms:W3CDTF">2020-09-05T13:59:29Z</dcterms:modified>
  <cp:revision>335</cp:revision>
  <dc:subject/>
  <dc:title>Slide 1</dc:title>
</cp:coreProperties>
</file>