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7D8-6FBF-493F-995A-30552847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AE1-B6E2-40B3-A64C-AAE05328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C26C-A514-40EE-B84D-D030BAE49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8F60-CFD7-47D7-94CD-6541322E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09AD-C88E-478B-AEFF-54A28703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137B3-A8A5-4723-8591-BE9C55CCC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3268-562F-4641-8CAD-D1A028DAD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2DB9-FB4B-4B41-8FAA-1853E6E3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1ECB-A4CF-4C05-8354-AB54F17C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EB45-0043-4721-8659-45C8EAD6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6F93-FF1D-488E-ADB9-A12D76A5F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8944-A977-421C-99A5-366960DCC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0646-B992-42BF-924C-70B1D68B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A98-3366-4389-93D9-411EAA94E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05E1-E480-4C3D-8DDD-70334D01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122-D8AA-44DD-AD4B-97C6EE3CC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8926-6A2D-418F-B5D7-570B25D3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D7F0-DDDD-4DA9-86B0-F97BEB295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FD1C-4AE4-4AC6-A8C4-68DBF6DC4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82C-11E8-4587-89A0-60222910C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0848-EF4A-4B41-943D-C48DF7AB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F6CE-F067-4FB7-AE2C-148402012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1D248-CE0F-43B4-9C9D-BA089957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3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P TEN ACTORS OF ALL TIME ACCORDING TO THE AMERICAN FILM INSTITU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98720" y="1295280"/>
            <a:ext cx="3346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265560" y="1295280"/>
            <a:ext cx="2612880" cy="370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S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93920" y="1295280"/>
            <a:ext cx="275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G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19400" y="1295280"/>
            <a:ext cx="290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65560" y="1295280"/>
            <a:ext cx="2612880" cy="37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7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66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98720" y="1295280"/>
            <a:ext cx="3346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93920" y="1295280"/>
            <a:ext cx="2756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19400" y="1295280"/>
            <a:ext cx="290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75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3:46:52Z</dcterms:modified>
  <cp:revision>291</cp:revision>
  <dc:subject/>
  <dc:title>Slide 1</dc:title>
</cp:coreProperties>
</file>