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EA2-A425-46E4-85E1-178FA3BF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95D-6CB0-4363-9076-918A05C0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A84-BB74-4682-941A-CDA5E627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4B8-DBD5-48D2-B3A8-9F0B1E72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771-7B64-4697-BAE3-174F5C48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D6C-2603-41BB-9BF7-93A92686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8E3-3077-48DC-A2B1-711A80AA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BE11-1E91-4014-95BD-15A50DF4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57B-27C4-444C-96F6-4405A5E9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1A58-02F9-42EF-8443-E50F5C2D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092-6ADC-4208-97FB-A9FCAF2D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62B-810E-4FCE-B0F9-9F1025C7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061-F90B-45B6-9121-C976CEE5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7944-D84D-458D-84B2-0C469434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07CE-6CA0-423A-8514-0FF609D2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9211-FDAB-4971-BDD7-5ED19431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C6A-AA95-46A5-BD8C-71248FC3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FFF-ABBE-4BC2-8CFA-89BA65A8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37B-39EF-4ABB-9CD7-A21E37BE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15B-F07C-4E84-AEF6-02B75DCE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4BA2-3EA9-4BF2-A3F2-DE34B4FD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061-5AF6-4C8B-B23C-784F55A4A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B08-1D2C-4E86-9346-FB2213DB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P TEN ACTORS OF ALL TIME ACCORDING TO THE AMERICAN FILM INSTITU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98720" y="1295280"/>
            <a:ext cx="3346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65560" y="1295280"/>
            <a:ext cx="2612880" cy="37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S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93920" y="1295280"/>
            <a:ext cx="275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19400" y="1295280"/>
            <a:ext cx="290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65560" y="1295280"/>
            <a:ext cx="2612880" cy="37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98720" y="1295280"/>
            <a:ext cx="3346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93920" y="1295280"/>
            <a:ext cx="2756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19400" y="1295280"/>
            <a:ext cx="290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3:46:52Z</dcterms:modified>
  <cp:revision>291</cp:revision>
  <dc:subject/>
  <dc:title>Slide 1</dc:title>
</cp:coreProperties>
</file>