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17DF-6E9F-4C28-BAE5-C8D364DF6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69AD-AEA9-4A3C-99C2-B6DB64EB2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90EA-CE57-44B8-BC7B-A55EC27BA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7EE3-FCEA-46B7-9D50-4468A676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4857-EF4F-4436-9A27-BDDC6656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BE77-258B-471A-B2E3-41B467ACE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33FC-D43C-49EE-8A75-327ACF5A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537A-0DB6-4E1D-9234-2EB5B660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EFEA-0776-4E35-9E45-0E2F936BE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6CFA-6677-4380-93E7-6215F169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4CD8-F3C9-4BDF-B647-A5E0212C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E92C-491D-426F-97AB-23E0CA60F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42D1-AE8B-4EF5-836E-F4685E08C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4443-FBB3-4D3F-8A71-AF9D1E65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E898-E5E3-46DE-9D81-4049C9DE0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AB82-FDDC-4FA8-B9F6-D2DED746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53A5-E239-4F44-A581-DD9F80042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5DC9-8CA6-4265-B6E3-78E14523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917F-219D-41EB-ADF3-D8CB9EF6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8CC5-9EB5-4EFC-AD90-9EF192D37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950E-1142-4B55-A7C9-C8B98C8A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AAC2-EA65-4DFC-9DCB-9CC1A0F3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6E6B-A10A-4E01-90C6-52AC36A72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0666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EPING UP WITH THE JONESES (GIVE THEIR FIRST NA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LAYED BETTY DRAPER ON "MAD MEN" AND  MELISSA SHART ON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IS THE LEADING WIDE RECEIVER FOR THE ATLANTA FALC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MY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STARRED IN "THE FUGIT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HAS WON 9 GRAMMY AWAR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ROVIDED DARTH VADER'S VO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LAYED DEFENSIVE END FOR THE L.A. RAMS IN THE 60'S, AND WAS KNOWN AS "THE SECRETARY OF DEF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SH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STARRED ON "PARKS AND RECREATION" PLAYED THE LEAD ON "ANGIE TRIBE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8200" y="762120"/>
            <a:ext cx="7527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WAS KNOWN AS "THE GREATEST LIVING COUNTRY SINGER" UNTIL HE DIED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WAS A MEMBER OF "THE MONKE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STARRED IN "THE FUGIT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INITIATED A MASS SUICIDE IN JONESTOWN IN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LAYED BETTY DRAPER ON "MAD MEN", AND  MELISSA SHART ON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IS THE LEADING WIDE RECEIVER FOR THE ATLANTA FALC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HAS WON 9 GRAMMY AWAR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ROVIDED DARTH VADER'S VO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LAYED DEFENSIVE END FOR THE L.A. RAMS IN THE 60'S, AND WAS KNOWN AS "THE SECRETARY OF DEF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STARRED ON "PARKS AND RECREATION" AND PLAYED THE LEAD  ON "ANGIE TRIBE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WAS KNOWN AS "THE GREATEST LIVING COUNTRY SINGER" UNTIL HE DIED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WAS A MEMBER OF "THE MONKE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57120" y="72396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INITIATED A MASS SUICIDE IN JONESTOWN IN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12:15:35Z</dcterms:created>
  <dc:creator>Jennifer Budzinski</dc:creator>
  <dc:description/>
  <dc:language>en-US</dc:language>
  <cp:lastModifiedBy>Erich Friedman</cp:lastModifiedBy>
  <dcterms:modified xsi:type="dcterms:W3CDTF">2020-09-04T12:31:16Z</dcterms:modified>
  <cp:revision>282</cp:revision>
  <dc:subject/>
  <dc:title>Slide 1</dc:title>
</cp:coreProperties>
</file>