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3CE-C491-4383-BD82-99D4FAFA7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710B-D135-4A2A-9E56-D5DAC528D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AFA5-AD6D-45D0-9948-C9D0415C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1204-5D60-44D4-8DE1-A58646CD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F000-78A7-4775-A887-AB968D2F0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4003-D119-4910-89B4-17B8CF8D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7706-DF22-454D-B07E-ADFE5C675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C72-A3CD-4F5C-88E6-07CD0AD6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D264-4F00-4545-8923-64BD2AA7B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745E-E415-43E7-8C72-70884D7D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19A8-4331-4531-8188-D55F21E96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E3F7-96CD-4F04-AA79-2C814AD93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060E-EE2D-4992-A139-4A95B1E88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87DA-97D4-493C-8865-335C943A1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3C71-D751-410C-9CCE-7F250BC0D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B2AF-49A2-4B93-AC40-3D325167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F03-99D7-40A2-BE97-EE41FDFE0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A084-EF2D-426F-A4BD-AB36B14FB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DFC9-EBAD-4004-A65C-A75D04EF5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5D9D-ADDE-48DE-9900-950BF1623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1C7-A04A-4EB9-B92B-490E2A9A1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8A4D-590B-47D7-8324-55DC01D1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D93F-9668-4CC4-AB90-83B6A401E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ING UP WITH THE JONESES (GIVE THEIR FIRST NAM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BETTY DRAPER ON "MAD MEN" AND  MELISSA SHART ON "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S THE LEADING WIDE RECEIVER FOR THE ATLANTA FALC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IN "THE FUGIT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HAS WON 9 GRAMMY AWAR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ROVIDED DARTH VADER'S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DEFENSIVE END FOR THE L.A. RAMS IN THE 60'S, AND WAS KNOWN AS "THE SECRETARY OF DEF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SH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ON "PARKS AND RECREATION" PLAYED THE LEAD ON "ANGIE TRIBE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8200" y="762120"/>
            <a:ext cx="7527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KNOWN AS "THE GREATEST LIVING COUNTRY SINGER" UNTIL HE DIED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A MEMBER OF "THE MONKE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IN "THE FUGIT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NITIATED A MASS SUICIDE IN JONESTOWN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BETTY DRAPER ON "MAD MEN", AND  MELISSA SHART ON "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S THE LEADING WIDE RECEIVER FOR THE ATLANTA FALC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HAS WON 9 GRAMMY AWAR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ROVIDED DARTH VADER'S VO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PLAYED DEFENSIVE END FOR THE L.A. RAMS IN THE 60'S, AND WAS KNOWN AS "THE SECRETARY OF DEF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STARRED ON "PARKS AND RECREATION" AND PLAYED THE LEAD  ON "ANGIE TRIBE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KNOWN AS "THE GREATEST LIVING COUNTRY SINGER" UNTIL HE DIED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WAS A MEMBER OF "THE MONKE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57120" y="72396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JONES INITIATED A MASS SUICIDE IN JONESTOWN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1T12:15:35Z</dcterms:created>
  <dc:creator>Jennifer Budzinski</dc:creator>
  <dc:description/>
  <dc:language>en-US</dc:language>
  <cp:lastModifiedBy>Erich Friedman</cp:lastModifiedBy>
  <dcterms:modified xsi:type="dcterms:W3CDTF">2020-09-04T12:31:16Z</dcterms:modified>
  <cp:revision>282</cp:revision>
  <dc:subject/>
  <dc:title>Slide 1</dc:title>
</cp:coreProperties>
</file>