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6685-70BD-4335-98AA-C15BC33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04BA-37A8-4868-AFA4-43740B2D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981-1BD2-4CCE-B373-F9211AFB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913-EDF1-4DB2-AD3E-C65C57A1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032-8E21-4A51-9789-AC41A4C1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2BAE-F7E3-4A63-ADD1-61D42B88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BF81-DF8C-4075-B072-43DA7C0C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8F74-E042-41A9-BC0E-ACD203CA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765C-BE1A-416E-A4DD-119530EE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A73-AF8B-486F-845D-3C8500CC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85F6-B43C-4D17-B471-6AC5F37B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9A5-1B56-4383-8138-53B0A848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5C03-3463-4CE1-8E4F-7663788E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407B-2179-40AD-B061-01396489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1A2C-1A77-45B9-BC52-AC99C8F1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5E3B-6287-4817-A9D1-216DC6AA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3C8C-BE33-476F-A582-4FB5F913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6C5E-71B6-4FA2-A72A-7FC51E8C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6915-7149-4E5F-9D27-F7FEE55A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5947-7174-4204-B52B-062E5D32C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787-A01C-4AA3-88DD-B93C9DA1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0677-ED97-4331-9A32-0E94DCBB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2340-AEED-472C-80B7-FE55D08E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FROM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962440" y="1295280"/>
            <a:ext cx="3219120" cy="36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ULEY  CUL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154320" y="1295280"/>
            <a:ext cx="2835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61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  VAUG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SN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640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82960" y="1295280"/>
            <a:ext cx="31780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NOL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IAMOND  PHIL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21200" y="1295280"/>
            <a:ext cx="2901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105000" y="1295280"/>
            <a:ext cx="293400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0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OLAS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05280" y="1298520"/>
            <a:ext cx="313344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030480" y="1295280"/>
            <a:ext cx="30830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59040" y="1295280"/>
            <a:ext cx="3625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7800" y="1295280"/>
            <a:ext cx="33084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27360" y="1295280"/>
            <a:ext cx="368928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92400" y="1295280"/>
            <a:ext cx="295920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70360" y="1295280"/>
            <a:ext cx="3203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3:51:16Z</dcterms:modified>
  <cp:revision>291</cp:revision>
  <dc:subject/>
  <dc:title>Slide 1</dc:title>
</cp:coreProperties>
</file>