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6715-C1C2-4DC4-A22F-433B5C3A9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9A36-621E-4B57-9192-E4C062468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498-AE66-492A-83EE-1D627C97A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1F68-3D65-4024-BFB9-3B05C9CA5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486B-0D3B-4E40-951E-6BF15364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020C-F8DA-4892-B797-DC0077BE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AF94-9B3C-49B6-AC79-5BD895B2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34C4-B987-49F4-B0DC-05A93C5A6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A432-772F-49EF-BD65-A19852C2D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75B-BF87-4343-B3F8-7C158E126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147F-2090-41A2-9F87-B983B24CC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BEB7-86F4-4534-B6EA-F7FAAA1A1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6C22-D5A6-4046-9E3E-504C38B24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B408-1120-42F4-8E80-D3BD58BDF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D4BA-EA2B-4199-A94F-7ACD5EBF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AC30-AF8D-4308-BD11-3236480DD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2910F-8245-41ED-9A6B-1FE900082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8D4-1A4D-471D-9C27-8C0D337E6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9573E-7BA0-4A12-B593-23D15BBD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CC0-180D-42AA-AB86-0DB203D0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6F51-8101-46BB-97D8-5C5826D2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573A-4D6A-4BC4-B8D2-B2DA92386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9A9-7E04-49A3-A1CF-A1F01D26E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FROM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962440" y="1295280"/>
            <a:ext cx="3219120" cy="36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AULEY  CUL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154320" y="1295280"/>
            <a:ext cx="2835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612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  VAUG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LEY  SN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789280" y="1295280"/>
            <a:ext cx="3565440" cy="35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640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82960" y="1295280"/>
            <a:ext cx="31780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78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NOL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73440" y="1295280"/>
            <a:ext cx="35971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6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IAMOND  PHIL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121200" y="1295280"/>
            <a:ext cx="2901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3105000" y="1295280"/>
            <a:ext cx="293400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35160" y="1295280"/>
            <a:ext cx="3073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00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HOLAS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005280" y="1298520"/>
            <a:ext cx="313344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00320" y="1295280"/>
            <a:ext cx="2943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3030480" y="1295280"/>
            <a:ext cx="3083040" cy="36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59040" y="1295280"/>
            <a:ext cx="3625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7800" y="1295280"/>
            <a:ext cx="33084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27360" y="1295280"/>
            <a:ext cx="368928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92400" y="1295280"/>
            <a:ext cx="295920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70360" y="1295280"/>
            <a:ext cx="3203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3:51:16Z</dcterms:modified>
  <cp:revision>291</cp:revision>
  <dc:subject/>
  <dc:title>Slide 1</dc:title>
</cp:coreProperties>
</file>