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3DF4-FA25-4A5D-92FC-434C3AF70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49F0-094C-4FEE-9604-0624B930A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2BE9-17E4-4BDC-AE04-9F4118C90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471D-B1A4-4803-BBE1-770A3531B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3456-66C9-4D42-AACB-007461085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B0D0-4280-4518-88D4-BA253339D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FB19-B574-4FEA-B9B3-70FA1B762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D4DA-74A8-4811-961F-674BF60A7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3532-21A2-46E1-B96F-CE10D0B0D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C437-B375-4C16-B15B-4D36058B2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C7DF-5BDC-4D95-9660-27427114E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0843-CB9C-4E3F-B2EF-959CCF490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310D-9C7E-4A84-87E4-950F8BB26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455B-05AB-459D-8EF4-FF49AFAB8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8981-41D3-44E1-A878-795C8B1FE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4CC1-6193-41B5-8726-87131FEA3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7585-69AB-46DF-83CD-E4F394D6B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CDCC-CE43-4AB1-98F3-619BF49BD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BB64-C095-4B11-B4AF-3208AB611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B6DA-5A64-4521-860E-D4789F543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A9F7-5B16-48B6-92FF-D703BDED5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A705-56B5-450C-8EED-13AA87902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0C8A-AF7B-40B7-BC1C-5B9BDF397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florence nightingale.png"/>
          <p:cNvPicPr/>
          <p:nvPr/>
        </p:nvPicPr>
        <p:blipFill>
          <a:blip r:embed="rId1"/>
          <a:stretch/>
        </p:blipFill>
        <p:spPr>
          <a:xfrm>
            <a:off x="1676520" y="1295280"/>
            <a:ext cx="5788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pocahontas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21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E  CU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marie curie.jpg"/>
          <p:cNvPicPr/>
          <p:nvPr/>
        </p:nvPicPr>
        <p:blipFill>
          <a:blip r:embed="rId1"/>
          <a:stretch/>
        </p:blipFill>
        <p:spPr>
          <a:xfrm>
            <a:off x="1714680" y="1295280"/>
            <a:ext cx="5715000" cy="35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A  P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rosa parks.jpg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5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RA  DAY  O'CON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sandra day o'connor.jpg"/>
          <p:cNvPicPr/>
          <p:nvPr/>
        </p:nvPicPr>
        <p:blipFill>
          <a:blip r:embed="rId1"/>
          <a:stretch/>
        </p:blipFill>
        <p:spPr>
          <a:xfrm>
            <a:off x="1943280" y="1295280"/>
            <a:ext cx="5257800" cy="353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A  H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mata hari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IE  OAK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annie oakley.png"/>
          <p:cNvPicPr/>
          <p:nvPr/>
        </p:nvPicPr>
        <p:blipFill>
          <a:blip r:embed="rId1"/>
          <a:stretch/>
        </p:blipFill>
        <p:spPr>
          <a:xfrm>
            <a:off x="1714680" y="1295280"/>
            <a:ext cx="5715000" cy="35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658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IE  JEA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billie-jean-king.jpg"/>
          <p:cNvPicPr/>
          <p:nvPr/>
        </p:nvPicPr>
        <p:blipFill>
          <a:blip r:embed="rId1"/>
          <a:stretch/>
        </p:blipFill>
        <p:spPr>
          <a:xfrm>
            <a:off x="2362320" y="1285920"/>
            <a:ext cx="4419360" cy="348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73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OF  AR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joan of arc.png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5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marie curie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46840" cy="36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7376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SAN  B.  ANTH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susan b anthony.png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5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ENCE  NIGHTING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florence nightingale.png"/>
          <p:cNvPicPr/>
          <p:nvPr/>
        </p:nvPicPr>
        <p:blipFill>
          <a:blip r:embed="rId1"/>
          <a:stretch/>
        </p:blipFill>
        <p:spPr>
          <a:xfrm>
            <a:off x="1676520" y="1295280"/>
            <a:ext cx="5788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CAHON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pocahontas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rosa parks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sandra day o'connor.jpg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mata hari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annie oakley.png"/>
          <p:cNvPicPr/>
          <p:nvPr/>
        </p:nvPicPr>
        <p:blipFill>
          <a:blip r:embed="rId1"/>
          <a:stretch/>
        </p:blipFill>
        <p:spPr>
          <a:xfrm>
            <a:off x="1523880" y="1295280"/>
            <a:ext cx="60343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billie-jean-king.jpg"/>
          <p:cNvPicPr/>
          <p:nvPr/>
        </p:nvPicPr>
        <p:blipFill>
          <a:blip r:embed="rId1"/>
          <a:stretch/>
        </p:blipFill>
        <p:spPr>
          <a:xfrm>
            <a:off x="2209680" y="1295280"/>
            <a:ext cx="46418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joan of arc.png"/>
          <p:cNvPicPr/>
          <p:nvPr/>
        </p:nvPicPr>
        <p:blipFill>
          <a:blip r:embed="rId1"/>
          <a:stretch/>
        </p:blipFill>
        <p:spPr>
          <a:xfrm>
            <a:off x="1523880" y="1295280"/>
            <a:ext cx="60343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susan b anthony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12-16T14:03:01Z</dcterms:modified>
  <cp:revision>288</cp:revision>
  <dc:subject/>
  <dc:title>Slide 1</dc:title>
</cp:coreProperties>
</file>