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E87-C657-471F-9CBA-53FF0869F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3A3-356C-4C58-93F5-4459ECE9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C22B-3683-426C-9F73-97F0C307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6DE-4AF6-41B9-94F1-49BB6568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62E-FB67-4043-BD20-44C2A305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CEC-3226-42B2-B831-C61A5AD0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2C2-FFD0-44E1-A2FA-C59A04C1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F58-6D1E-4F32-B3E5-FC0B324A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F20-5990-482B-848B-FA79253C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90DC-D2AA-4F88-A1BD-0C05035B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4E8-484E-4AC4-8E5D-B6DE382A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5A2A-5650-4130-AA14-5060C630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A52-1C67-40D4-8C91-1959AA29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BEF8-0573-4F72-A2CF-5BB36CA8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97F-1DF3-450E-B4E3-217D2506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5349-84B9-467B-84A9-B311CC65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A456-1F2C-493B-A1E2-68CBD658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8482-0808-4518-B993-5EE45C30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9E8-E389-449C-83EB-E3AB2BC0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9980-A080-41DE-849E-08642431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092-B1AC-4C1E-B754-65BF6D0F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470A-11E2-4D11-ADD4-2A017C6F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3778-812D-40C1-BBE3-B9204B1C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21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arie curie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rosa park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DAY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andra day o'connor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A  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  OA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nnie oakley.pn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illie-jean-king.jpg"/>
          <p:cNvPicPr/>
          <p:nvPr/>
        </p:nvPicPr>
        <p:blipFill>
          <a:blip r:embed="rId1"/>
          <a:stretch/>
        </p:blipFill>
        <p:spPr>
          <a:xfrm>
            <a:off x="2362320" y="1285920"/>
            <a:ext cx="441936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joan of arc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marie cur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684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usan b anthony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rosa parks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sandra day o'connor.jpg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annie oakle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billie-jean-kin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joan of arc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susan b anthony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3:01Z</dcterms:modified>
  <cp:revision>288</cp:revision>
  <dc:subject/>
  <dc:title>Slide 1</dc:title>
</cp:coreProperties>
</file>