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644C-8A56-4784-8008-CDFA96DEC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271E-1EAE-4AC9-8382-88BDE61F5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8B7C-721F-4902-9F34-83C15EB5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E467-BA5F-4046-AC30-F916E6833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E63-68BF-4717-A3E5-46D2F22C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C1EA-AF6F-4103-A1AE-DE712171F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1C88-0D00-41A0-AA3A-91A837495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43E6-9917-43CF-AC9D-B8BDD4CC8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8370-9A11-47CB-94D8-51CFC49C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F470-80D6-49BB-9073-3767B81B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2B4-46CA-4D68-BD11-202E7F50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00A-AF58-4CC0-9994-0880AD0A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9E3F-CEA1-4BBA-8D5E-61E08AAF2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13EC-82D7-479D-B5E0-B24170412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2DB1-4FFA-4FBE-A505-FC2706B88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F747-DF2F-495B-B063-B2876D63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2A1F-76AF-49E4-AE98-081B2AC07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6EE0-4992-4134-AF3A-F8658B3FA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BF26-6B4C-4098-9878-DF2D60915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F687-6A50-4298-B6A6-48957802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5255-37D8-448C-9095-FB492887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F5DF-8E14-4A80-B4CF-71052BB42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5428-1A77-4973-AE36-1E7D8F43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florence nightingal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88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pocahontas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21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arie curie.jp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rosa parks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DAY  O'CON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sandra day o'connor.jpg"/>
          <p:cNvPicPr/>
          <p:nvPr/>
        </p:nvPicPr>
        <p:blipFill>
          <a:blip r:embed="rId1"/>
          <a:stretch/>
        </p:blipFill>
        <p:spPr>
          <a:xfrm>
            <a:off x="1943280" y="1295280"/>
            <a:ext cx="5257800" cy="35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A  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mata hari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IE  OA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annie oakley.pn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JEA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illie-jean-king.jpg"/>
          <p:cNvPicPr/>
          <p:nvPr/>
        </p:nvPicPr>
        <p:blipFill>
          <a:blip r:embed="rId1"/>
          <a:stretch/>
        </p:blipFill>
        <p:spPr>
          <a:xfrm>
            <a:off x="2362320" y="1285920"/>
            <a:ext cx="441936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OF  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joan of arc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marie cur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684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737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.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usan b anthony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NIGHTIN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florence nightingal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88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pocahontas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rosa parks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sandra day o'connor.jpg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mata hari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annie oakle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03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billie-jean-king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4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joan of arc.png"/>
          <p:cNvPicPr/>
          <p:nvPr/>
        </p:nvPicPr>
        <p:blipFill>
          <a:blip r:embed="rId1"/>
          <a:stretch/>
        </p:blipFill>
        <p:spPr>
          <a:xfrm>
            <a:off x="1523880" y="1295280"/>
            <a:ext cx="603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susan b anthony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03:01Z</dcterms:modified>
  <cp:revision>288</cp:revision>
  <dc:subject/>
  <dc:title>Slide 1</dc:title>
</cp:coreProperties>
</file>