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FA394-BCFC-42EE-8420-0A926E1DB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748A2-C261-4E35-BF94-50505F18A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1CAF1-89A5-4F48-B17E-69017DF41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D90B4-87D3-4E6F-A901-42175CD35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E970E-178C-4FF4-BC8E-5A0015E25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02030-95F9-47CB-BDE1-8F510BBB8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E4F02-D95B-4737-8728-71FBCCC50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319CA-A636-4288-A6FE-C209309E2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56E54-BCE7-4908-83F3-0D537A2C2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07872-51E5-47A9-9874-6835BB486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F3EA8-B9AC-4D2B-8B5D-40A27E332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398AB-4235-444F-8CD3-9328BB0AB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54E74-6A0F-4940-8B91-051AD7741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10149-F5CD-4FB8-BAC0-A2597AAD5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9FD0D-3F4A-4923-B6F0-EA9BEE32A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30AA1-43B7-45EB-9BA6-2C45C2574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F6939-E76D-4F9D-A3A6-B1F0BCE43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FC249-DE97-4838-9DB7-00CF1BC44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07CC2-B618-4E50-82F9-5152E7F37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FE2A3-8769-4883-9E6E-0B8796349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F39CC-D058-46F5-84C7-4B126CC25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17219-1039-4E5F-8E9B-BD36588F3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0E808-C691-49FA-A634-60B61782A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6280" y="1066680"/>
            <a:ext cx="81914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ICH PERSON GETS MORE VIEWS ON WIKIPEDIA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67960" y="761760"/>
            <a:ext cx="7405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GETS MORE VIEWS ON WIKIPEDIA?  BASKETBALL PLAYER ISIAH THOMAS   OR CLARENCE THOM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19040" y="762120"/>
            <a:ext cx="8305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GETS MORE VIEWS ON WIKIPEDIA?  PRESIDENT ZACHARY TAYLOR OR ELIZABETH TAYL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AEL  JACK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12840" y="762120"/>
            <a:ext cx="8516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GETS MORE VIEWS ON WIKIPEDIA?  PRESIDENT ANDREW JACKSON, OR MICHAEL JACK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ROBE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779400" y="762120"/>
            <a:ext cx="7585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GETS MORE VIEWS    ON WIKIPEDIA?  CHIEF JUSTICE OF THE SUPREME COURT JOHN ROBERTS,  OR JULIA ROBER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DIANA  J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73080" y="762120"/>
            <a:ext cx="719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GETS MORE VIEWS ON WIKIPEDIA?  ACTRESS CATHERINE ZETA-JONES OR INDIANA JO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YNDON  B.  JOHN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506520" y="762120"/>
            <a:ext cx="8129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GETS MORE VIEWS ON WIKIPEDIA?  BRITISH PRIME MINISTER BORIS JOHNSON OR LYNDON B. JOHN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IN  WILLI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93880" y="762120"/>
            <a:ext cx="7356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GETS MORE VIEWS  ON WIKIPEDIA?  TENNIS PLAYER SERENA WILLIAMS OR ROBIN WILLIA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NZEL  WASHING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43120" y="762120"/>
            <a:ext cx="7457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GETS MORE VIEWS   ON WIKIPEDIA?  ACTOR DENZEL WASHINGTON OR GEORGE WASHINGT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FFERSON  DAV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18960" y="762120"/>
            <a:ext cx="8506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GETS MORE VIEWS ON WIKIPEDIA? TRUMPETER MILES DAVIS OR JEFFERSON DAV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17080" y="762120"/>
            <a:ext cx="8707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GETS MORE VIEWS ON WIKIPEDIA?  PRESIDENT ANDREW JACKSON, OR MICHAEL JACK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ODROW  WIL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979560" y="762120"/>
            <a:ext cx="7183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GETS MORE VIEWS ON WIKIPEDIA?  ACTOR LUKE WILSON OR WOODROW WIL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ARENCE  THO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76240" y="762120"/>
            <a:ext cx="73915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GETS MORE VIEWS ON WIKIPEDIA?  BASKETBALL PLAYER ISIAH THOMAS   OR CLARENCE THOM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IZABETH  TAYL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79280" y="762120"/>
            <a:ext cx="87854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GETS MORE VIEWS ON WIKIPEDIA?  PRESIDENT ZACHARY TAYLOR OR ELIZABETH TAYL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58960" y="761760"/>
            <a:ext cx="7424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GETS MORE VIEWS  ON WIKIPEDIA?  CHIEF JUSTICE OF THE SUPREME COURT JOHN ROBERTS, OR JULIA ROBER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949320" y="762120"/>
            <a:ext cx="7245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GETS MORE VIEWS ON WIKIPEDIA?  ACTRESS CATHERINE ZETA-JONES OR INDIANA JO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12640" y="762120"/>
            <a:ext cx="811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GETS MORE VIEWS ON WIKIPEDIA?  BRITISH PRIME MINISTER BORIS JOHNSON OR LYNDON B. JOHN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74800" y="761760"/>
            <a:ext cx="73929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GETS MORE VIEWS  ON WIKIPEDIA?  TENNIS PLAYER SERENA WILLIAMS OR ROBIN WILLIA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17560" y="761760"/>
            <a:ext cx="7508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GETS MORE VIEWS   ON WIKIPEDIA?  ACTOR DENZEL WASHINGTON OR GEORGE WASHINGT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60280" y="761760"/>
            <a:ext cx="86234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GETS MORE VIEWS ON WIKIPEDIA? TRUMPETER MILES DAVIS OR JEFFERSON DAV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119240" y="761760"/>
            <a:ext cx="6904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GETS MORE VIEWS ON WIKIPEDIA?  ACTOR LUKE WILSON OR WOODROW WIL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1-01-29T19:30:35Z</dcterms:modified>
  <cp:revision>387</cp:revision>
  <dc:subject/>
  <dc:title>Slide 1</dc:title>
</cp:coreProperties>
</file>