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3C07-D74B-482D-ADAC-40E640FF6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FCAF3-E608-4AA4-A361-45528134F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43A0-1645-43F2-AADE-71A344EF9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B395-6BF0-4797-A00C-2CEB50464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E930-40A4-4FB0-8CAC-4C5562123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5811-6088-4CF4-B44A-82F4F3BCB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13A5-B043-4582-AAAC-94B8737B0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2535-0643-42CA-B4C9-99921C496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27D3-6C64-410F-AA5E-81F192F0A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2154-F7DE-4DE3-A8C5-A51794FBE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28FC-C6E5-4F0E-A133-AC8F53D3E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E3DD-F34B-401B-AF4F-906E718FA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A57B-887F-49B9-95FA-04F06ADEE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C84C-33A8-4612-98F7-4A63FD734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6BDE-E1DD-40F9-A000-7E5DC1C29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5AD2-ABE8-467F-9AC9-485877752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54AF-0143-4CB9-942D-FE85E34ED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B712-B530-4CA3-AE56-C76B24050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1624-956B-4769-AC17-FCFB305DE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C555-0BD5-4BCB-A9E4-CF1C66954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0AB3-6B75-4FAC-93F4-BEAA2E939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4C86-319D-4736-878F-F00982FF0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C1A7-033E-4182-8075-C348409BD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6280" y="1066680"/>
            <a:ext cx="8191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CH PERSON GETS MORE VIEWS ON WIKIPEDIA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67960" y="761760"/>
            <a:ext cx="7405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ETS MORE VIEWS ON WIKIPEDIA?  BASKETBALL PLAYER ISIAH THOMAS   OR CLARENCE THOM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1904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ETS MORE VIEWS ON WIKIPEDIA?  PRESIDENT ZACHARY TAYLOR OR ELIZABETH TAY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12840" y="762120"/>
            <a:ext cx="8516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ETS MORE VIEWS ON WIKIPEDIA?  PRESIDENT ANDREW JACKSON, OR MICHAEL JACK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ROBE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79400" y="762120"/>
            <a:ext cx="7585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ETS MORE VIEWS    ON WIKIPEDIA?  CHIEF JUSTICE OF THE SUPREME COURT JOHN ROBERTS,  OR JULIA ROBE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NA  J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73080" y="762120"/>
            <a:ext cx="719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ETS MORE VIEWS ON WIKIPEDIA?  ACTRESS CATHERINE ZETA-JONES OR INDIANA J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YNDON  B.  JOH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06520" y="762120"/>
            <a:ext cx="8129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ETS MORE VIEWS ON WIKIPEDIA?  BRITISH PRIME MINISTER BORIS JOHNSON OR LYNDON B. JOHN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IN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93880" y="762120"/>
            <a:ext cx="7356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ETS MORE VIEWS  ON WIKIPEDIA?  TENNIS PLAYER SERENA WILLIAMS OR ROBIN WILLIA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ZEL  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43120" y="762120"/>
            <a:ext cx="7457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ETS MORE VIEWS   ON WIKIPEDIA?  ACTOR DENZEL WASHINGTON OR GEORGE WASHING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ERSON  DAV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18960" y="762120"/>
            <a:ext cx="850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ETS MORE VIEWS ON WIKIPEDIA? TRUMPETER MILES DAVIS OR JEFFERSON DAV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17080" y="762120"/>
            <a:ext cx="8707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ETS MORE VIEWS ON WIKIPEDIA?  PRESIDENT ANDREW JACKSON, OR MICHAEL JACK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ROW  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79560" y="762120"/>
            <a:ext cx="7183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ETS MORE VIEWS ON WIKIPEDIA?  ACTOR LUKE WILSON OR WOODROW WIL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RENCE  THO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76240" y="762120"/>
            <a:ext cx="739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ETS MORE VIEWS ON WIKIPEDIA?  BASKETBALL PLAYER ISIAH THOMAS   OR CLARENCE THOM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IZABETH  TAY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79280" y="762120"/>
            <a:ext cx="8785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ETS MORE VIEWS ON WIKIPEDIA?  PRESIDENT ZACHARY TAYLOR OR ELIZABETH TAY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58960" y="761760"/>
            <a:ext cx="7424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ETS MORE VIEWS  ON WIKIPEDIA?  CHIEF JUSTICE OF THE SUPREME COURT JOHN ROBERTS, OR JULIA ROBER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49320" y="762120"/>
            <a:ext cx="724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ETS MORE VIEWS ON WIKIPEDIA?  ACTRESS CATHERINE ZETA-JONES OR INDIANA J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12640" y="762120"/>
            <a:ext cx="811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ETS MORE VIEWS ON WIKIPEDIA?  BRITISH PRIME MINISTER BORIS JOHNSON OR LYNDON B. JOHN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74800" y="761760"/>
            <a:ext cx="7392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ETS MORE VIEWS  ON WIKIPEDIA?  TENNIS PLAYER SERENA WILLIAMS OR ROBIN WILLIA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17560" y="761760"/>
            <a:ext cx="750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ETS MORE VIEWS   ON WIKIPEDIA?  ACTOR DENZEL WASHINGTON OR GEORGE WASHING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60280" y="761760"/>
            <a:ext cx="8623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ETS MORE VIEWS ON WIKIPEDIA? TRUMPETER MILES DAVIS OR JEFFERSON DAV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19240" y="761760"/>
            <a:ext cx="6904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ETS MORE VIEWS ON WIKIPEDIA?  ACTOR LUKE WILSON OR WOODROW WIL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01-29T19:30:35Z</dcterms:modified>
  <cp:revision>387</cp:revision>
  <dc:subject/>
  <dc:title>Slide 1</dc:title>
</cp:coreProperties>
</file>