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1F1E-3A23-4BE4-970E-1AFF61B45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844A-7D0E-48A1-80C0-6714A78C6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8D2E-A2A7-4E90-86E8-2AA5D9C02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65A5-6A9F-4B01-A365-7A7AC7756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CBE0-4755-45EC-9AA1-10B1516E2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D5C5-EF89-4D88-A38E-3C7D36B0D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93E4-00B6-4A32-BFCB-7440DF19D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8663-E8E1-455C-B0AC-41CBE56CB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1DF7-F17E-484D-8379-A346202C3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777C-3EE6-456F-ABB4-5D9B6564D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12A5-D2FC-4F3F-8A8C-23D67B1A4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8048-D6B8-4ED6-8F8A-696AE0B92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471A-AA26-4E3B-AB9C-6FD7DBE31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7844-72B9-4E84-9409-D0129D90F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F1F9-B0A6-4F61-9A77-C8687AF1D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2BF2-95F5-4F8F-BF8C-E4066D5F6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F27A-9747-426C-91A3-021237060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B518-B456-454C-8150-CC598507B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0BE0-4DAC-44FF-A48A-0908988C7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69BE-13B3-44C8-BBE1-FB673FCF0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2102-CD57-4FA0-9332-67737E9CE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BB4F-8D64-45D5-ADD5-AA2A16F7C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79D6-382E-4D6F-AD60-47408A01D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95360" y="167616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HAS THESE HAIRDOS?      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2705040" y="1295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669960" y="1371600"/>
            <a:ext cx="78040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NIS  THE  MEN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2151000" y="1303200"/>
            <a:ext cx="4842000" cy="368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DU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3371760" y="1295280"/>
            <a:ext cx="240048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RLEY  TE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641680" y="1295280"/>
            <a:ext cx="38606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ZO  THE  CL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57200" y="1378080"/>
            <a:ext cx="8229600" cy="31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SS  LE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016080" y="1295280"/>
            <a:ext cx="3111840" cy="36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MA  FLINT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E  N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246480" y="1295280"/>
            <a:ext cx="265104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290600" y="1295280"/>
            <a:ext cx="6562800" cy="35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2795760" y="1295280"/>
            <a:ext cx="35524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VIS  PRES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866960" y="1295280"/>
            <a:ext cx="5410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2687760" y="1257480"/>
            <a:ext cx="376848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65640" y="1295280"/>
            <a:ext cx="241272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325600" y="1295280"/>
            <a:ext cx="4492800" cy="36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73200" y="1295280"/>
            <a:ext cx="77976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341440" y="1295280"/>
            <a:ext cx="4461120" cy="36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400480" y="1295280"/>
            <a:ext cx="434340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230640" y="1295280"/>
            <a:ext cx="2682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471760" y="1371600"/>
            <a:ext cx="42004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12-26T18:09:11Z</dcterms:modified>
  <cp:revision>291</cp:revision>
  <dc:subject/>
  <dc:title>Slide 1</dc:title>
</cp:coreProperties>
</file>