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wmf" ContentType="image/x-wmf"/>
  <Override PartName="/ppt/media/image4.jpeg" ContentType="image/jpeg"/>
  <Override PartName="/ppt/media/image7.jpeg" ContentType="image/jpeg"/>
  <Override PartName="/ppt/media/image12.wmf" ContentType="image/x-wmf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48027-E806-46C3-9B1E-87DA07B26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9216B-B432-4729-8A31-C3876452D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65095-5C7D-4885-AE8D-052C7E4C8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4E463-842C-4C6D-87E4-97A40C2E6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63D46-F437-4F47-BEBD-228D74B09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84131-2A54-41EA-94F3-C11F936FD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9B744-04B6-488E-BD05-6728F0054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8D21D-7334-430D-9FCD-290F5C24D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B4FB8-C9FA-43CA-9672-AD2B105A4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22445-8E1F-4D4A-B626-782099BF2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CD2CC-DA26-4F59-A6A9-E56694E9B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9FDA2-8B78-4223-B925-D82997594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437E9-5C48-4751-BFED-6EE8A69D2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F4537-FE3E-40B4-9803-A2AA160E8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167B6-97C8-41A1-ABC1-F16B6271AA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79C51-0C0D-4FC7-B5E8-02EA6F985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558C1-EB52-475F-81A7-8AEB9FB5F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1BEDC-8075-47D1-BB2A-AD727B162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21A86-C370-41A3-8156-52CCCE2AB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C4E50-2627-4590-ADD0-A983A9C92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8B7F6-69F7-4127-8221-9F06F7745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C557B-8076-4C04-A418-91E46F078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CFE6C-72E5-4EA5-8499-758AAADCA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95360" y="1676160"/>
            <a:ext cx="81532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O HAS THESE HAIRDOS?       (THANKS MARGI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2705040" y="129528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669960" y="1371600"/>
            <a:ext cx="780408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NNIS  THE  MEN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2151000" y="1303200"/>
            <a:ext cx="4842000" cy="3687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DU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1"/>
          <a:stretch/>
        </p:blipFill>
        <p:spPr>
          <a:xfrm>
            <a:off x="3371760" y="1295280"/>
            <a:ext cx="2400480" cy="360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IRLEY  TE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2641680" y="1295280"/>
            <a:ext cx="386064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ZO  THE  CL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457200" y="1378080"/>
            <a:ext cx="8229600" cy="313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INCESS  LE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3016080" y="1295280"/>
            <a:ext cx="3111840" cy="364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MA  FLINTST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IE  NEL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3246480" y="1295280"/>
            <a:ext cx="265104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1290600" y="1295280"/>
            <a:ext cx="6562800" cy="351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2795760" y="1295280"/>
            <a:ext cx="355248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VIS  PRES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1866960" y="1295280"/>
            <a:ext cx="54100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R.  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"/>
          <p:cNvPicPr/>
          <p:nvPr/>
        </p:nvPicPr>
        <p:blipFill>
          <a:blip r:embed="rId1"/>
          <a:stretch/>
        </p:blipFill>
        <p:spPr>
          <a:xfrm>
            <a:off x="2687760" y="1257480"/>
            <a:ext cx="3768480" cy="350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3365640" y="1295280"/>
            <a:ext cx="2412720" cy="361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325600" y="1295280"/>
            <a:ext cx="4492800" cy="36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673200" y="1295280"/>
            <a:ext cx="77976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341440" y="1295280"/>
            <a:ext cx="4461120" cy="367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2400480" y="1295280"/>
            <a:ext cx="4343400" cy="36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3230640" y="1295280"/>
            <a:ext cx="268272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2471760" y="1371600"/>
            <a:ext cx="4200480" cy="350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12-26T18:09:11Z</dcterms:modified>
  <cp:revision>291</cp:revision>
  <dc:subject/>
  <dc:title>Slide 1</dc:title>
</cp:coreProperties>
</file>