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373A-D1B9-438A-B122-AD8B5EC0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F5C-8E01-464C-B069-255EC566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57B8-7230-4EB5-B26C-82A26699D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B0B-71A5-4964-A528-8170FF75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A6B5-9A52-4B85-AE80-CFB27700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A7B-4283-447B-B7A6-745B34BC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5C85-8069-4F9E-8265-F44953C9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4F64-6848-4A19-9BE6-E723E345F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7327-5FED-4C0A-BB04-E47C9675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73F5-BD9E-4A99-906D-BAEF0731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F6AD-4117-4FEC-83A6-B1B9073C2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6A6-F289-4204-85F6-586676E6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98B-B1FA-46CD-94C5-6F4F7A1B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7143-2910-42AF-B694-8947EB01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CD39-E05F-49D6-8330-7448E09C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27EE-49A7-428D-A4A2-1FEBB73BD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DBA6-8F6F-4E90-B1A3-7BF9224C1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1C3-D68F-4060-9E91-7E26199F7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7597-58C1-4894-8C30-137B29E0C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6CA-158B-42F0-895F-853998BA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BB1C-0510-48D5-9811-939009D07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44D5-4FE5-45D0-8E25-021D11EF7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188-CDA8-46BA-9C1F-008925B20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ATHLETES ON THESE WHEETIES BO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81400" y="1219320"/>
            <a:ext cx="258120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4648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JE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390840" y="1219320"/>
            <a:ext cx="2362320" cy="36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LOU  RE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309840" y="1219320"/>
            <a:ext cx="25243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254400" y="121932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81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235320" y="1219320"/>
            <a:ext cx="267336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JOYNER  KER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08320" y="1225440"/>
            <a:ext cx="272736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362400" y="1219320"/>
            <a:ext cx="2370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PAY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390840" y="1219320"/>
            <a:ext cx="236232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268800" y="1219320"/>
            <a:ext cx="26064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4520"/>
            <a:ext cx="8229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281400" y="1219320"/>
            <a:ext cx="25812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24648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09840" y="1219320"/>
            <a:ext cx="2524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54400" y="121932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35320" y="1219320"/>
            <a:ext cx="267336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8320" y="1225440"/>
            <a:ext cx="27273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362400" y="1219320"/>
            <a:ext cx="2370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6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68800" y="1219320"/>
            <a:ext cx="26064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2-07T13:07:19Z</dcterms:modified>
  <cp:revision>288</cp:revision>
  <dc:subject/>
  <dc:title>Slide 1</dc:title>
</cp:coreProperties>
</file>