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EDFB-73A0-4DB6-9E6F-52069C03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F0B-41E7-4A70-819E-DA5C51D0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7D6D-0839-4D42-A364-C2F631E73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761-DF8F-41E8-9801-F44A0003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3F2-3329-4151-B7FD-D70258C2B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1022-1E3C-4817-B568-63BEAB21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733-E3F9-4B38-BA63-72B8D7931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BB10-711E-4633-8595-09C3F690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C62E-5E07-4296-8026-76E00232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5DD-2AA8-4E99-9BC0-2F3260404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0E35-DE20-4E6D-8818-1B1C98975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CAD5-B47A-4AF5-B778-2BABA2E2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067E-42DD-46A2-B588-2A26AF79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87EF-22C2-42D3-AA14-9C10E1F1B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DB2B-1436-41B2-B832-511A478A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39E9-127B-485D-96C3-1CB387E1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EC1F-12D7-4EFF-B9B7-BB12ADCCC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734B-9F1E-42E9-9D0D-346C661C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7B14-DDAF-4133-9F5A-5612A83C5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D5A7-2793-4002-BC0C-7AAAA3AAC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3098-441D-4315-9E65-07A499375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26D0-1042-4D68-ACB9-305AF50E9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CCE9-A96A-4B09-9735-B9774E39F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ATHLETES ON THESE WHEETIES BOX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81400" y="1219320"/>
            <a:ext cx="258120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4648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J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90840" y="1219320"/>
            <a:ext cx="2362320" cy="366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LOU  RE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309840" y="1219320"/>
            <a:ext cx="25243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254400" y="121932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81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3235320" y="1219320"/>
            <a:ext cx="267336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JOYNER  KER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08320" y="1225440"/>
            <a:ext cx="272736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362400" y="1219320"/>
            <a:ext cx="2370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PAY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65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390840" y="1219320"/>
            <a:ext cx="23623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268800" y="1219320"/>
            <a:ext cx="2606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4520"/>
            <a:ext cx="82296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281400" y="1219320"/>
            <a:ext cx="2581200" cy="380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24648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09840" y="1219320"/>
            <a:ext cx="2524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254400" y="1219320"/>
            <a:ext cx="2635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35320" y="1219320"/>
            <a:ext cx="267336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08320" y="1225440"/>
            <a:ext cx="2727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362400" y="1219320"/>
            <a:ext cx="2370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65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68800" y="1219320"/>
            <a:ext cx="2606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2-07T13:07:19Z</dcterms:modified>
  <cp:revision>288</cp:revision>
  <dc:subject/>
  <dc:title>Slide 1</dc:title>
</cp:coreProperties>
</file>