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3BF3-81B9-435C-9EFA-35661C41A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A050-B3FF-46B4-92EC-DE1D4A168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DC2B-0030-420C-B3EC-E699C4264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3F58-D340-429E-8E08-95257410C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D217-EC7E-4783-BA5E-C92A0286B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E79B0-15D1-4FFB-A2F2-B5ECB5529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BCCE-6811-459E-8006-D55CF03EB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4C08-5BC4-47C0-A553-8874CB7EB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E2C56-4EED-436F-A7A6-C6DF5F37C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707D-C55B-4D14-979C-D498F4EA0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4EA3-923E-4665-B593-6F937C606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68D6-94C7-4EC7-B930-90A184F75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8419-535A-494A-B957-76A225F07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6D7D5-6327-42F4-A77F-EE3890304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0619-18A3-490C-8A99-1A3EB7180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2ECA-7970-428E-9D4B-2F41C50BD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29BF-72A3-4557-A3D2-17259E9EE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43D4-E76F-4E1C-91F0-C40F60928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F27E-F2FB-44F2-A089-8E14C5E72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9EE7-5144-458D-AD46-E506B5531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A14D-B882-495C-958F-436324670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A653-E695-4C68-9EA2-E7D1638CC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74CC-1663-473F-BEDD-CF3DA8A00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CRIMIN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2173320" y="1295280"/>
            <a:ext cx="479736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232000" y="1316160"/>
            <a:ext cx="4680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CAP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644920" y="1295280"/>
            <a:ext cx="3854160" cy="366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BU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798640" y="1295280"/>
            <a:ext cx="3546720" cy="36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E  J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406600" y="1295280"/>
            <a:ext cx="43308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28600" y="498168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KACZYNSKI  (THE  UNABOMB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901960" y="1295280"/>
            <a:ext cx="3338640" cy="361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REY  DAH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216080" y="1295280"/>
            <a:ext cx="6711840" cy="358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OTHY  MCVE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137040" y="1295280"/>
            <a:ext cx="2869920" cy="370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BONNEY  (BILLY  THE  KI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827440" y="1295280"/>
            <a:ext cx="3489120" cy="359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644920" y="1295280"/>
            <a:ext cx="385416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0" y="50292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NIE (PARKER) &amp; CLYDE (BARROW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2282760" y="1295280"/>
            <a:ext cx="4578480" cy="36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76320" y="5029200"/>
            <a:ext cx="8991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QUIN GUZMAN LOERA (EL CHAP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173320" y="1295280"/>
            <a:ext cx="479736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MA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232000" y="1316160"/>
            <a:ext cx="46800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798640" y="1295280"/>
            <a:ext cx="3546720" cy="36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406600" y="1295280"/>
            <a:ext cx="43308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901960" y="1295280"/>
            <a:ext cx="3338640" cy="36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216080" y="1295280"/>
            <a:ext cx="6711840" cy="35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137040" y="1295280"/>
            <a:ext cx="2869920" cy="37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827440" y="1295280"/>
            <a:ext cx="3489120" cy="35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282760" y="1295280"/>
            <a:ext cx="4578480" cy="368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04-26T16:03:31Z</dcterms:modified>
  <cp:revision>290</cp:revision>
  <dc:subject/>
  <dc:title>Slide 1</dc:title>
</cp:coreProperties>
</file>