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7832-E058-4BA8-9CBE-FE866B3B8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4D97-0D55-4C44-949D-98130D3F7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6FFB-4818-4CC9-BAE3-669B63A3B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051F-0136-494C-A37B-566F621BC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38A9-0CAA-404D-B70F-86A3E3F39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45C6-0DF2-483B-9C73-69DEA2DDD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0F1C-3D58-46BD-A60A-4814795AC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8D8C-3325-4CA1-BB66-CA147BB3A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239B-D1C9-449D-98B9-4C05CCDB3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4972-ED33-41CC-8BD6-359437385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F97D-D8AA-49E5-BBDE-115E29CDD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31E9-9346-4226-B4CD-58CF0EB9F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B438-BBF1-451D-8C17-9015E8D22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CD8E-F6A2-440E-8453-CAC2BA1B5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9540-E4CB-445E-8661-17D540C0B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5FE8-8775-4F47-82EB-E2DB5031A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4BD0-1164-44D8-A937-3FE85B32B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F0F1-133C-48F0-879E-8E0F8E787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4950-867F-4D2D-B179-0F7BDA9DE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32D6-59CD-4181-B0B3-C15659CA7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6E98-8F2F-46B8-B27C-137CD76A2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7E95-E099-402E-917F-A8C854F26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C9EA-B9E9-4DE7-93F0-FEA65C083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FAMOUS CRIMIN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2173320" y="1295280"/>
            <a:ext cx="479736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232000" y="1316160"/>
            <a:ext cx="46800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  CAP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644920" y="1295280"/>
            <a:ext cx="3854160" cy="366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D  BUN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798640" y="1295280"/>
            <a:ext cx="3546720" cy="361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SSE  J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406600" y="1295280"/>
            <a:ext cx="43308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28600" y="498168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D  KACZYNSKI  (THE  UNABOMB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901960" y="1295280"/>
            <a:ext cx="3338640" cy="361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FFREY  DAH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1216080" y="1295280"/>
            <a:ext cx="6711840" cy="358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OTHY  MCVEI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3137040" y="1295280"/>
            <a:ext cx="2869920" cy="370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BONNEY  (BILLY  THE  KI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827440" y="1295280"/>
            <a:ext cx="3489120" cy="359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644920" y="1295280"/>
            <a:ext cx="3854160" cy="36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0" y="50292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NNIE (PARKER) &amp; CLYDE (BARRO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2282760" y="1295280"/>
            <a:ext cx="4578480" cy="36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76320" y="5029200"/>
            <a:ext cx="8991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AQUIN GUZMAN LOERA (EL CHAP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173320" y="1295280"/>
            <a:ext cx="4797360" cy="356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S  MA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232000" y="1316160"/>
            <a:ext cx="46800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798640" y="1295280"/>
            <a:ext cx="3546720" cy="361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406600" y="1295280"/>
            <a:ext cx="43308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901960" y="1295280"/>
            <a:ext cx="3338640" cy="36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216080" y="1295280"/>
            <a:ext cx="6711840" cy="35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137040" y="1295280"/>
            <a:ext cx="2869920" cy="370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827440" y="1295280"/>
            <a:ext cx="3489120" cy="359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282760" y="1295280"/>
            <a:ext cx="4578480" cy="3681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1-04-26T16:03:31Z</dcterms:modified>
  <cp:revision>290</cp:revision>
  <dc:subject/>
  <dc:title>Slide 1</dc:title>
</cp:coreProperties>
</file>