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A787-617F-4F67-8440-B8B711000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BE36-FA1A-43AA-8EB7-23E97CDE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BB93-9E16-4A3E-9379-51B5BA838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7082-9C21-47CB-A0D7-485188DD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2DBE-CA47-407E-B7A7-1665C0A0F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20A0-16A2-44E7-BB48-6CF4C74D8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A6F0-661F-4BB3-911E-811C5010C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DDA3-5714-4072-867A-FA54E5C9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1DB5-0A18-4FB0-B69C-7567A8C7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C5BA-63C6-4E42-A46E-683F3B02A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6F72-1D04-4A35-B2AC-127F227B4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24E2-0939-4865-8E76-641BD5CC1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FEB6-0340-43E1-A177-8F9688A4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9014-A6DE-4813-8E69-D56E3CEA0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640B-EF0A-42CB-847B-760E2E8B6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F68E-AE2C-4102-B11F-5DBAB3E49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A628-DCF8-457C-B136-CB1B4523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A9C4-B02D-476D-9B87-9A3235A5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CF48-1AF3-4D93-95D7-5C1E0157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6DBB-DEF2-4792-9422-FF12EAB45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C6DA-9821-4764-B3C6-ADDA54276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CE1A-53D9-4AFF-A84B-C19E6F8E7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0D6C-25EB-447E-954D-37C77165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W YORK YANK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      AS "MR. OCTOBER" HIT 3 CONSECUTIVE HOME RUNS IN THE LAST GAME OF THE 1977 WORLD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04840" y="762120"/>
            <a:ext cx="87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HELD THE RECORD FOR HOME RUNS IN     A SEASON (61) FOR 37 YEARS, AND STILL HOLDS THAT RECORD FOR THE AMERICAN LEA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6840" y="762120"/>
            <a:ext cx="8410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BAMBINO" STILL HOLDS THE MLB RECORDS FOR SLUGGING PERCENTAGE (.690) AND BASES ON BALLS (206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GEHR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IRON HORSE" PLAYED 2130 CONSECUTIVE GAMES, A RECORD ONLY BROKEN 56 YEARS L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MA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79440" y="762120"/>
            <a:ext cx="838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COMMERCE COMET" HOLDS THE WORLD SERIES RECORDS FOR HOME RUNS, RUNS, RBI'S, WALKS, AND TOTAL B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DIMAGG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32040" y="762120"/>
            <a:ext cx="727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YANKEE CLIPPER" STILL HOLDS THE RECORD FOR CONSECUTIVE GAMES WITH A HIT (5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REK  J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8840" y="762120"/>
            <a:ext cx="8626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-2014 YANKEE KNOWN AS "MR. NOVEMBER" HOLDS THE RECORD FOR MOST HITS OF ANY SHORTST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0040" y="762120"/>
            <a:ext cx="814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FOR HIS MALAPROPISMS APPEARED  IN MORE WORLD SERIES (22) THAN ANY OTHER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NO  RIV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5520" y="762120"/>
            <a:ext cx="8832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YANKEES 1995-2013 HAS THE LOWEST CAREER ERA OF ANY PITCHER IN THE LAST CENTUR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60360" y="762120"/>
            <a:ext cx="842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BAMBINO" STILL HOLDS THE MLB RECORDS FOR SLUGGING PERCENTAGE (.690) AND BASES ON BALLS (2062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400" y="762120"/>
            <a:ext cx="895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A-ROD" HOLDS THE CAREER RECORD FOR GRAND SLAMS (2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GIE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52480" y="762120"/>
            <a:ext cx="7439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      AS "MR. OCTOBER" HIT 3 CONSECUTIVE HOME RUNS IN THE LAST GAME OF THE 1977 WORLD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92240" y="762120"/>
            <a:ext cx="8759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HELD THE RECORD FOR HOME RUNS IN     A SEASON (61) FOR 37 YEARS, AND STILL HOLDS THAT RECORD FOR THE AMERICAN LEA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920" y="761760"/>
            <a:ext cx="749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IRON HORSE" PLAYED 2130 CONSECUTIVE GAMES, A RECORD ONLY BROKEN 56 YEARS L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4360" y="762120"/>
            <a:ext cx="831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COMMERCE COMET" HOLDS THE WORLD SERIES RECORDS FOR HOME RUNS, RUNS, RBI'S, WALKS, AND TOTAL BA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22320" y="762120"/>
            <a:ext cx="729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THE YANKEE CLIPPER" STILL HOLDS THE RECORD FOR CONSECUTIVE GAMES WITH A HIT (5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-2014 YANKEE KNOWN AS "MR. NOVEMBER" HOLDS THE RECORD FOR MOST HITS OF ANY SHORTST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7360" y="761760"/>
            <a:ext cx="836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FOR HIS MALAPROPISMS APPEARED   IN MORE WORLD SERIES (22) THAN ANY OTHER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YANKEES 1995-2013 HAS THE LOWEST CAREER ERA OF ANY PITCHER IN THE LAST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000" y="761760"/>
            <a:ext cx="898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ANKEE KNOWN AS "A-ROD" HOLDS THE CAREER RECORD FOR GRAND SLAMS (2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04-26T16:43:48Z</dcterms:modified>
  <cp:revision>395</cp:revision>
  <dc:subject/>
  <dc:title>Slide 1</dc:title>
</cp:coreProperties>
</file>