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2AC7-7762-4F9C-BFA0-D0F129EF2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F529-FDCB-4D7D-93DC-64270642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63FB-5E2A-4725-94AD-A515C96E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C470-9D30-49B1-82C9-B47C58DB3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BA9F-3C20-47E3-B1F8-9B99204F1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DFF2-AB05-4B85-ADC2-A1BD4E9ED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35C8-7645-4D77-B871-96967A33F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196E-B1DB-4C41-BAD7-627F7875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BEC5-202C-4DBA-B172-DDD36302E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A28E-1F83-4EC1-9030-3882090CD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7DBA-AB1F-494B-90F5-58DC1FC1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2A0B-FAF2-47B1-9767-78E639FE8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AB33-5331-48F1-B3BE-92B651A2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4B69-8D55-4BB7-A2F9-787831FBC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750D-877C-4E5C-80EF-1CD8FCDBA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E3F-AD55-41CA-B320-3720C9CD3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6F4A-BB4F-4F7F-8F15-5F631C44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944F-8494-4442-A1CF-D819C476E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6936-F4CF-4711-A5D8-0CA39B48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8699-AE1D-481C-929A-1881BC01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0CF7-6C58-449D-B1E8-CBCAAFB92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3CDD-6809-42E1-8240-0720F84F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7829-01DA-4DF1-B2B8-D9CFC6113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YORK YANK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      AS "MR. OCTOBER" HIT 3 CONSECUTIVE HOME RUNS IN THE LAST GAME OF THE 1977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04840" y="762120"/>
            <a:ext cx="87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HELD THE RECORD FOR HOME RUNS IN     A SEASON (61) FOR 37 YEARS, AND STILL HOLDS THAT RECORD FOR THE AMERICAN LEA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6840" y="762120"/>
            <a:ext cx="8410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BAMBINO" STILL HOLDS THE MLB RECORDS FOR SLUGGING PERCENTAGE (.690) AND BASES ON BALLS (206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GEHR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IRON HORSE" PLAYED 2130 CONSECUTIVE GAMES, A RECORD ONLY BROKEN 56 YEARS L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MA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79440" y="762120"/>
            <a:ext cx="838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COMMERCE COMET" HOLDS THE WORLD SERIES RECORDS FOR HOME RUNS, RUNS, RBI'S, WALKS, AND TOTAL B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DIMA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2040" y="762120"/>
            <a:ext cx="727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YANKEE CLIPPER" STILL HOLDS THE RECORD FOR CONSECUTIVE GAMES WITH A HIT (5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REK  J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8840" y="762120"/>
            <a:ext cx="8626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-2014 YANKEE KNOWN AS "MR. NOVEMBER" HOLDS THE RECORD FOR MOST HITS OF ANY SHORTST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0040" y="762120"/>
            <a:ext cx="814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FOR HIS MALAPROPISMS APPEARED  IN MORE WORLD SERIES (22) THAN ANY OTHER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NO  RIV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5520" y="762120"/>
            <a:ext cx="883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YANKEES 1995-2013 HAS THE LOWEST CAREER ERA OF ANY PITCHER IN THE LAST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60360" y="762120"/>
            <a:ext cx="842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BAMBINO" STILL HOLDS THE MLB RECORDS FOR SLUGGING PERCENTAGE (.690) AND BASES ON BALLS (2062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400" y="762120"/>
            <a:ext cx="895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A-ROD" HOLDS THE CAREER RECORD FOR GRAND SLAMS (2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GIE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52480" y="762120"/>
            <a:ext cx="7439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      AS "MR. OCTOBER" HIT 3 CONSECUTIVE HOME RUNS IN THE LAST GAME OF THE 1977 WORLD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92240" y="762120"/>
            <a:ext cx="87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HELD THE RECORD FOR HOME RUNS IN     A SEASON (61) FOR 37 YEARS, AND STILL HOLDS THAT RECORD FOR THE AMERICAN LEA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920" y="761760"/>
            <a:ext cx="749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IRON HORSE" PLAYED 2130 CONSECUTIVE GAMES, A RECORD ONLY BROKEN 56 YEARS L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4360" y="762120"/>
            <a:ext cx="831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COMMERCE COMET" HOLDS THE WORLD SERIES RECORDS FOR HOME RUNS, RUNS, RBI'S, WALKS, AND TOTAL B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22320" y="762120"/>
            <a:ext cx="729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YANKEE CLIPPER" STILL HOLDS THE RECORD FOR CONSECUTIVE GAMES WITH A HIT (5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-2014 YANKEE KNOWN AS "MR. NOVEMBER" HOLDS THE RECORD FOR MOST HITS OF ANY SHORTST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7360" y="761760"/>
            <a:ext cx="836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FOR HIS MALAPROPISMS APPEARED   IN MORE WORLD SERIES (22) THAN ANY OTHER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YANKEES 1995-2013 HAS THE LOWEST CAREER ERA OF ANY PITCHER IN THE LAST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000" y="761760"/>
            <a:ext cx="898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A-ROD" HOLDS THE CAREER RECORD FOR GRAND SLAMS (2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4-26T16:43:48Z</dcterms:modified>
  <cp:revision>395</cp:revision>
  <dc:subject/>
  <dc:title>Slide 1</dc:title>
</cp:coreProperties>
</file>